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B83-4EA8-4EC9-B2A3-779C99B4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8F7-8B4B-4731-9B1E-115D9694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E2B-9C2B-4FDD-9A5B-85BE20AE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31A-A574-4C13-97FD-27153BB1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05B-004C-4B7D-B4A4-B5A31E0E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17F-96ED-4800-AD1D-4E07D9D0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D1F-13A4-4256-BB37-EB263D9E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FD9-ADCD-4AA6-AEC8-371B213C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746-236D-476C-80FE-8E5DEE0F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1D9-CFAC-4DC4-93C3-0F156CB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0EE-989F-4484-9608-C538341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31E-D270-4B76-9F02-707BADC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ED9-CDBD-4CCC-B9FA-1C71E5F1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CAD/CAM/PDM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5400" y="5943600"/>
            <a:ext cx="65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and all Java-based trademarks and logos are trademarks or registered trademark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n Microsystems, Inc. in the United States and other countri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DAI is a trademark of LKSoftWare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560" y="4267080"/>
            <a:ext cx="34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har Kle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KSoftWare Gm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lk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sdai_logo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966960"/>
          </a:xfrm>
          <a:prstGeom prst="rect">
            <a:avLst/>
          </a:prstGeom>
          <a:ln w="0">
            <a:noFill/>
          </a:ln>
        </p:spPr>
      </p:pic>
      <p:pic>
        <p:nvPicPr>
          <p:cNvPr id="45" name="LKSoftLogo1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2286000" cy="85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4840" y="339732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ynergy of STEP and Jav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Data Storage and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e by file, stream or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-I (part12, outd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Text Encoding - "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ysical F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 - part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8 (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, e.g. J-SDAI binary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access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or object oriented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0FF-C6DB-4ED2-9129-A369A96F3D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Access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aggregates are RO. See the special operations to modify them. Exception when creat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, ASchemaInst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, AEntityExt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Exac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in the special "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temReposi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repository containing dictionary and mapping data is read-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in application data is RW if RW-transaction and RW model access is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gregates are always 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E5D-7649-478B-BAA7-AB451D40C68C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76320" y="1185840"/>
          <a:ext cx="899136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5840"/>
                    <a:ext cx="899136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General and B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684-F684-4E98-8429-F280109BF237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Reading and Writing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1092240"/>
          <a:ext cx="8991720" cy="41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92240"/>
                    <a:ext cx="8991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65C-DD10-4855-8943-DF124F6418E4}" type="slidenum">
              <a:t>10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add, remove, create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925560"/>
          <a:ext cx="8839440" cy="50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25560"/>
                    <a:ext cx="88394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1B0-78B0-44DB-97B0-E426C172B826}" type="slidenum">
              <a:t>10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spe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1741320"/>
          <a:ext cx="891540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89154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006-1331-4E6A-8B7B-5F82C6304A89}" type="slidenum">
              <a:t>10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where to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chemaIn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: attribute.name,  {...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: =, &lt;=, =&gt;, &lt;, &gt;, :=:, :&lt;&gt;:, IN, LIK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r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dded to AEntity, return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mplemented in J-SDAI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DB9-392E-48E6-AC8C-E162266BA88A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 / Export of ISO 10303-2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ear Text Encoding of the Exchan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Corrigendum (TC1) fix select bu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ment extends for multiple data s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part21 and SDAI are not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te Java Binding defines a mapping based on SdaiRepository. A mapping to SchemaInstance would also be a good altern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is more powerful. Import is always possible but export is restricted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schema_instance (domain, val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into other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C2C-3CDF-4A23-A750-840F089F1398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between part21 and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280" y="24256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Exchange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642-4275-4366-A65B-D4A92AD9CB3E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81612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descri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: LIST [1:?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_level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"2.1" or "3.1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_stamp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: LIST 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: LIST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_vers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preProcessor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ing_system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iginating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76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023-B32E-4B42-B7AC-DF04BCC4362A}" type="slidenum">
              <a:t>1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1066680"/>
            <a:ext cx="8839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Authorizatio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Authorizat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Auth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Descrip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Organiza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Originating_syste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Originating_system(java.lang.String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 getPreprocessor_vers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Preprocessor_vers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ShortNames(), allowShortName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985-3F3A-4E42-B4C9-5532E736D44B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STEP Da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does not reflect the EXPRESS structure. For data exchange information is mapped during export/import -&gt;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fits with with the EXPRESS structure. Entity instances and aggregates are represented as objects -&gt; information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directly based o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 conform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similar, but not conform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18C-50F3-4F44-B248-95855837C0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30280" y="990720"/>
            <a:ext cx="7686720" cy="2928600"/>
            <a:chOff x="530280" y="990720"/>
            <a:chExt cx="7686720" cy="2928600"/>
          </a:xfrm>
        </p:grpSpPr>
        <p:graphicFrame>
          <p:nvGraphicFramePr>
            <p:cNvPr id="737" name=""/>
            <p:cNvGraphicFramePr/>
            <p:nvPr/>
          </p:nvGraphicFramePr>
          <p:xfrm>
            <a:off x="1143000" y="1295280"/>
            <a:ext cx="7074000" cy="110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295280"/>
                      <a:ext cx="7074000" cy="11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"/>
            <p:cNvSpPr/>
            <p:nvPr/>
          </p:nvSpPr>
          <p:spPr>
            <a:xfrm>
              <a:off x="1068120" y="2362320"/>
              <a:ext cx="615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0=SCHEMA_DEFINITION('test_schema',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0=ENTITY_DEFINITION('A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0=ENTITY_DEFINITION('B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0=ATTRIBUTE('x', ..., #3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0280" y="99072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a model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01560" y="4038480"/>
            <a:ext cx="6027840" cy="2044800"/>
            <a:chOff x="601560" y="4038480"/>
            <a:chExt cx="6027840" cy="2044800"/>
          </a:xfrm>
        </p:grpSpPr>
        <p:graphicFrame>
          <p:nvGraphicFramePr>
            <p:cNvPr id="742" name=""/>
            <p:cNvGraphicFramePr/>
            <p:nvPr/>
          </p:nvGraphicFramePr>
          <p:xfrm>
            <a:off x="2362320" y="4343400"/>
            <a:ext cx="426708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4343400"/>
                      <a:ext cx="426708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"/>
            <p:cNvSpPr/>
            <p:nvPr/>
          </p:nvSpPr>
          <p:spPr>
            <a:xfrm>
              <a:off x="601560" y="4038480"/>
              <a:ext cx="542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model (test_schema)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44080" y="5257800"/>
              <a:ext cx="175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80=A( 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90=B(#80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2CD-A4C9-4A33-8AA2-0D4ACC259F03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Meta model of the EXPRESS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representation of EXPRESS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data itself can be represented as a population of the SDAI_dictionary_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kernel part of J-SDAI in pack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and attribut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-SDAI  the SDAI_dictionary_schema is slightly modified for explicit support of short form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schema will probably be substituted by a unified Semantic Meta Model for EXPRESS when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475-8E15-4A58-BD20-3B0B513B36E5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rig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380880" y="1219320"/>
          <a:ext cx="853452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53452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289080" y="5029200"/>
            <a:ext cx="84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_definitions cannot be explicitly interfaced into other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B11-075E-4013-8AE3-1A2FB6664C0E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Mod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228600" y="1025640"/>
          <a:ext cx="86868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5640"/>
                    <a:ext cx="86868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D28-E1F3-403C-A790-3EECAA375450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533520" y="914400"/>
          <a:ext cx="80769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769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E71-9740-4B18-9648-B8AADB4704A5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685800" y="101520"/>
          <a:ext cx="7953480" cy="60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1520"/>
                    <a:ext cx="795348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B18-9129-4ECE-B40F-26AA8DD7BAFA}" type="slidenum">
              <a:t>1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228600" y="380880"/>
          <a:ext cx="876312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76312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22F-0A4B-441E-AB2D-0D06790DBAC1}" type="slidenum">
              <a:t>1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762120" y="304920"/>
          <a:ext cx="761976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1976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ED8-0B36-448A-844A-6AB1008F8328}" type="slidenum">
              <a:t>1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838080" y="0"/>
          <a:ext cx="7543800" cy="61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543800" cy="61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B79-F25C-4511-A556-84295E59EF39}" type="slidenum">
              <a:t>1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1066680" y="987480"/>
          <a:ext cx="72392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87480"/>
                    <a:ext cx="72392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C62-907C-443F-BAB8-59C1F13EAE26}" type="slidenum">
              <a:t>1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0"/>
            <a:endCxn id="66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1" name=""/>
          <p:cNvCxnSpPr>
            <a:stCxn id="69" idx="0"/>
            <a:endCxn id="67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2" name=""/>
          <p:cNvCxnSpPr>
            <a:stCxn id="69" idx="1"/>
            <a:endCxn id="68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3" name=""/>
          <p:cNvCxnSpPr>
            <a:stCxn id="67" idx="1"/>
            <a:endCxn id="66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C5A-1D61-433F-8F57-291B9837231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Summ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fulfills the primary needs of SDAI (late bi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"declaration" entities allows full short form support, needed for interoperable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sub-super type constrai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atible to E-Amend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lacks modeling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, statements, constants and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he body of functions an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ting of entity data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ypes should be represented as constant instances, not as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764-D945-4607-8E88-B3B6A877695D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097680" y="335268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5160" y="327672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3886200"/>
            <a:ext cx="2514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33066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2514600" cy="1676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7840" y="2787480"/>
            <a:ext cx="264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AI, part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2057400"/>
            <a:ext cx="7696440" cy="342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1812960"/>
            <a:ext cx="6546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Extension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91440" y="38289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80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STEP Application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8E7-8D59-4964-B146-A28787C92A56}" type="slidenum">
              <a:t>1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Schema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Operations, Hi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pping extensions of the SDAI_dictionary_schema and associated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6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for the next version of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perations for the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ARM &lt;=&gt; EPIS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EPIS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B90-7AB5-41A7-8808-336E389F4A1B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4" idx="0"/>
            <a:endCxn id="782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7" name=""/>
          <p:cNvCxnSpPr>
            <a:stCxn id="785" idx="0"/>
            <a:endCxn id="783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8" name=""/>
          <p:cNvCxnSpPr>
            <a:stCxn id="785" idx="1"/>
            <a:endCxn id="784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89" name=""/>
          <p:cNvCxnSpPr>
            <a:stCxn id="783" idx="1"/>
            <a:endCxn id="782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90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DD2-633F-4168-826D-EB2F61918828}" type="slidenum">
              <a:t>1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143000" y="14479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943600" y="160020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3000" y="464832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801" idx="0"/>
            <a:endCxn id="799" idx="2"/>
          </p:cNvCxnSpPr>
          <p:nvPr/>
        </p:nvCxnSpPr>
        <p:spPr>
          <a:xfrm flipV="1">
            <a:off x="2133360" y="2819160"/>
            <a:ext cx="108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4" name=""/>
          <p:cNvCxnSpPr>
            <a:stCxn id="802" idx="0"/>
            <a:endCxn id="800" idx="2"/>
          </p:cNvCxnSpPr>
          <p:nvPr/>
        </p:nvCxnSpPr>
        <p:spPr>
          <a:xfrm flipV="1">
            <a:off x="6933960" y="2666520"/>
            <a:ext cx="1080" cy="20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5" name=""/>
          <p:cNvCxnSpPr>
            <a:stCxn id="802" idx="1"/>
            <a:endCxn id="801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06" name=""/>
          <p:cNvCxnSpPr>
            <a:stCxn id="800" idx="1"/>
            <a:endCxn id="799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07" name=""/>
          <p:cNvSpPr/>
          <p:nvPr/>
        </p:nvSpPr>
        <p:spPr>
          <a:xfrm>
            <a:off x="6323760" y="1752480"/>
            <a:ext cx="13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81160" y="144792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63080" y="480060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EF3-5047-4A44-A0AA-3E54542FB67C}" type="slidenum">
              <a:t>1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1430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436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30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436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7" idx="0"/>
            <a:endCxn id="815" idx="2"/>
          </p:cNvCxnSpPr>
          <p:nvPr/>
        </p:nvCxnSpPr>
        <p:spPr>
          <a:xfrm flipV="1">
            <a:off x="21333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0" name=""/>
          <p:cNvCxnSpPr>
            <a:stCxn id="818" idx="0"/>
            <a:endCxn id="816" idx="2"/>
          </p:cNvCxnSpPr>
          <p:nvPr/>
        </p:nvCxnSpPr>
        <p:spPr>
          <a:xfrm flipV="1">
            <a:off x="69339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1" name=""/>
          <p:cNvCxnSpPr>
            <a:stCxn id="818" idx="1"/>
            <a:endCxn id="817" idx="3"/>
          </p:cNvCxnSpPr>
          <p:nvPr/>
        </p:nvCxnSpPr>
        <p:spPr>
          <a:xfrm rot="10800000">
            <a:off x="3123360" y="502848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22" name=""/>
          <p:cNvCxnSpPr>
            <a:stCxn id="816" idx="1"/>
            <a:endCxn id="815" idx="3"/>
          </p:cNvCxnSpPr>
          <p:nvPr/>
        </p:nvCxnSpPr>
        <p:spPr>
          <a:xfrm rot="10800000">
            <a:off x="3123360" y="19803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23" name=""/>
          <p:cNvSpPr/>
          <p:nvPr/>
        </p:nvSpPr>
        <p:spPr>
          <a:xfrm>
            <a:off x="6039720" y="1600200"/>
            <a:ext cx="18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 (X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81160" y="162864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_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76760" y="4800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3080" y="464832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4000" y="46483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55040" y="51055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3280" y="16002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16800" y="205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85920" y="21276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926840" y="152280"/>
            <a:ext cx="9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SC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47320" y="1568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76320"/>
            <a:ext cx="2133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2742840" y="9140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133720" y="990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371240" y="914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200040" y="533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81440" y="1052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20400" y="1052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5320" y="9907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9243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79246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3360" y="304812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+ 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4760" y="20257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72400" y="24382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3200" y="3124080"/>
            <a:ext cx="14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ML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91440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1840" y="2590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268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34040" y="586728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&lt;=&gt; AIM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52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27F-E01E-447A-8F5B-79697A1F299E}" type="slidenum">
              <a:t>1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0" y="996840"/>
          <a:ext cx="914400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1440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F0D-7E07-4A19-A943-6CD8AE5DD1F7}" type="slidenum">
              <a:t>1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6" name=""/>
          <p:cNvGraphicFramePr/>
          <p:nvPr/>
        </p:nvGraphicFramePr>
        <p:xfrm>
          <a:off x="609480" y="-44280"/>
          <a:ext cx="8305920" cy="63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44280"/>
                    <a:ext cx="83059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A7B-005F-4BBA-B9EF-D5B9CE2BCF10}" type="slidenum">
              <a:t>1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8" name=""/>
          <p:cNvGraphicFramePr/>
          <p:nvPr/>
        </p:nvGraphicFramePr>
        <p:xfrm>
          <a:off x="1447920" y="457200"/>
          <a:ext cx="632448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632448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16C-F9D8-448E-8E29-673A9F4E21BC}" type="slidenum">
              <a:t>1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 to work on AIM instances with ARM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dictionary data for ARM, AIM and mapping data =&gt; late-bin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arly binding also possible, but many classes and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oper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nstances which fits to a give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if instance fits to a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ARM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R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IM instances for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/unset ARM attribute values on AIM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methods are defined in SdaiModel and 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D15-B644-4212-B7FB-88823421E1F8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DAI, ISO 10303-2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lic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face (API) for STEP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Language binding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(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(to be 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Ja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 10303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C87-DFC9-4500-BF0B-C3017B197C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of all constraints in the reference pa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ignore the reference path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higher level API on top of the lower level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need to know only column 1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2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M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imited to the quality of the Mapping T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d-operations (AIM to ARM) 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utions, either 0, 1 or many. Often not only on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are needed to cover Conformance Classes and top - entities from where to start searching; e.g. product_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3FA-4309-4006-B276-61BBABC8BD91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or testing and accessing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rmAttribute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ata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mapping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_mapping attAlternative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testSource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ttAlternatives != null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Mapped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DF0-F548-4FF5-96F3-74009571B141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Limi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stores the persistent information of repositories and models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 closed repository is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n in-active SdaiModel (no RO/RW access) is also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pening a repository its models and SchemaInstances are loaded into 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ctivating a model in RO or RW access mode its entity instances are loaded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9A8-D7C3-4C38-9BD1-E2EA73E6538D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ailable RAM limits the number of available entity instances at a time. Consequences for practical 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make SdaiModels too big. Several of them should always fit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-active models when not needed (end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, don't keep pointers to objects you don't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m to null when no longer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data fields in classes - define as many fields as possible in methods (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6EF-AA2D-4D16-A42F-C874942B7345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28 MByte machine can typically handle 250,000 entity instances or m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sufficient for many applications. The problem is more that the STEP-APs and IRs give no guidance how to use SdaiModels (devide and conqu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n A-BREP into on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1D6-DB78-4190-B41A-D6758C81AB8C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may want to be informed if an SDAI object is changed either through local activities or from remot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classes implementing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end out Sdai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lasses implemen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receive SdaiEvents when having registered 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liste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055-59B7-499F-85B7-AE74C7574870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(J-SDAI 2.0)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asis for all application and dictionary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uture versions we plan to hav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in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hema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7F6-0E39-4C0E-A89A-1142A5098631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these mod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_MOD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_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EBER_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_DATA_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daiEvent types may be considered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Event and SdaiListener define an information system on pur SDAI basis - it is on persistend data. It can be a replacement for other Java APIs such as InfoBus for this specific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878-1F9B-4885-B704-ACCAA5DE07EB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possible part27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loading of only the needed entity instances from disk/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unlimited number of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cannot know which data will be needed. Therefor entity instances are only loaded on request, e.g.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 This will significantly sl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like SdaiModel.getInstances or EntityExtent.getInstances are not useful. How to start initially (-&gt; qu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get Attribute access if is checked if this instance is already loa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409-52ED-4AE8-B0A2-227F8FE0FF18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473400" y="685800"/>
            <a:ext cx="76651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 supports modular data modeling by interfacing elements from other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a local one. Elements are interfaced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hen used by explicitly interfaced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in the context of a schema only locally declared entities or entities interfa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USE FROM can be individually instantiated. Instances of entities which are interfa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ther implicitly or with REFERENCE FROM are only allowed if they are refer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locally defined or USE FROM entity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ay STEP consists of 66 schemas in the Integrated Resources (IR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Interpreted Construct (AIC). While the IR schemas interfaces element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IRs with REFERENCE FROM the AIC do this with USE FR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ry Application protocols (AP) have a short form and a long form sche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hort form schema interfaces elements from  the integrated and interpre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mas with USE FROM. In the long form schema all interfaced elements are resolv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global schema. So far STEP implementations are based o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-form schem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-interoper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based programm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b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age of the AP short form is essentia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0640" y="90360"/>
            <a:ext cx="75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RESS support for Modularization and it’s usage in STEP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74F-563D-4F38-A215-F10A8C1E4D85}" type="slidenum">
              <a:t>1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va programming language binding to the SDA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Internet/Intranet ex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published as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hnic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fications (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lit into 2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 10303-27: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 10303-29: lightweight + EJ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488-329A-47D7-9026-AF7A59EFD0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921200" y="7632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21200" y="68580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21200" y="12952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21200" y="190512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21200" y="25146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1200" y="31240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21200" y="43434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21200" y="4952880"/>
            <a:ext cx="3565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1200" y="58672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21200" y="76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7400" y="763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_context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97520" y="700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1200" y="1309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21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21200" y="2529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97520" y="3138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_definition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20120" y="43434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brep_shape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21200" y="58053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48480" y="1295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4240" y="252900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7760" y="31384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representa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0640" y="4281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 5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1000" y="4800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5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48120" y="5408640"/>
            <a:ext cx="25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olog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_model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"/>
          <p:cNvCxnSpPr>
            <a:stCxn id="882" idx="2"/>
            <a:endCxn id="883" idx="0"/>
          </p:cNvCxnSpPr>
          <p:nvPr/>
        </p:nvCxnSpPr>
        <p:spPr>
          <a:xfrm flipV="1" rot="10800000">
            <a:off x="6703200" y="47124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7" name=""/>
          <p:cNvCxnSpPr>
            <a:stCxn id="883" idx="2"/>
            <a:endCxn id="884" idx="0"/>
          </p:cNvCxnSpPr>
          <p:nvPr/>
        </p:nvCxnSpPr>
        <p:spPr>
          <a:xfrm flipV="1" rot="10800000">
            <a:off x="6703200" y="108072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8" name=""/>
          <p:cNvCxnSpPr>
            <a:stCxn id="885" idx="0"/>
            <a:endCxn id="884" idx="2"/>
          </p:cNvCxnSpPr>
          <p:nvPr/>
        </p:nvCxnSpPr>
        <p:spPr>
          <a:xfrm flipV="1">
            <a:off x="6703560" y="16758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09" name=""/>
          <p:cNvCxnSpPr>
            <a:stCxn id="885" idx="2"/>
            <a:endCxn id="886" idx="0"/>
          </p:cNvCxnSpPr>
          <p:nvPr/>
        </p:nvCxnSpPr>
        <p:spPr>
          <a:xfrm flipV="1" rot="10800000">
            <a:off x="6703200" y="228564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0" name=""/>
          <p:cNvCxnSpPr>
            <a:stCxn id="886" idx="2"/>
            <a:endCxn id="887" idx="0"/>
          </p:cNvCxnSpPr>
          <p:nvPr/>
        </p:nvCxnSpPr>
        <p:spPr>
          <a:xfrm flipV="1" rot="10800000">
            <a:off x="6703200" y="28951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1" name=""/>
          <p:cNvCxnSpPr>
            <a:stCxn id="888" idx="2"/>
            <a:endCxn id="889" idx="0"/>
          </p:cNvCxnSpPr>
          <p:nvPr/>
        </p:nvCxnSpPr>
        <p:spPr>
          <a:xfrm>
            <a:off x="6703560" y="4723920"/>
            <a:ext cx="1080" cy="229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912" name=""/>
          <p:cNvCxnSpPr>
            <a:stCxn id="889" idx="2"/>
            <a:endCxn id="890" idx="0"/>
          </p:cNvCxnSpPr>
          <p:nvPr/>
        </p:nvCxnSpPr>
        <p:spPr>
          <a:xfrm flipH="1" rot="16200000">
            <a:off x="6433920" y="5589000"/>
            <a:ext cx="548280" cy="8640"/>
          </a:xfrm>
          <a:prstGeom prst="bentConnector3">
            <a:avLst>
              <a:gd name="adj1" fmla="val 49802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913" name=""/>
          <p:cNvSpPr/>
          <p:nvPr/>
        </p:nvSpPr>
        <p:spPr>
          <a:xfrm>
            <a:off x="4692600" y="76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685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92600" y="5410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035000" y="533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0350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03500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350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350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72880" y="6714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72880" y="19670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72880" y="28814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42080" y="449568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42080" y="510552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21200" y="3733920"/>
            <a:ext cx="3581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/>
          <p:nvPr/>
        </p:nvCxnSpPr>
        <p:spPr>
          <a:xfrm flipV="1" rot="10800000">
            <a:off x="6749280" y="35049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32" name=""/>
          <p:cNvCxnSpPr/>
          <p:nvPr/>
        </p:nvCxnSpPr>
        <p:spPr>
          <a:xfrm flipV="1" rot="10800000">
            <a:off x="6749280" y="4114440"/>
            <a:ext cx="1080" cy="22932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933" name=""/>
          <p:cNvSpPr/>
          <p:nvPr/>
        </p:nvSpPr>
        <p:spPr>
          <a:xfrm>
            <a:off x="4905360" y="3719520"/>
            <a:ext cx="35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48840" y="375444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ation-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692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35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2880" y="34732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EBE-5C0A-4095-8DFE-6A83BA4A5D85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67080" y="414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s with short for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1360" y="685800"/>
            <a:ext cx="81662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posed p21 amendment allows more than one Data-S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ata-Section in a p21 file or an SdaiModel is based on one EXPRESS schema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Section /SdaiModel can contain only instances of entities defined in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lying schema or of interfaced entities. What to do with AP specific subtyp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 them from AP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CONNOTATIONAL subtypes (Express V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foreign subtypes in Data-Section / Sdai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instances shall a Data-Section / SdaiModel contai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for the application_context_schema typically only 4 instances are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with too few instances the overhead of having a separate Data-Section / SdaiModel is too bi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lete assembled product with all shapes can easily consists of several millions of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 practical upper limit of less than one million instances for an SdaiMod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working on repositories with billions of instances, referencing each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be hard to implement and inefficient. (Optimal less than 100,000 instances per SdaiMod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practical / typical sizes of Data Sections / Sdai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Data-Sections / SdaiModel needed for every schema or only for the major o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which schemas to u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AIC schemas and product_property_representation_schem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probably not application_context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9D7-9860-4134-AAC6-E78B27923CC7}" type="slidenum">
              <a:t>1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hot topics from our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based on EXPRESS short form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kes us a lot of work to get mating sets of all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schemas - and we have to update the o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(203) for the AICs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the possible complex entity data typ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everal leaves. These are those which requi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apping in a part21 fi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's STEP schemas allow an astronomic b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hose complexes - but only a few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ly relevant and are supported b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mapping tables (clause 5.1 of APs)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ance classes (4.1 of APs) computer re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688-651A-45D1-B7AB-14DC39CA28A4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: Future SDAI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the EXPRESS Amendment and EXPRESS-2 on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 EXPRESS-2 semantic Meta-model will influence the SDAI_dictionary_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32, the Geometric Programming interface f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DAI may support Para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DAI can do for the special needs of handling life cycle  information as defined in STEP-AP221, ISO 15926, EPIS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DCB-5D0C-4F9A-BFC3-1B324BDE3EAF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ll now only manual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runs with Java 1.1, but we recommend to use Java 1.2 (Java 2 platform). In future we will move to JDK 1.3 for better complex type support (alternativ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is an extension of the Java platform. As such its components are installed in the special "ext" directo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\jdk1.2.2\jre\lib\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: When following the default installation of JDK1.2.2, two ext directories are created, one for compilation and one for usual pr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installing JDK 1.2.2 adjust the Java runtime system to "c:\jdk1.2.2\j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D4F-4722-4341-A092-F04FFBA745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ed ! Files to install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.propert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m.j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irect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\sdai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daix_ap203book.jar, jsdaix_look_feel.jar, jsdaix_view3d.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7DD-8B27-49D2-A00B-23AA8559AF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ag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asses and interfaces for EXP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dictio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m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SX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chema 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Term, Sdai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b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view3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-viewer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pdm_b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M (p41)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look_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L&amp;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ap203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03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F80-2563-4237-A02C-2D819AB850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-SDAI implementation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% pure Java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ritten in Java + platform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inters (Java references) for fas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between model and entity-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for explicit attribute (implicit inverse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link form application level to meta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and specialized binary forma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storage in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all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y-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for entity type, attributes and 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52A-EC64-4756-B20E-21C2961403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: Basic SDAI Functi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representation of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la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writing part21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invers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Schema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-Interoperability, usage of common data between several 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-binding and the SDAI_dictionary_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F7A-F984-4D47-BC69-E8676C0494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AI Tutorial and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description and implement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versus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SDAI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271-1AF8-4615-AB48-404EEA3EC7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, Entity Instance,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-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very precis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 miss-l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defined in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an algorithm for a given EXPRESS schema (ABSTRACT, AND, ONEOF, AN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al le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er one is often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comple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y exist only in EXPRESS but not in SDAI or Part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EB6-6FF9-45BB-8DBC-0F993BFF4C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7840" y="2801880"/>
            <a:ext cx="1378080" cy="2521080"/>
            <a:chOff x="177840" y="2801880"/>
            <a:chExt cx="1378080" cy="2521080"/>
          </a:xfrm>
        </p:grpSpPr>
        <p:sp>
          <p:nvSpPr>
            <p:cNvPr id="100" name=""/>
            <p:cNvSpPr/>
            <p:nvPr/>
          </p:nvSpPr>
          <p:spPr>
            <a:xfrm>
              <a:off x="17784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000" y="28544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7880" y="3260880"/>
              <a:ext cx="9194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0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016000" y="2801880"/>
            <a:ext cx="1378080" cy="2521080"/>
            <a:chOff x="2016000" y="2801880"/>
            <a:chExt cx="1378080" cy="2521080"/>
          </a:xfrm>
        </p:grpSpPr>
        <p:sp>
          <p:nvSpPr>
            <p:cNvPr id="105" name=""/>
            <p:cNvSpPr/>
            <p:nvPr/>
          </p:nvSpPr>
          <p:spPr>
            <a:xfrm>
              <a:off x="20160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9040" y="28544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46400" y="32608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0352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46400" y="39481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35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4520" y="2801880"/>
            <a:ext cx="1377720" cy="2521080"/>
            <a:chOff x="3854520" y="2801880"/>
            <a:chExt cx="1377720" cy="2521080"/>
          </a:xfrm>
        </p:grpSpPr>
        <p:sp>
          <p:nvSpPr>
            <p:cNvPr id="112" name=""/>
            <p:cNvSpPr/>
            <p:nvPr/>
          </p:nvSpPr>
          <p:spPr>
            <a:xfrm>
              <a:off x="3854520" y="28018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96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8312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024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312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764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91240" y="2801880"/>
            <a:ext cx="1379520" cy="2521080"/>
            <a:chOff x="5691240" y="2801880"/>
            <a:chExt cx="1379520" cy="2521080"/>
          </a:xfrm>
        </p:grpSpPr>
        <p:sp>
          <p:nvSpPr>
            <p:cNvPr id="119" name=""/>
            <p:cNvSpPr/>
            <p:nvPr/>
          </p:nvSpPr>
          <p:spPr>
            <a:xfrm>
              <a:off x="5691240" y="28018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9000" y="28544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128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84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2128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2128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580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080" y="2057400"/>
            <a:ext cx="524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x 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299360" y="2287440"/>
            <a:ext cx="1838160" cy="3264120"/>
            <a:chOff x="7299360" y="2287440"/>
            <a:chExt cx="1838160" cy="3264120"/>
          </a:xfrm>
        </p:grpSpPr>
        <p:sp>
          <p:nvSpPr>
            <p:cNvPr id="129" name=""/>
            <p:cNvSpPr/>
            <p:nvPr/>
          </p:nvSpPr>
          <p:spPr>
            <a:xfrm>
              <a:off x="75294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0020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980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69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5980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0432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3280" y="228744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8" name=""/>
          <p:cNvGraphicFramePr/>
          <p:nvPr/>
        </p:nvGraphicFramePr>
        <p:xfrm>
          <a:off x="5181480" y="304920"/>
          <a:ext cx="23306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04920"/>
                    <a:ext cx="233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32200" y="2286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880" y="54770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mplex entity data types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08A-7C5E-447D-9ECD-94EA401EF50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f Leave Entity Data Typ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0200" y="1565280"/>
            <a:ext cx="1450440" cy="3736440"/>
            <a:chOff x="610200" y="1565280"/>
            <a:chExt cx="1450440" cy="3736440"/>
          </a:xfrm>
        </p:grpSpPr>
        <p:sp>
          <p:nvSpPr>
            <p:cNvPr id="144" name=""/>
            <p:cNvSpPr/>
            <p:nvPr/>
          </p:nvSpPr>
          <p:spPr>
            <a:xfrm>
              <a:off x="68256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0080" y="2262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29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00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80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200" y="48420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=A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9360" y="1565280"/>
            <a:ext cx="1459440" cy="3771360"/>
            <a:chOff x="2439360" y="1565280"/>
            <a:chExt cx="1459440" cy="3771360"/>
          </a:xfrm>
        </p:grpSpPr>
        <p:sp>
          <p:nvSpPr>
            <p:cNvPr id="151" name=""/>
            <p:cNvSpPr/>
            <p:nvPr/>
          </p:nvSpPr>
          <p:spPr>
            <a:xfrm>
              <a:off x="2521080" y="22096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3760" y="22622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1120" y="26686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0824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1120" y="33559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824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92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9360" y="487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=B(..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67440" y="1600200"/>
            <a:ext cx="1469880" cy="3736440"/>
            <a:chOff x="4267440" y="1600200"/>
            <a:chExt cx="1469880" cy="3736440"/>
          </a:xfrm>
        </p:grpSpPr>
        <p:sp>
          <p:nvSpPr>
            <p:cNvPr id="160" name=""/>
            <p:cNvSpPr/>
            <p:nvPr/>
          </p:nvSpPr>
          <p:spPr>
            <a:xfrm>
              <a:off x="435924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9680" y="22622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8784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496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84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0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440" y="487692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=C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95880" y="1600200"/>
            <a:ext cx="2870640" cy="3736440"/>
            <a:chOff x="6095880" y="1600200"/>
            <a:chExt cx="2870640" cy="3736440"/>
          </a:xfrm>
        </p:grpSpPr>
        <p:sp>
          <p:nvSpPr>
            <p:cNvPr id="169" name=""/>
            <p:cNvSpPr/>
            <p:nvPr/>
          </p:nvSpPr>
          <p:spPr>
            <a:xfrm>
              <a:off x="6195960" y="22096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63720" y="22622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63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34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6360" y="33559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348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7052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7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487692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=(A(...)B(...)C(...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2F7-419D-4DBC-B4C0-73263E9E32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early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85040" y="3727440"/>
            <a:ext cx="13795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040" y="3780000"/>
            <a:ext cx="84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&amp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2840" y="378000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09800" y="3727440"/>
            <a:ext cx="137808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8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20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16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896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0200" y="41860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33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48736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33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721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24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50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009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5080" y="48736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009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1508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012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62120"/>
            <a:ext cx="83012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ty Data Types are represent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E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lex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C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leave entity data types are separated by "&amp;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regates of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A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1A1-B260-4FE1-9DD7-4150E40C75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late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066680"/>
            <a:ext cx="82310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83808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Interfa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cla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ing of early and late binding is realiz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tity is directly or indirectly extended by every early binding Entity Interfa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Xxx extends EEntity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Yyy extends EXxx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ntity is directly interfaced by every early binding Aggregate Cla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Xxx extends AEntity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EF6-A63C-42FD-B030-1FE32C5D85F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l and Enum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and early binding enum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final class ELogical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unset =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FALSE = 1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TRUE = 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UNKNOWN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String values[] = {"FALSE", "TRU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UNKNOWN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ELogical( );   // no instances are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toInt(String 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String toString(int valu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673-4F86-434C-BE06-FE3291D5B6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81280" y="1751040"/>
            <a:ext cx="2286000" cy="30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24800" y="2708280"/>
            <a:ext cx="148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104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320" y="312264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96396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0920" y="2208240"/>
            <a:ext cx="215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packag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an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2280" y="3506760"/>
            <a:ext cx="2166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d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ased on t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7796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88620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894040"/>
            <a:ext cx="2286000" cy="7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2057400"/>
            <a:ext cx="2286000" cy="9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3278160"/>
            <a:ext cx="2286000" cy="1444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251460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96396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135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278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343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D14-441A-4018-BF23-DC750F183FE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Liba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~8.5 M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-schemas: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C-schemas: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schemas: 2 (soon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IM schemas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RM schemas: 3 (210, 212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Information: 2 (210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pecial "schema" for cross-mix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st and meta-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57-891A-46AB-AD07-CBE32C37AA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from which every SDAI activity start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orage space for SchemaInstances and Sdai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grouping of models to define a valid population of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of entity instances based on one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B5C-70E7-4D32-B3A4-2D4532747A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xiliary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untime information of th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simultaneous updating of chang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multiple clients fro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Ext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, easy accessing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Excep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n in case of err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AA3-0103-490D-A3DA-1296164395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/96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1.0 released. It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lacement for 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upgrade Java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is approved to submit Java as a Public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Specification (PAS) at ISO JTC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-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2 Pla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DK 1.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most complete OS-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moves the standardization to ECM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ater it cancels this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K 1.3, Split into several platfo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nterprise (Enterprise JavaBea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tand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511-B023-40D3-9037-5A6FF228EF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066680" y="228600"/>
            <a:ext cx="3198960" cy="5919840"/>
            <a:chOff x="1066680" y="228600"/>
            <a:chExt cx="3198960" cy="5919840"/>
          </a:xfrm>
        </p:grpSpPr>
        <p:sp>
          <p:nvSpPr>
            <p:cNvPr id="234" name=""/>
            <p:cNvSpPr/>
            <p:nvPr/>
          </p:nvSpPr>
          <p:spPr>
            <a:xfrm>
              <a:off x="1066680" y="22860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5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6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3" y="53"/>
                  </a:lnTo>
                  <a:lnTo>
                    <a:pt x="598" y="34"/>
                  </a:lnTo>
                  <a:lnTo>
                    <a:pt x="696" y="20"/>
                  </a:lnTo>
                  <a:lnTo>
                    <a:pt x="797" y="9"/>
                  </a:lnTo>
                  <a:lnTo>
                    <a:pt x="900" y="0"/>
                  </a:lnTo>
                  <a:lnTo>
                    <a:pt x="1007" y="0"/>
                  </a:lnTo>
                  <a:lnTo>
                    <a:pt x="1113" y="0"/>
                  </a:lnTo>
                  <a:lnTo>
                    <a:pt x="1217" y="9"/>
                  </a:lnTo>
                  <a:lnTo>
                    <a:pt x="1317" y="20"/>
                  </a:lnTo>
                  <a:lnTo>
                    <a:pt x="1415" y="34"/>
                  </a:lnTo>
                  <a:lnTo>
                    <a:pt x="1510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7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8" y="361"/>
                  </a:lnTo>
                  <a:lnTo>
                    <a:pt x="2014" y="403"/>
                  </a:lnTo>
                  <a:lnTo>
                    <a:pt x="2008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7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0" y="750"/>
                  </a:lnTo>
                  <a:lnTo>
                    <a:pt x="1415" y="770"/>
                  </a:lnTo>
                  <a:lnTo>
                    <a:pt x="1317" y="787"/>
                  </a:lnTo>
                  <a:lnTo>
                    <a:pt x="1217" y="795"/>
                  </a:lnTo>
                  <a:lnTo>
                    <a:pt x="1113" y="804"/>
                  </a:lnTo>
                  <a:lnTo>
                    <a:pt x="1007" y="806"/>
                  </a:lnTo>
                  <a:lnTo>
                    <a:pt x="900" y="804"/>
                  </a:lnTo>
                  <a:lnTo>
                    <a:pt x="797" y="795"/>
                  </a:lnTo>
                  <a:lnTo>
                    <a:pt x="696" y="787"/>
                  </a:lnTo>
                  <a:lnTo>
                    <a:pt x="598" y="770"/>
                  </a:lnTo>
                  <a:lnTo>
                    <a:pt x="503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6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5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59120" y="60624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A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66680" y="550836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5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6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3" y="347"/>
                  </a:lnTo>
                  <a:lnTo>
                    <a:pt x="598" y="366"/>
                  </a:lnTo>
                  <a:lnTo>
                    <a:pt x="696" y="383"/>
                  </a:lnTo>
                  <a:lnTo>
                    <a:pt x="797" y="391"/>
                  </a:lnTo>
                  <a:lnTo>
                    <a:pt x="900" y="400"/>
                  </a:lnTo>
                  <a:lnTo>
                    <a:pt x="1007" y="403"/>
                  </a:lnTo>
                  <a:lnTo>
                    <a:pt x="1113" y="400"/>
                  </a:lnTo>
                  <a:lnTo>
                    <a:pt x="1217" y="391"/>
                  </a:lnTo>
                  <a:lnTo>
                    <a:pt x="1317" y="383"/>
                  </a:lnTo>
                  <a:lnTo>
                    <a:pt x="1415" y="366"/>
                  </a:lnTo>
                  <a:lnTo>
                    <a:pt x="1510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7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8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384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00520" y="312840"/>
            <a:ext cx="3198960" cy="5919840"/>
            <a:chOff x="4700520" y="312840"/>
            <a:chExt cx="3198960" cy="5919840"/>
          </a:xfrm>
        </p:grpSpPr>
        <p:sp>
          <p:nvSpPr>
            <p:cNvPr id="240" name=""/>
            <p:cNvSpPr/>
            <p:nvPr/>
          </p:nvSpPr>
          <p:spPr>
            <a:xfrm>
              <a:off x="4700520" y="31284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6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7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4" y="53"/>
                  </a:lnTo>
                  <a:lnTo>
                    <a:pt x="599" y="34"/>
                  </a:lnTo>
                  <a:lnTo>
                    <a:pt x="697" y="20"/>
                  </a:lnTo>
                  <a:lnTo>
                    <a:pt x="797" y="9"/>
                  </a:lnTo>
                  <a:lnTo>
                    <a:pt x="901" y="0"/>
                  </a:lnTo>
                  <a:lnTo>
                    <a:pt x="1007" y="0"/>
                  </a:lnTo>
                  <a:lnTo>
                    <a:pt x="1114" y="0"/>
                  </a:lnTo>
                  <a:lnTo>
                    <a:pt x="1217" y="9"/>
                  </a:lnTo>
                  <a:lnTo>
                    <a:pt x="1318" y="20"/>
                  </a:lnTo>
                  <a:lnTo>
                    <a:pt x="1416" y="34"/>
                  </a:lnTo>
                  <a:lnTo>
                    <a:pt x="1511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8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9" y="361"/>
                  </a:lnTo>
                  <a:lnTo>
                    <a:pt x="2014" y="403"/>
                  </a:lnTo>
                  <a:lnTo>
                    <a:pt x="2009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8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1" y="750"/>
                  </a:lnTo>
                  <a:lnTo>
                    <a:pt x="1416" y="770"/>
                  </a:lnTo>
                  <a:lnTo>
                    <a:pt x="1318" y="787"/>
                  </a:lnTo>
                  <a:lnTo>
                    <a:pt x="1217" y="795"/>
                  </a:lnTo>
                  <a:lnTo>
                    <a:pt x="1114" y="804"/>
                  </a:lnTo>
                  <a:lnTo>
                    <a:pt x="1007" y="806"/>
                  </a:lnTo>
                  <a:lnTo>
                    <a:pt x="901" y="804"/>
                  </a:lnTo>
                  <a:lnTo>
                    <a:pt x="797" y="795"/>
                  </a:lnTo>
                  <a:lnTo>
                    <a:pt x="697" y="787"/>
                  </a:lnTo>
                  <a:lnTo>
                    <a:pt x="599" y="770"/>
                  </a:lnTo>
                  <a:lnTo>
                    <a:pt x="504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7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6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92960" y="69048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B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0520" y="559260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6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7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4" y="347"/>
                  </a:lnTo>
                  <a:lnTo>
                    <a:pt x="599" y="366"/>
                  </a:lnTo>
                  <a:lnTo>
                    <a:pt x="697" y="383"/>
                  </a:lnTo>
                  <a:lnTo>
                    <a:pt x="797" y="391"/>
                  </a:lnTo>
                  <a:lnTo>
                    <a:pt x="901" y="400"/>
                  </a:lnTo>
                  <a:lnTo>
                    <a:pt x="1007" y="403"/>
                  </a:lnTo>
                  <a:lnTo>
                    <a:pt x="1114" y="400"/>
                  </a:lnTo>
                  <a:lnTo>
                    <a:pt x="1217" y="391"/>
                  </a:lnTo>
                  <a:lnTo>
                    <a:pt x="1318" y="383"/>
                  </a:lnTo>
                  <a:lnTo>
                    <a:pt x="1416" y="366"/>
                  </a:lnTo>
                  <a:lnTo>
                    <a:pt x="1511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8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9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0052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9768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2600" y="2631960"/>
            <a:ext cx="2879640" cy="1839960"/>
            <a:chOff x="1182600" y="2631960"/>
            <a:chExt cx="2879640" cy="1839960"/>
          </a:xfrm>
        </p:grpSpPr>
        <p:sp>
          <p:nvSpPr>
            <p:cNvPr id="246" name=""/>
            <p:cNvSpPr/>
            <p:nvPr/>
          </p:nvSpPr>
          <p:spPr>
            <a:xfrm>
              <a:off x="1182600" y="26319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5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2" y="40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5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9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6" y="644"/>
                  </a:lnTo>
                  <a:lnTo>
                    <a:pt x="1332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2" y="664"/>
                  </a:lnTo>
                  <a:lnTo>
                    <a:pt x="398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5" y="566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9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584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856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2600" y="38322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2"/>
                  </a:lnTo>
                  <a:lnTo>
                    <a:pt x="174" y="235"/>
                  </a:lnTo>
                  <a:lnTo>
                    <a:pt x="233" y="269"/>
                  </a:lnTo>
                  <a:lnTo>
                    <a:pt x="300" y="300"/>
                  </a:lnTo>
                  <a:lnTo>
                    <a:pt x="375" y="325"/>
                  </a:lnTo>
                  <a:lnTo>
                    <a:pt x="454" y="347"/>
                  </a:lnTo>
                  <a:lnTo>
                    <a:pt x="537" y="367"/>
                  </a:lnTo>
                  <a:lnTo>
                    <a:pt x="627" y="384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4"/>
                  </a:lnTo>
                  <a:lnTo>
                    <a:pt x="1276" y="367"/>
                  </a:lnTo>
                  <a:lnTo>
                    <a:pt x="1360" y="347"/>
                  </a:lnTo>
                  <a:lnTo>
                    <a:pt x="1438" y="325"/>
                  </a:lnTo>
                  <a:lnTo>
                    <a:pt x="1514" y="300"/>
                  </a:lnTo>
                  <a:lnTo>
                    <a:pt x="1581" y="269"/>
                  </a:lnTo>
                  <a:lnTo>
                    <a:pt x="1640" y="235"/>
                  </a:lnTo>
                  <a:lnTo>
                    <a:pt x="1693" y="202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080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212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0184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8136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90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81280" y="3832200"/>
              <a:ext cx="16056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2240" y="4032360"/>
              <a:ext cx="81000" cy="7596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1" y="25"/>
                  </a:lnTo>
                  <a:lnTo>
                    <a:pt x="45" y="8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22320" y="3911760"/>
              <a:ext cx="1758960" cy="161640"/>
              <a:chOff x="1822320" y="3911760"/>
              <a:chExt cx="1758960" cy="16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822320" y="4071960"/>
                <a:ext cx="4795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41560" y="3911760"/>
                <a:ext cx="639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541680" y="38718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741480" y="2631960"/>
            <a:ext cx="3999240" cy="1839960"/>
            <a:chOff x="3741480" y="2631960"/>
            <a:chExt cx="3999240" cy="1839960"/>
          </a:xfrm>
        </p:grpSpPr>
        <p:sp>
          <p:nvSpPr>
            <p:cNvPr id="262" name=""/>
            <p:cNvSpPr/>
            <p:nvPr/>
          </p:nvSpPr>
          <p:spPr>
            <a:xfrm>
              <a:off x="4861080" y="26319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5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1" y="40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5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9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5" y="644"/>
                  </a:lnTo>
                  <a:lnTo>
                    <a:pt x="1331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1" y="664"/>
                  </a:lnTo>
                  <a:lnTo>
                    <a:pt x="397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4" y="566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9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396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6668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1080" y="38322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2"/>
                  </a:lnTo>
                  <a:lnTo>
                    <a:pt x="173" y="235"/>
                  </a:lnTo>
                  <a:lnTo>
                    <a:pt x="232" y="269"/>
                  </a:lnTo>
                  <a:lnTo>
                    <a:pt x="299" y="300"/>
                  </a:lnTo>
                  <a:lnTo>
                    <a:pt x="375" y="325"/>
                  </a:lnTo>
                  <a:lnTo>
                    <a:pt x="453" y="347"/>
                  </a:lnTo>
                  <a:lnTo>
                    <a:pt x="537" y="367"/>
                  </a:lnTo>
                  <a:lnTo>
                    <a:pt x="626" y="384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4"/>
                  </a:lnTo>
                  <a:lnTo>
                    <a:pt x="1276" y="367"/>
                  </a:lnTo>
                  <a:lnTo>
                    <a:pt x="1359" y="347"/>
                  </a:lnTo>
                  <a:lnTo>
                    <a:pt x="1438" y="325"/>
                  </a:lnTo>
                  <a:lnTo>
                    <a:pt x="1513" y="300"/>
                  </a:lnTo>
                  <a:lnTo>
                    <a:pt x="1580" y="269"/>
                  </a:lnTo>
                  <a:lnTo>
                    <a:pt x="1639" y="235"/>
                  </a:lnTo>
                  <a:lnTo>
                    <a:pt x="1692" y="202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6108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892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004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59760" y="38322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90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9480" y="39924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0800" y="3992400"/>
              <a:ext cx="158760" cy="1558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741480" y="3911760"/>
              <a:ext cx="1438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40440" y="3871800"/>
              <a:ext cx="7920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63280" y="1913040"/>
            <a:ext cx="3197520" cy="2936880"/>
            <a:chOff x="863280" y="1913040"/>
            <a:chExt cx="3197520" cy="2936880"/>
          </a:xfrm>
        </p:grpSpPr>
        <p:sp>
          <p:nvSpPr>
            <p:cNvPr id="275" name=""/>
            <p:cNvSpPr/>
            <p:nvPr/>
          </p:nvSpPr>
          <p:spPr>
            <a:xfrm>
              <a:off x="100476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63280" y="3192480"/>
              <a:ext cx="1602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82600" y="1913040"/>
              <a:ext cx="2878200" cy="479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6440" y="195732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A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3640" y="2152800"/>
              <a:ext cx="318960" cy="1039680"/>
            </a:xfrm>
            <a:custGeom>
              <a:avLst/>
              <a:gdLst/>
              <a:ahLst/>
              <a:rect l="l" t="t" r="r" b="b"/>
              <a:pathLst>
                <a:path w="201" h="655">
                  <a:moveTo>
                    <a:pt x="201" y="0"/>
                  </a:moveTo>
                  <a:lnTo>
                    <a:pt x="0" y="0"/>
                  </a:lnTo>
                  <a:lnTo>
                    <a:pt x="0" y="655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3640" y="3192480"/>
              <a:ext cx="16020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101" y="1008"/>
                  </a:moveTo>
                  <a:lnTo>
                    <a:pt x="0" y="1008"/>
                  </a:lnTo>
                  <a:lnTo>
                    <a:pt x="0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476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60800" y="1592280"/>
            <a:ext cx="3678120" cy="1657440"/>
            <a:chOff x="4060800" y="1592280"/>
            <a:chExt cx="3678120" cy="1657440"/>
          </a:xfrm>
        </p:grpSpPr>
        <p:sp>
          <p:nvSpPr>
            <p:cNvPr id="283" name=""/>
            <p:cNvSpPr/>
            <p:nvPr/>
          </p:nvSpPr>
          <p:spPr>
            <a:xfrm>
              <a:off x="406080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1080" y="159228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72760" y="163656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60760" y="1832040"/>
              <a:ext cx="400320" cy="1360440"/>
            </a:xfrm>
            <a:custGeom>
              <a:avLst/>
              <a:gdLst/>
              <a:ahLst/>
              <a:rect l="l" t="t" r="r" b="b"/>
              <a:pathLst>
                <a:path w="252" h="857">
                  <a:moveTo>
                    <a:pt x="252" y="0"/>
                  </a:moveTo>
                  <a:lnTo>
                    <a:pt x="0" y="0"/>
                  </a:lnTo>
                  <a:lnTo>
                    <a:pt x="0" y="857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1000" y="3192480"/>
              <a:ext cx="2397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00360" y="3192480"/>
              <a:ext cx="199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324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61080" y="2232000"/>
            <a:ext cx="3197160" cy="2617920"/>
            <a:chOff x="4861080" y="2232000"/>
            <a:chExt cx="3197160" cy="2617920"/>
          </a:xfrm>
        </p:grpSpPr>
        <p:sp>
          <p:nvSpPr>
            <p:cNvPr id="291" name=""/>
            <p:cNvSpPr/>
            <p:nvPr/>
          </p:nvSpPr>
          <p:spPr>
            <a:xfrm>
              <a:off x="773892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1080" y="223200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72760" y="227664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Y, 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8920" y="2473200"/>
              <a:ext cx="319320" cy="719280"/>
            </a:xfrm>
            <a:custGeom>
              <a:avLst/>
              <a:gdLst/>
              <a:ahLst/>
              <a:rect l="l" t="t" r="r" b="b"/>
              <a:pathLst>
                <a:path w="201" h="453">
                  <a:moveTo>
                    <a:pt x="0" y="0"/>
                  </a:moveTo>
                  <a:lnTo>
                    <a:pt x="201" y="0"/>
                  </a:lnTo>
                  <a:lnTo>
                    <a:pt x="201" y="453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7680" y="3192480"/>
              <a:ext cx="16056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0" y="1008"/>
                  </a:moveTo>
                  <a:lnTo>
                    <a:pt x="101" y="1008"/>
                  </a:lnTo>
                  <a:lnTo>
                    <a:pt x="101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97680" y="3192480"/>
              <a:ext cx="16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3892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182600" y="4152960"/>
            <a:ext cx="2879640" cy="1919160"/>
            <a:chOff x="1182600" y="4152960"/>
            <a:chExt cx="2879640" cy="1919160"/>
          </a:xfrm>
        </p:grpSpPr>
        <p:sp>
          <p:nvSpPr>
            <p:cNvPr id="299" name=""/>
            <p:cNvSpPr/>
            <p:nvPr/>
          </p:nvSpPr>
          <p:spPr>
            <a:xfrm>
              <a:off x="3062160" y="54720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2600" y="42321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4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2" y="39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4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8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6" y="644"/>
                  </a:lnTo>
                  <a:lnTo>
                    <a:pt x="1332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2" y="663"/>
                  </a:lnTo>
                  <a:lnTo>
                    <a:pt x="398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5" y="565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8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84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2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856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82600" y="54324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1"/>
                  </a:lnTo>
                  <a:lnTo>
                    <a:pt x="174" y="235"/>
                  </a:lnTo>
                  <a:lnTo>
                    <a:pt x="233" y="268"/>
                  </a:lnTo>
                  <a:lnTo>
                    <a:pt x="300" y="299"/>
                  </a:lnTo>
                  <a:lnTo>
                    <a:pt x="375" y="324"/>
                  </a:lnTo>
                  <a:lnTo>
                    <a:pt x="454" y="347"/>
                  </a:lnTo>
                  <a:lnTo>
                    <a:pt x="537" y="366"/>
                  </a:lnTo>
                  <a:lnTo>
                    <a:pt x="627" y="383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3"/>
                  </a:lnTo>
                  <a:lnTo>
                    <a:pt x="1276" y="366"/>
                  </a:lnTo>
                  <a:lnTo>
                    <a:pt x="1360" y="347"/>
                  </a:lnTo>
                  <a:lnTo>
                    <a:pt x="1438" y="324"/>
                  </a:lnTo>
                  <a:lnTo>
                    <a:pt x="1514" y="299"/>
                  </a:lnTo>
                  <a:lnTo>
                    <a:pt x="1581" y="268"/>
                  </a:lnTo>
                  <a:lnTo>
                    <a:pt x="1640" y="235"/>
                  </a:lnTo>
                  <a:lnTo>
                    <a:pt x="1693" y="201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260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080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6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0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2040" y="575136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1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1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2320" y="5511960"/>
              <a:ext cx="1279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3120" y="4152960"/>
              <a:ext cx="1440" cy="1279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861080" y="3992400"/>
            <a:ext cx="2879640" cy="2079720"/>
            <a:chOff x="4861080" y="3992400"/>
            <a:chExt cx="2879640" cy="2079720"/>
          </a:xfrm>
        </p:grpSpPr>
        <p:sp>
          <p:nvSpPr>
            <p:cNvPr id="312" name=""/>
            <p:cNvSpPr/>
            <p:nvPr/>
          </p:nvSpPr>
          <p:spPr>
            <a:xfrm>
              <a:off x="4861080" y="42321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4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1" y="39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4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8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5" y="644"/>
                  </a:lnTo>
                  <a:lnTo>
                    <a:pt x="1331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1" y="663"/>
                  </a:lnTo>
                  <a:lnTo>
                    <a:pt x="397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4" y="565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8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8396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6668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61080" y="54324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1"/>
                  </a:lnTo>
                  <a:lnTo>
                    <a:pt x="173" y="235"/>
                  </a:lnTo>
                  <a:lnTo>
                    <a:pt x="232" y="268"/>
                  </a:lnTo>
                  <a:lnTo>
                    <a:pt x="299" y="299"/>
                  </a:lnTo>
                  <a:lnTo>
                    <a:pt x="375" y="324"/>
                  </a:lnTo>
                  <a:lnTo>
                    <a:pt x="453" y="347"/>
                  </a:lnTo>
                  <a:lnTo>
                    <a:pt x="537" y="366"/>
                  </a:lnTo>
                  <a:lnTo>
                    <a:pt x="626" y="383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3"/>
                  </a:lnTo>
                  <a:lnTo>
                    <a:pt x="1276" y="366"/>
                  </a:lnTo>
                  <a:lnTo>
                    <a:pt x="1359" y="347"/>
                  </a:lnTo>
                  <a:lnTo>
                    <a:pt x="1438" y="324"/>
                  </a:lnTo>
                  <a:lnTo>
                    <a:pt x="1513" y="299"/>
                  </a:lnTo>
                  <a:lnTo>
                    <a:pt x="1580" y="268"/>
                  </a:lnTo>
                  <a:lnTo>
                    <a:pt x="1639" y="235"/>
                  </a:lnTo>
                  <a:lnTo>
                    <a:pt x="1692" y="201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6108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3892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004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9760" y="55926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9480" y="55926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9760" y="54324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8960" y="3992400"/>
              <a:ext cx="1800" cy="1440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4A2-9945-47A8-B69F-84D6BE9539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2763720" y="2530440"/>
            <a:ext cx="4834440" cy="351000"/>
            <a:chOff x="2763720" y="2530440"/>
            <a:chExt cx="4834440" cy="351000"/>
          </a:xfrm>
        </p:grpSpPr>
        <p:sp>
          <p:nvSpPr>
            <p:cNvPr id="324" name=""/>
            <p:cNvSpPr/>
            <p:nvPr/>
          </p:nvSpPr>
          <p:spPr>
            <a:xfrm>
              <a:off x="2763720" y="2530440"/>
              <a:ext cx="21034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8080" y="256392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 (Part 22+2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28800" y="256392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7200" y="2530440"/>
              <a:ext cx="14032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7200" y="256392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63720" y="2881440"/>
            <a:ext cx="5494680" cy="3421080"/>
            <a:chOff x="2763720" y="2881440"/>
            <a:chExt cx="5494680" cy="3421080"/>
          </a:xfrm>
        </p:grpSpPr>
        <p:sp>
          <p:nvSpPr>
            <p:cNvPr id="330" name=""/>
            <p:cNvSpPr/>
            <p:nvPr/>
          </p:nvSpPr>
          <p:spPr>
            <a:xfrm>
              <a:off x="2763720" y="2881440"/>
              <a:ext cx="3506760" cy="3421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8320" y="4459320"/>
              <a:ext cx="140364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14720" y="4635360"/>
              <a:ext cx="1401840" cy="701640"/>
            </a:xfrm>
            <a:custGeom>
              <a:avLst/>
              <a:gdLst/>
              <a:ahLst/>
              <a:rect l="l" t="t" r="r" b="b"/>
              <a:pathLst>
                <a:path w="883" h="442">
                  <a:moveTo>
                    <a:pt x="0" y="221"/>
                  </a:moveTo>
                  <a:lnTo>
                    <a:pt x="6" y="184"/>
                  </a:lnTo>
                  <a:lnTo>
                    <a:pt x="24" y="150"/>
                  </a:lnTo>
                  <a:lnTo>
                    <a:pt x="52" y="116"/>
                  </a:lnTo>
                  <a:lnTo>
                    <a:pt x="92" y="86"/>
                  </a:lnTo>
                  <a:lnTo>
                    <a:pt x="141" y="58"/>
                  </a:lnTo>
                  <a:lnTo>
                    <a:pt x="199" y="37"/>
                  </a:lnTo>
                  <a:lnTo>
                    <a:pt x="263" y="18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8" y="0"/>
                  </a:lnTo>
                  <a:lnTo>
                    <a:pt x="549" y="6"/>
                  </a:lnTo>
                  <a:lnTo>
                    <a:pt x="619" y="18"/>
                  </a:lnTo>
                  <a:lnTo>
                    <a:pt x="684" y="37"/>
                  </a:lnTo>
                  <a:lnTo>
                    <a:pt x="739" y="58"/>
                  </a:lnTo>
                  <a:lnTo>
                    <a:pt x="791" y="86"/>
                  </a:lnTo>
                  <a:lnTo>
                    <a:pt x="831" y="116"/>
                  </a:lnTo>
                  <a:lnTo>
                    <a:pt x="859" y="150"/>
                  </a:lnTo>
                  <a:lnTo>
                    <a:pt x="877" y="184"/>
                  </a:lnTo>
                  <a:lnTo>
                    <a:pt x="883" y="221"/>
                  </a:lnTo>
                  <a:lnTo>
                    <a:pt x="877" y="258"/>
                  </a:lnTo>
                  <a:lnTo>
                    <a:pt x="859" y="291"/>
                  </a:lnTo>
                  <a:lnTo>
                    <a:pt x="831" y="325"/>
                  </a:lnTo>
                  <a:lnTo>
                    <a:pt x="791" y="356"/>
                  </a:lnTo>
                  <a:lnTo>
                    <a:pt x="739" y="384"/>
                  </a:lnTo>
                  <a:lnTo>
                    <a:pt x="684" y="405"/>
                  </a:lnTo>
                  <a:lnTo>
                    <a:pt x="619" y="423"/>
                  </a:lnTo>
                  <a:lnTo>
                    <a:pt x="549" y="436"/>
                  </a:lnTo>
                  <a:lnTo>
                    <a:pt x="478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3" y="423"/>
                  </a:lnTo>
                  <a:lnTo>
                    <a:pt x="199" y="405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5"/>
                  </a:lnTo>
                  <a:lnTo>
                    <a:pt x="24" y="291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8040" y="4703760"/>
              <a:ext cx="108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7080" y="4986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14720" y="5862600"/>
              <a:ext cx="1401840" cy="352440"/>
            </a:xfrm>
            <a:custGeom>
              <a:avLst/>
              <a:gdLst/>
              <a:ahLst/>
              <a:rect l="l" t="t" r="r" b="b"/>
              <a:pathLst>
                <a:path w="883" h="222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2"/>
                  </a:lnTo>
                  <a:lnTo>
                    <a:pt x="82" y="129"/>
                  </a:lnTo>
                  <a:lnTo>
                    <a:pt x="128" y="157"/>
                  </a:lnTo>
                  <a:lnTo>
                    <a:pt x="181" y="179"/>
                  </a:lnTo>
                  <a:lnTo>
                    <a:pt x="242" y="197"/>
                  </a:lnTo>
                  <a:lnTo>
                    <a:pt x="303" y="209"/>
                  </a:lnTo>
                  <a:lnTo>
                    <a:pt x="371" y="218"/>
                  </a:lnTo>
                  <a:lnTo>
                    <a:pt x="441" y="222"/>
                  </a:lnTo>
                  <a:lnTo>
                    <a:pt x="509" y="218"/>
                  </a:lnTo>
                  <a:lnTo>
                    <a:pt x="576" y="209"/>
                  </a:lnTo>
                  <a:lnTo>
                    <a:pt x="641" y="197"/>
                  </a:lnTo>
                  <a:lnTo>
                    <a:pt x="702" y="179"/>
                  </a:lnTo>
                  <a:lnTo>
                    <a:pt x="754" y="157"/>
                  </a:lnTo>
                  <a:lnTo>
                    <a:pt x="797" y="129"/>
                  </a:lnTo>
                  <a:lnTo>
                    <a:pt x="834" y="102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1472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656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8320" y="5688000"/>
              <a:ext cx="17640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0"/>
                  </a:moveTo>
                  <a:lnTo>
                    <a:pt x="12" y="34"/>
                  </a:lnTo>
                  <a:lnTo>
                    <a:pt x="37" y="68"/>
                  </a:lnTo>
                  <a:lnTo>
                    <a:pt x="71" y="92"/>
                  </a:lnTo>
                  <a:lnTo>
                    <a:pt x="111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9260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4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39" y="59"/>
                  </a:lnTo>
                  <a:lnTo>
                    <a:pt x="792" y="86"/>
                  </a:lnTo>
                  <a:lnTo>
                    <a:pt x="831" y="117"/>
                  </a:lnTo>
                  <a:lnTo>
                    <a:pt x="859" y="151"/>
                  </a:lnTo>
                  <a:lnTo>
                    <a:pt x="877" y="185"/>
                  </a:lnTo>
                  <a:lnTo>
                    <a:pt x="884" y="221"/>
                  </a:lnTo>
                  <a:lnTo>
                    <a:pt x="877" y="258"/>
                  </a:lnTo>
                  <a:lnTo>
                    <a:pt x="859" y="292"/>
                  </a:lnTo>
                  <a:lnTo>
                    <a:pt x="831" y="326"/>
                  </a:lnTo>
                  <a:lnTo>
                    <a:pt x="792" y="356"/>
                  </a:lnTo>
                  <a:lnTo>
                    <a:pt x="739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4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0000" y="45277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ctio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85560" y="4809960"/>
              <a:ext cx="10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map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9260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9260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8520" y="3265560"/>
              <a:ext cx="155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38320" y="3757680"/>
              <a:ext cx="315756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16800" y="379260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16560" y="3056040"/>
              <a:ext cx="1440" cy="5270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284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2840" y="3562200"/>
              <a:ext cx="127080" cy="19548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639960" y="3055680"/>
              <a:ext cx="1800" cy="12286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766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660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394240" y="3056040"/>
              <a:ext cx="1800" cy="14032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088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80360" y="31878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96920" y="31878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02320" y="3046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33560" y="33289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832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5280" y="3757680"/>
            <a:ext cx="2543040" cy="2368440"/>
            <a:chOff x="395280" y="3757680"/>
            <a:chExt cx="2543040" cy="2368440"/>
          </a:xfrm>
        </p:grpSpPr>
        <p:sp>
          <p:nvSpPr>
            <p:cNvPr id="362" name=""/>
            <p:cNvSpPr/>
            <p:nvPr/>
          </p:nvSpPr>
          <p:spPr>
            <a:xfrm>
              <a:off x="395280" y="4108320"/>
              <a:ext cx="1577880" cy="20178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276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7" y="185"/>
                  </a:lnTo>
                  <a:lnTo>
                    <a:pt x="25" y="151"/>
                  </a:lnTo>
                  <a:lnTo>
                    <a:pt x="53" y="117"/>
                  </a:lnTo>
                  <a:lnTo>
                    <a:pt x="93" y="86"/>
                  </a:lnTo>
                  <a:lnTo>
                    <a:pt x="142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6" y="0"/>
                  </a:lnTo>
                  <a:lnTo>
                    <a:pt x="479" y="0"/>
                  </a:lnTo>
                  <a:lnTo>
                    <a:pt x="550" y="6"/>
                  </a:lnTo>
                  <a:lnTo>
                    <a:pt x="620" y="19"/>
                  </a:lnTo>
                  <a:lnTo>
                    <a:pt x="685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60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60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5" y="406"/>
                  </a:lnTo>
                  <a:lnTo>
                    <a:pt x="620" y="424"/>
                  </a:lnTo>
                  <a:lnTo>
                    <a:pt x="550" y="436"/>
                  </a:lnTo>
                  <a:lnTo>
                    <a:pt x="479" y="442"/>
                  </a:lnTo>
                  <a:lnTo>
                    <a:pt x="406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2" y="384"/>
                  </a:lnTo>
                  <a:lnTo>
                    <a:pt x="93" y="356"/>
                  </a:lnTo>
                  <a:lnTo>
                    <a:pt x="53" y="326"/>
                  </a:lnTo>
                  <a:lnTo>
                    <a:pt x="25" y="292"/>
                  </a:lnTo>
                  <a:lnTo>
                    <a:pt x="7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5720" y="45277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6440" y="480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276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7" y="34"/>
                  </a:lnTo>
                  <a:lnTo>
                    <a:pt x="22" y="68"/>
                  </a:lnTo>
                  <a:lnTo>
                    <a:pt x="50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3" y="196"/>
                  </a:lnTo>
                  <a:lnTo>
                    <a:pt x="304" y="209"/>
                  </a:lnTo>
                  <a:lnTo>
                    <a:pt x="372" y="218"/>
                  </a:lnTo>
                  <a:lnTo>
                    <a:pt x="442" y="221"/>
                  </a:lnTo>
                  <a:lnTo>
                    <a:pt x="510" y="218"/>
                  </a:lnTo>
                  <a:lnTo>
                    <a:pt x="577" y="209"/>
                  </a:lnTo>
                  <a:lnTo>
                    <a:pt x="642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3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2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5280" y="3757680"/>
              <a:ext cx="157788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2160" y="3792600"/>
              <a:ext cx="124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Sdai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49560" y="3933720"/>
              <a:ext cx="6141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3160" y="3870360"/>
              <a:ext cx="190440" cy="12708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120" y="80"/>
                  </a:moveTo>
                  <a:lnTo>
                    <a:pt x="0" y="40"/>
                  </a:lnTo>
                  <a:lnTo>
                    <a:pt x="120" y="0"/>
                  </a:lnTo>
                  <a:lnTo>
                    <a:pt x="12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3870360"/>
              <a:ext cx="195120" cy="127080"/>
            </a:xfrm>
            <a:custGeom>
              <a:avLst/>
              <a:gdLst/>
              <a:ahLst/>
              <a:rect l="l" t="t" r="r" b="b"/>
              <a:pathLst>
                <a:path w="123" h="80">
                  <a:moveTo>
                    <a:pt x="0" y="0"/>
                  </a:moveTo>
                  <a:lnTo>
                    <a:pt x="123" y="4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4400" y="410832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2068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095880" y="3870360"/>
            <a:ext cx="2281320" cy="2168640"/>
            <a:chOff x="6095880" y="3870360"/>
            <a:chExt cx="2281320" cy="2168640"/>
          </a:xfrm>
        </p:grpSpPr>
        <p:sp>
          <p:nvSpPr>
            <p:cNvPr id="377" name=""/>
            <p:cNvSpPr/>
            <p:nvPr/>
          </p:nvSpPr>
          <p:spPr>
            <a:xfrm>
              <a:off x="697248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46000" y="4668840"/>
              <a:ext cx="11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21-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248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7248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75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0480" y="3933720"/>
              <a:ext cx="14036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870360"/>
              <a:ext cx="189000" cy="12708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19" y="80"/>
                  </a:moveTo>
                  <a:lnTo>
                    <a:pt x="0" y="40"/>
                  </a:lnTo>
                  <a:lnTo>
                    <a:pt x="119" y="0"/>
                  </a:lnTo>
                  <a:lnTo>
                    <a:pt x="11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674120" y="3933360"/>
              <a:ext cx="1440" cy="351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104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63720" y="73080"/>
            <a:ext cx="5174640" cy="2457360"/>
            <a:chOff x="2763720" y="73080"/>
            <a:chExt cx="5174640" cy="2457360"/>
          </a:xfrm>
        </p:grpSpPr>
        <p:sp>
          <p:nvSpPr>
            <p:cNvPr id="387" name=""/>
            <p:cNvSpPr/>
            <p:nvPr/>
          </p:nvSpPr>
          <p:spPr>
            <a:xfrm>
              <a:off x="6709320" y="3808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3720" y="73080"/>
              <a:ext cx="12272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2960" y="14112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59720" y="4237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0960" y="73080"/>
              <a:ext cx="22795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3560" y="2826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0960" y="950760"/>
              <a:ext cx="1440" cy="1746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27600" y="77472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7600" y="110664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68840" y="950760"/>
              <a:ext cx="1800" cy="1403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5480" y="774720"/>
              <a:ext cx="12708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05480" y="233532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763720" y="1170000"/>
            <a:ext cx="5221800" cy="1360440"/>
            <a:chOff x="2763720" y="1170000"/>
            <a:chExt cx="5221800" cy="1360440"/>
          </a:xfrm>
        </p:grpSpPr>
        <p:sp>
          <p:nvSpPr>
            <p:cNvPr id="400" name=""/>
            <p:cNvSpPr/>
            <p:nvPr/>
          </p:nvSpPr>
          <p:spPr>
            <a:xfrm>
              <a:off x="2763720" y="1301760"/>
              <a:ext cx="7891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19680" y="137016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52280" y="16527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284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95400" y="137016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8840" y="16527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448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56520" y="15112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6680" y="11700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us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54840" y="1447920"/>
              <a:ext cx="90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06880" y="1730520"/>
              <a:ext cx="117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9480" y="201312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ea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90960" y="217800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7600" y="200340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7600" y="233532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24360" y="137160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A21-5133-4283-8D23-9A51E0435052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152280"/>
            <a:ext cx="8434440" cy="61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79760" y="5014800"/>
            <a:ext cx="4218120" cy="959040"/>
          </a:xfrm>
          <a:prstGeom prst="rect">
            <a:avLst/>
          </a:prstGeom>
          <a:solidFill>
            <a:srgbClr val="cce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79760" y="289080"/>
            <a:ext cx="4218120" cy="4725720"/>
          </a:xfrm>
          <a:prstGeom prst="rect">
            <a:avLst/>
          </a:prstGeom>
          <a:solidFill>
            <a:srgbClr val="ff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320" y="1727280"/>
            <a:ext cx="2740320" cy="4246560"/>
          </a:xfrm>
          <a:prstGeom prst="rect">
            <a:avLst/>
          </a:prstGeom>
          <a:solidFill>
            <a:srgbClr val="99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18080" y="5634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18080" y="145404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18080" y="3029040"/>
            <a:ext cx="154620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18080" y="41940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18080" y="631800"/>
            <a:ext cx="133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50200" y="684360"/>
            <a:ext cx="110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18080" y="1522440"/>
            <a:ext cx="1687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8960" y="1574640"/>
            <a:ext cx="14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18080" y="3097080"/>
            <a:ext cx="14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44880" y="3149640"/>
            <a:ext cx="10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18080" y="4262400"/>
            <a:ext cx="1546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80160" y="431496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238800" y="1111320"/>
            <a:ext cx="104760" cy="393480"/>
            <a:chOff x="6238800" y="1111320"/>
            <a:chExt cx="104760" cy="393480"/>
          </a:xfrm>
        </p:grpSpPr>
        <p:sp>
          <p:nvSpPr>
            <p:cNvPr id="433" name=""/>
            <p:cNvSpPr/>
            <p:nvPr/>
          </p:nvSpPr>
          <p:spPr>
            <a:xfrm>
              <a:off x="6291360" y="1111320"/>
              <a:ext cx="1440" cy="34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38800" y="14018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238800" y="1951200"/>
            <a:ext cx="104760" cy="1077840"/>
            <a:chOff x="6238800" y="1951200"/>
            <a:chExt cx="104760" cy="1077840"/>
          </a:xfrm>
        </p:grpSpPr>
        <p:sp>
          <p:nvSpPr>
            <p:cNvPr id="436" name=""/>
            <p:cNvSpPr/>
            <p:nvPr/>
          </p:nvSpPr>
          <p:spPr>
            <a:xfrm>
              <a:off x="6291360" y="200196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8800" y="19512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238800" y="3525840"/>
            <a:ext cx="104760" cy="668160"/>
            <a:chOff x="6238800" y="3525840"/>
            <a:chExt cx="104760" cy="668160"/>
          </a:xfrm>
        </p:grpSpPr>
        <p:sp>
          <p:nvSpPr>
            <p:cNvPr id="439" name=""/>
            <p:cNvSpPr/>
            <p:nvPr/>
          </p:nvSpPr>
          <p:spPr>
            <a:xfrm>
              <a:off x="6291360" y="3576600"/>
              <a:ext cx="1440" cy="617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38800" y="352584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91360" y="3800520"/>
            <a:ext cx="1299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10520" y="3851280"/>
            <a:ext cx="114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wning_mod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15000" y="3800520"/>
            <a:ext cx="1371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8120" y="38512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INV) instan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91360" y="1111320"/>
            <a:ext cx="1212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11960" y="1162080"/>
            <a:ext cx="105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ers S[1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19400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309708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12840" y="3218040"/>
            <a:ext cx="18972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0480" y="3270240"/>
            <a:ext cx="18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hema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00320" y="4313160"/>
            <a:ext cx="1722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90880" y="4365720"/>
            <a:ext cx="170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05280" y="3321000"/>
            <a:ext cx="2512440" cy="101520"/>
            <a:chOff x="3005280" y="3321000"/>
            <a:chExt cx="2512440" cy="101520"/>
          </a:xfrm>
        </p:grpSpPr>
        <p:sp>
          <p:nvSpPr>
            <p:cNvPr id="454" name=""/>
            <p:cNvSpPr/>
            <p:nvPr/>
          </p:nvSpPr>
          <p:spPr>
            <a:xfrm flipH="1">
              <a:off x="3057120" y="3371760"/>
              <a:ext cx="2460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05280" y="33210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005280" y="4416480"/>
            <a:ext cx="2512440" cy="102960"/>
            <a:chOff x="3005280" y="4416480"/>
            <a:chExt cx="2512440" cy="102960"/>
          </a:xfrm>
        </p:grpSpPr>
        <p:sp>
          <p:nvSpPr>
            <p:cNvPr id="457" name=""/>
            <p:cNvSpPr/>
            <p:nvPr/>
          </p:nvSpPr>
          <p:spPr>
            <a:xfrm flipH="1">
              <a:off x="3057120" y="4467240"/>
              <a:ext cx="246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5280" y="44164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127240" y="3594240"/>
            <a:ext cx="104760" cy="599400"/>
            <a:chOff x="2127240" y="3594240"/>
            <a:chExt cx="104760" cy="599400"/>
          </a:xfrm>
        </p:grpSpPr>
        <p:sp>
          <p:nvSpPr>
            <p:cNvPr id="460" name=""/>
            <p:cNvSpPr/>
            <p:nvPr/>
          </p:nvSpPr>
          <p:spPr>
            <a:xfrm flipV="1">
              <a:off x="2179800" y="3644640"/>
              <a:ext cx="1440" cy="549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27240" y="35942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08200" y="380052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31320" y="3851280"/>
            <a:ext cx="114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ent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19440" y="3371760"/>
            <a:ext cx="1635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32840" y="3422520"/>
            <a:ext cx="149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derlying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760" y="357120"/>
            <a:ext cx="293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3880" y="426960"/>
            <a:ext cx="2792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e SDAI 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53040" y="5153040"/>
            <a:ext cx="169056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91360" y="5153040"/>
            <a:ext cx="105408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00480" y="5221440"/>
            <a:ext cx="1598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85800" y="527364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61200" y="5221440"/>
            <a:ext cx="8794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49400" y="527364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956120" y="4741920"/>
            <a:ext cx="1335240" cy="479520"/>
            <a:chOff x="4956120" y="4741920"/>
            <a:chExt cx="1335240" cy="479520"/>
          </a:xfrm>
        </p:grpSpPr>
        <p:sp>
          <p:nvSpPr>
            <p:cNvPr id="475" name=""/>
            <p:cNvSpPr/>
            <p:nvPr/>
          </p:nvSpPr>
          <p:spPr>
            <a:xfrm>
              <a:off x="5025960" y="4741920"/>
              <a:ext cx="1265400" cy="41112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2" y="0"/>
                  </a:moveTo>
                  <a:lnTo>
                    <a:pt x="72" y="12"/>
                  </a:lnTo>
                  <a:lnTo>
                    <a:pt x="0" y="12"/>
                  </a:lnTo>
                  <a:lnTo>
                    <a:pt x="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612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291360" y="4741920"/>
            <a:ext cx="596880" cy="479520"/>
            <a:chOff x="6291360" y="4741920"/>
            <a:chExt cx="596880" cy="479520"/>
          </a:xfrm>
        </p:grpSpPr>
        <p:sp>
          <p:nvSpPr>
            <p:cNvPr id="478" name=""/>
            <p:cNvSpPr/>
            <p:nvPr/>
          </p:nvSpPr>
          <p:spPr>
            <a:xfrm>
              <a:off x="6291360" y="4741920"/>
              <a:ext cx="527040" cy="4111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0" y="12"/>
                  </a:lnTo>
                  <a:lnTo>
                    <a:pt x="30" y="12"/>
                  </a:lnTo>
                  <a:lnTo>
                    <a:pt x="3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4856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799240" y="5084640"/>
            <a:ext cx="422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0840" y="5153040"/>
            <a:ext cx="24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5014800"/>
            <a:ext cx="1990800" cy="549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5153040"/>
            <a:ext cx="1563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6080" y="5203800"/>
            <a:ext cx="96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127240" y="4689360"/>
            <a:ext cx="104760" cy="325440"/>
            <a:chOff x="2127240" y="4689360"/>
            <a:chExt cx="104760" cy="325440"/>
          </a:xfrm>
        </p:grpSpPr>
        <p:sp>
          <p:nvSpPr>
            <p:cNvPr id="486" name=""/>
            <p:cNvSpPr/>
            <p:nvPr/>
          </p:nvSpPr>
          <p:spPr>
            <a:xfrm flipV="1">
              <a:off x="2179800" y="4741920"/>
              <a:ext cx="1440" cy="27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7240" y="46893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98320" y="1797120"/>
            <a:ext cx="2354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7960" y="1847880"/>
            <a:ext cx="2109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79760" y="28908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8320" y="339840"/>
            <a:ext cx="1873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session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4194000"/>
            <a:ext cx="807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80480" y="42451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999200" y="44845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85160" y="5237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999200" y="54770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60920" y="2138400"/>
            <a:ext cx="168732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0920" y="2206800"/>
            <a:ext cx="168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67480" y="2259000"/>
            <a:ext cx="148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127240" y="2413080"/>
            <a:ext cx="1633680" cy="736560"/>
            <a:chOff x="2127240" y="2413080"/>
            <a:chExt cx="1633680" cy="736560"/>
          </a:xfrm>
        </p:grpSpPr>
        <p:sp>
          <p:nvSpPr>
            <p:cNvPr id="501" name=""/>
            <p:cNvSpPr/>
            <p:nvPr/>
          </p:nvSpPr>
          <p:spPr>
            <a:xfrm>
              <a:off x="2179800" y="2413080"/>
              <a:ext cx="1581120" cy="684000"/>
            </a:xfrm>
            <a:custGeom>
              <a:avLst/>
              <a:gdLst/>
              <a:ahLst/>
              <a:rect l="l" t="t" r="r" b="b"/>
              <a:pathLst>
                <a:path w="996" h="431">
                  <a:moveTo>
                    <a:pt x="996" y="0"/>
                  </a:moveTo>
                  <a:lnTo>
                    <a:pt x="0" y="0"/>
                  </a:lnTo>
                  <a:lnTo>
                    <a:pt x="0" y="4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27240" y="3046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603680" y="1676520"/>
            <a:ext cx="966960" cy="461880"/>
            <a:chOff x="4603680" y="1676520"/>
            <a:chExt cx="966960" cy="461880"/>
          </a:xfrm>
        </p:grpSpPr>
        <p:sp>
          <p:nvSpPr>
            <p:cNvPr id="504" name=""/>
            <p:cNvSpPr/>
            <p:nvPr/>
          </p:nvSpPr>
          <p:spPr>
            <a:xfrm>
              <a:off x="4603680" y="1727280"/>
              <a:ext cx="914400" cy="411120"/>
            </a:xfrm>
            <a:custGeom>
              <a:avLst/>
              <a:gdLst/>
              <a:ahLst/>
              <a:rect l="l" t="t" r="r" b="b"/>
              <a:pathLst>
                <a:path w="576" h="259">
                  <a:moveTo>
                    <a:pt x="0" y="259"/>
                  </a:moveTo>
                  <a:lnTo>
                    <a:pt x="0" y="0"/>
                  </a:lnTo>
                  <a:lnTo>
                    <a:pt x="57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65880" y="16765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603680" y="2685960"/>
            <a:ext cx="966960" cy="600120"/>
            <a:chOff x="4603680" y="2685960"/>
            <a:chExt cx="966960" cy="600120"/>
          </a:xfrm>
        </p:grpSpPr>
        <p:sp>
          <p:nvSpPr>
            <p:cNvPr id="507" name=""/>
            <p:cNvSpPr/>
            <p:nvPr/>
          </p:nvSpPr>
          <p:spPr>
            <a:xfrm>
              <a:off x="4603680" y="2685960"/>
              <a:ext cx="914400" cy="549360"/>
            </a:xfrm>
            <a:custGeom>
              <a:avLst/>
              <a:gdLst/>
              <a:ahLst/>
              <a:rect l="l" t="t" r="r" b="b"/>
              <a:pathLst>
                <a:path w="576" h="346">
                  <a:moveTo>
                    <a:pt x="0" y="0"/>
                  </a:moveTo>
                  <a:lnTo>
                    <a:pt x="0" y="346"/>
                  </a:lnTo>
                  <a:lnTo>
                    <a:pt x="576" y="34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5880" y="31827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691080" y="2755800"/>
            <a:ext cx="2090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6280" y="2806560"/>
            <a:ext cx="19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_models S[0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79760" y="563256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99000" y="5683320"/>
            <a:ext cx="186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pplic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7240" y="2120760"/>
            <a:ext cx="1282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45680" y="2173320"/>
            <a:ext cx="113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tive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880" y="820800"/>
            <a:ext cx="1071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320" y="87156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simplifie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020-8426-4AE9-8380-13F8296402A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s java.lang.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n by every SDAI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error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Id(): IDs defined for every case, e.g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** Repository is not open *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RP_NOPN = xx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Description() - some expla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Base() - the object causing this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UnderlyingError(), e.g. file I/O or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42A-1437-48E9-B2D2-BC4BA60A11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usage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some J-SDAI op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 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 catch (SdaiException 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e.printStackTrac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int id = e.getErrorId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desc = e.getError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bject base = e.getErrorBas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 exc = e.getUnderlyingErr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4D8-834B-4685-9E30-8689022879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ning and ending an SDAI applic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open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losing the session object becomes invalid.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SdaiSession object at a tim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get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840" y="15840"/>
            <a:ext cx="1828800" cy="16812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h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Session() is a static method but closeSession() n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5C4-85D1-45DE-BFFF-BB9B8F7C01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AVL: Session not avail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lementation cannot open a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OPN: Session is not op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an SDAI object is possible only when the session i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OPN : Session op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empt was made to open a session while a session was still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B13-55FE-43C3-83E6-037CBA1F79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LogWr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ite out warnings, debug messages, measure tim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PrintWriter getLogWri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gWriter(java.io.PrintWriter out)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logWriter from an application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println("My test messag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875-D196-4BAA-983C-4EB2CF7678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s about the name, version and features of the SDAI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ation imp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getImplementatio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ost inform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Implementation Conformance Statement (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1AF-B762-4321-892A-7FC72D1CF5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Implementation (SdaiTer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1349280"/>
            <a:ext cx="922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:\LKSoft\current&gt;java jsdai.util.Sdai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---------- Implementation 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ame: J-SDAI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evel: Version 2.0 (Build 200, 2000-01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dai_version: { iso standard 10303 part(22) version(0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inding_version: { iso standard 10303 part(27) version(0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implementation_class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ransaction_level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xpression_level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omain_equivalence_level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4FE-2221-4CE4-A466-E52C71E4383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5228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av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echnolog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, Standard Edition, actual Version 1.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Virtual Machine, 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(Windows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Beans (reusable softwa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, Database API f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, Remote Method Invocation, CORBA/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, JINI, Enterprise Java Beans (EJB)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606-D8DC-4691-ABD3-E63E93B0AD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DAI-Model based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3 : full transac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FC6-A11A-45C1-9470-2943D00968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Expression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imple evalua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3 : Complex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4 : Complet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E87-0899-47CC-82E4-AF71BF965C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equivalence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domain equi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Domain equivalen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368-1519-413F-9BF3-FB7E56E170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not relevant for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va bindings to the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ession event recording support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d by the Java Exception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COPE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ated in implementation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DAI, part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525-7296-4097-AF60-EE243334D2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basis for setting the tim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The Java system time which is based on the underlying host, see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System.currentTimeMilli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repositories that may exist within an SDAI sess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SDAI-models that may exist within a repositor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C37-2CF8-453F-A707-3F85FF3B348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ximum length of EXPRESS STRING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64K due to Java ser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length of EXPRESS BINARY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limit of EXPRESS REAL precision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1: The Java type double has about 14 decimal digits precision, see IEEE 754-1985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2: Arbitrary precision by java.util.BigDecimal. Not implemented in current version (late binding o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A4E-2746-4474-B1FF-9BB950C1A28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elements that may appear in a variable sized aggregate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index positions that may appear in an array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If domain equivalence is supported, what method for declaring it in the data dictionary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Direct usage of EXPRESS short 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C95-1CE9-4432-9659-8B19BB2401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either ReadOnly or ReadWrit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OnlyAccess()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WriteAccess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nsaction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the activ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testActiveTransaction()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= session.getActiveTransact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8AE-4ED8-4956-86A0-8114141517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the actual stat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(t.getMode()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NO_ACCESS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ONLY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WRITE: 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Comm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ADA-EB33-4693-A0B9-BCE810C768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Pending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if a modification is pend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hole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Repository and all its model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repo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Model only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model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C05-3C38-4BA2-AB1F-BA47A422EC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and associated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1x, 2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4x, 1xx, 5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TEP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xx, 3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Protocols (AP) and Tests (A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3584, PLIB (Parts Lib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926, OIL &amp;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531, MAN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4649, N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D37-7D19-44F0-8DE2-602C9B28BE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1447920"/>
            <a:ext cx="891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Session s = SdaiSession.openSession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Transaction t = s.startTransactionReadOnlyAc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ad so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odify/create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isModified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-read the previ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D2-0317-4E52-9A33-817D62CE316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AB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nded abnorm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B0A-C75D-41D4-8D4B-A32D848F88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repositories from SdaiSess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Known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Active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ar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is either open (active) or clos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!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open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close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92D-8BFC-4135-B422-327500B468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8954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7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60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00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30080" y="990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9607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9625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0360" y="17938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343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3505320"/>
            <a:ext cx="152388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99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440" y="76320"/>
            <a:ext cx="84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SDAI Structure without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06800" y="60948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 10303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D9F-7746-47EB-ABC4-4207B7A10497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5720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740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136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3280" y="914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52244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52388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01280" y="205740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91540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915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674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505320"/>
            <a:ext cx="6094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1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1600" y="95400"/>
            <a:ext cx="68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nded SDAI with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956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956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09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062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02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360" y="9907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5609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5627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5440" y="1143000"/>
            <a:ext cx="182880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120" y="12193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4114800" y="761760"/>
            <a:ext cx="3808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191120" y="137160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657600" y="837720"/>
            <a:ext cx="8380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191120" y="121932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590920" y="762120"/>
            <a:ext cx="761760" cy="3045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90920" y="761760"/>
            <a:ext cx="38088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0920" y="1295280"/>
            <a:ext cx="228600" cy="1526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3429000"/>
            <a:ext cx="190476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AD6-5E3C-475E-BE1B-1AB595A590A5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establish (firewall, ..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bi-directional Java streams, based on TCP/IP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SDAI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all entity instances take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single entity instances on request is too slow (100ms delay ea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transferring a whole SDAI model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loading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optimized arrangement, not like part21 or Java seri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pact (not compressed) binary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Repository but differ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different Repos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 with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EXPRESS sch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0"/>
            <a:ext cx="62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the Network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F65-27B5-4228-958B-573FF46D1FB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01560" y="914400"/>
            <a:ext cx="752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DAI standard the known repositories are stati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not change while a Session i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tended SDAI repositories become dynamic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new operations are introduc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reat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e Repos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ositories go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SDAI operations it may happen that a Repository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known”, but not its location. So it can’t be ope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59A-9CE7-4F04-81FC-723FE260FFB9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name and location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r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ocation = r.getLoca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remote/external repositor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and implicit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link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unlink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Delete reposit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create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importClearTextEncoding("nam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ource_location","destination_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deleteRepositor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9AB-40FE-475E-BD92-B71763A3509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28600" y="1243080"/>
          <a:ext cx="86868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43080"/>
                    <a:ext cx="86868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0BA-D5EA-49B8-BDFE-268C18F7972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into a temporarily local repositor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""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repo-name from the part21 FILE_NAM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null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and location (external and remote)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c:\myrepos") createRepository("MyRepo", "//guest:passwd@192.123.22.11:1050"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//user:passwd@server.lksoft.de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global uniqu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sitory is a part of a domain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server.lksoft.de/MyRepo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utur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testrep.server.lksoft.de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0920" y="30240"/>
            <a:ext cx="70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simpl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895-7825-4B2C-AFFB-3F74F0EF2279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(-1): ISO 10303-11:199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G    Graphic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TC1/2 Technical Corrigend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X Maps and Views of Ent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2 (behaviour, active processing of data due to ev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8C2-80F1-470E-99EF-37A37D0719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remote repositories are available on a remote loc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a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emoteRepositories("//user:passwd@server.lksoft.d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 = 0; i &lt; as.getMemberCount()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as.getByIndex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09E-B19D-4B84-96E3-EDEC15C0CE9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no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C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9BB-1676-43DB-BEDC-1DFF8A5170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chemaIn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stores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r.getSchema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asi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maInstance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si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Automotive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dele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414-3DA7-4E11-9B5A-BCC256FCEBD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is unique within the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si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name("NewSchemaInstanceNam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maInstance is based on a schema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si.getNative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chema = si.getNativeSchema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3DF-05C3-476D-B277-BDB63A7C76C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population defined by collection of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si.getAssociatedModels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in the same or in different repositori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addSdaiModel(model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moveSdaiModel(model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based on the same or on different schemas, but domain_equivalent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BB5-A8BB-40CE-A399-B9ABA95C69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ness Valid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EUniqueness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ule Valid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EGlobal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 Reference Do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InstanceReferenceDomain(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Validation, updates validation inf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SchemaInstan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F57-4AA5-4791-B0DF-92D941A7DF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nform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by validateSchemaInstance()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Validation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level = si.getValidationLevel();//0-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result = si.getValidationResul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ctual = si.isValidationCurr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form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i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ChangeDate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197-87F9-40EE-B57F-CBAB46F9D6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Instance with all dictionary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Dictionary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getDataDictiona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Instance with all dictionary and mapping models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Mapping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s.getDataMapp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Defined Schema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0EA-9345-475A-94F9-343861320CF0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DUP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upl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must be unique within 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NEXS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oes not ex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SI deleted or repositor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LOCK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lock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application is going to modify the SI on a remote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C20-D5A2-417B-B546-B7B7F959D6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0" y="457200"/>
          <a:ext cx="914400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3F4-F26D-4259-A746-459030620509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model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fine the data models of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: Application Integrated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ommon integra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: Application referen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6FA-8F77-444E-91FE-CCB6B89CDC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dai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s are stored in repositories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r.getModel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am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SdaiModel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daiModel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createSdaiModel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 create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Config_control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nameSdaiModel("newName"); // critical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delet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A8C-B61B-43D9-BAF8-682E420913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DEQ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not domain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1F4-9944-4687-B429-E34C6E2291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information is always accessible from a model, no matter if RW, RO access is started or not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m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Underlying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Defined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 = m.getAssociatedWith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m.getChange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date = m.getChangeDateLong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isModified()) {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C30-1963-43BE-BA60-CEE012AAA9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ribu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dded to fully support the part21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ng = m.getDefaultLanguag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etDefaultLanguage("ger", 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 as = m.getContextIdentifi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utContextIdentifiers(A_string valu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BC1-3C30-46A4-B158-03336BA38B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access mo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m.getMod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NO_ACCESS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ONLY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WRITE: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either RO or RW acce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WriteAccess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ccess mode between RO and RW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romoteSdaiModelToRW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duceSdaiModelToRO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access mode, take care of transaction 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WriteAccess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daiModel am = s. getActiveModel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9EF-C024-4FA6-8503-6548014A50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DEF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4D7-5AF4-498B-AE9E-DA71BF4211D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ll typ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m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cluding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F44-FE21-490D-A9DB-547844A847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xactInstanceCount(C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Xxx) m.getExactInstances(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Exac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Exac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054-04F2-4931-A27F-82DE3D967A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&gt; EntityEx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Extent helps to access entity instances of a give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Only auxiliary purpo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get all or only the non-empty EntityEx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get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opulated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 ee = aee.getByIndex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: definition, owner and instanc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ee.getDefini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ee.getDefinitionStr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ee.getOwnedB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ee.getInstance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e = (AXxx) ee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0C7-66A4-48EF-99BA-17A74BC2F26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Instance exist only within an owning 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ntityDefinition("product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reateEntityInstance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roduct p1  = (EProduc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createEntityInstance(CProduct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ning model is always availab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el m1 = p1.findEntityInstanc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lso removes all references from active mod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.deleteApplicationInstan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9E9-996E-45E3-A3C9-A44F641197B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, REAL (NUMBER), STRING, BINARY, BOOLEAN, LOG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data type and 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constraints (expressions, functions, procedures, 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00B-E723-426A-9062-4B877310DC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copy of an entity instance within the same or another model. All references remain on the original instance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opyApplicationInstanc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an instance to another model and/or chang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(late and early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the same repo the persistent name is preserv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from active models are maintain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N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1C6-8F0B-4DEF-8447-ED82AAC085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id valid population of entity instances is defined by a SchemaInstance and its associated Sdai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perations need to know the domain where to search/access related instances. Depending on the application the domain may be defined for several SchemaInstances or only part of it. Within J-SDAI the domain is defined as an aggregate of SdaiModel (ASdaiModel)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inverse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din (late and ear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d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InstanceRo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mapping oper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DF2-FF57-44C1-B533-B27804E20FF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non-persistent Aggregate and add the desired Sdai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new ASdaiModel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.addByIndex(model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domain from a single SchemaInstan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common domain of several SchemaInstances (set)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a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B33-E1C0-402A-95CA-C90E49AD3FE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to access the attributes of entity instance, available in late binding and in early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ttribute have a value or is it unse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set what is the type - important for selec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s the actual value, either simple, entity instance or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simple and entity instance values. Not for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attributes of aggregation type. The aggregates are create in place and cannot be as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est attribute to return unset. This is also if aggregate. You can't use set attribute for unset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FA3-FD97-450A-8D0E-5B61F9C75C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Attribute Value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and accessing attribut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efined_type[] selec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ttr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Type = p.testAttribute(attr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 (iTyp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  ... // un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Object o = p.get_object(attr);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   int i = p.get_int(attr);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double r = p.get_double(attr);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verse attributes the domain where to search must be given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main is local SdaiModel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Inverse_attribute ia = ...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inverses = get_inverse(ia, 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DB0-5DC2-435C-8FE7-3C75EB6E72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ing Explicit Attribute Values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double, int, Object,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1, 5.7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2, 123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3, "xxx"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4, entity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set, they are only created in place. Only one usage of aggregates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plicit (mandatory) attribute can be unse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unsetAttributeValue(att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and inverse attributes are read-on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xplicit attributes redeclared as de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543-4096-4727-8609-B439F454341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tute name is part of the access metho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arameter specifies the type of the Java Interface; this allows to solve name conflicts, alw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 + ca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Alph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testA1(EAlpha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Kappa getA1(EAlpha typ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A1(EAlpha type, EKappa valu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unsetA1(EAlph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CAlpha implements EAlpha {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usedinA1(EAlpha type, EKappa p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, AEntity resul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EAttribute attributeA1(EAlpha type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Sigm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ota createS0(ESigm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1C5-E974-4AB5-9A53-76CB3ECB7D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that the attribute is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al parameters are added to distinguish overloaded methods for different valu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 is similar to the part21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 cases are numbered.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actual type (0-unset, 1-entity, 2, 3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ameter for simple entity types (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s type is added  (select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arameter for nested selecting of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elect2, select3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016-92BC-46D4-8206-5051FB5A50B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rface EEpsilon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stants and methods for SELECT attribute: e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hi 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si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Chi = 4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Tau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Xi = 6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ie = 7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estE1(EEpsilon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ntity getE1(EEpsilon type) ; // case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ntity getE1(EEpsilon type, EPhi node1); // case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Entity getE1(EEpsilon type, EPsi node1); // case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double getE1(EEpsilon type, EChi node1); // case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Tau node1); // case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Xi node1); // case 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Pie node1); // case 7 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ADB-703D-4156-9A7E-902EB1C310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erse Entity Instance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EAttribute definition (dictionary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e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AttributeDefinition("attr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dependent Bound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, INTEGER, or BINARY valu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ound = p.getAttributeValueBound(e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comparis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 == p2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comparison as defined in EXPRESS (logical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p1.compareValues(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alue comparison (non-recursive, shallow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compareValuesBoolean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3F4-78FF-4BBF-B7C4-5DFBB78C63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-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191-B4B8-4656-A170-BD4762093C8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nce Identifiers / Persistent Lab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ntity instance has an unchangeable persistent label which is assigned during its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bel = p.getPersistentLab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use part21 type instance identifiers for th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#" + positive 63 bit number, e.g. "#1234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ensures that a persistent label is used only once within 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an entity instance within a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 = r.getSessionIdentifier("#123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ring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escr = p.get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part21Line = p.to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6DE-8E7D-471C-B16D-911D4648D0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n entity instance contain a Entity Data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Kind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 instanceof ECartesian_point.class){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ntity instance exactly of a particular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Instance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getClass()== CCartesian_point.class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p.getInstanceTyp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p.getClas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named_tpes, like EXPRESS TypeOf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med_type resul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DataTypes(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422-F609-4013-8990-25E838B4C7F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tity instances of the dictionary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p1, 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if one is a subtype of the othe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SubtypeOf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entities from different schema equivale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DomainEquivalentWith(p2) {...}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ed by SDAI because short-fo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new Complex Entity 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_definition a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.getComplexEntityDefinition(aed,sd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ac[] = { EBbb.class, ECcc.class }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s.getComplexEntityDefinition(a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EDE-98C2-4624-9861-0225F450657B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ng Entity Instances with App.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a model is active, it's entity instances can be associated with application specific data of any 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is responsible for the data, not J-SDAI. The association is lost when access ends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... ; // from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Temp(o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p.getTem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lace to exchange entity insta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Entity ai = s. getClipboard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clear, add, remove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DD6-E7A1-4C10-9267-44B6C1D5C8C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users = new AEntit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rs(domain, 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of a particular role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role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din(role,domain,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oles by which this instance is referenc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 result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Roles(domain, 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C67-1E49-4382-849B-0B2FBF72BB6C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Instance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 of the attributes and rules of a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WhereRule(EWhere_rule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quiredExplicitAttributesAssigned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ExplicitAttributesReferenc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InverseAttribut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Size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Uniquenes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rrayNotOptional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String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alPrecision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Binary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89D-8378-49F8-A5DD-AF8C31ECC7D9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Interface and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its all: SET, BAG, LIST or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implemented by all aggregate classes excep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(A) and nested Aggregates (Aa...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aggregates for primitive typ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inary, Aa_binary, Aaa_binar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oolean, Aa_boolean, Aaa_boolea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double, Aa_double, Aaa_dou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numeration, Aa_enumeration, Aaa_enum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integer, Aa_integer, Aaa_integ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, Aa_string, Aaa_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B5B-5C20-40B3-879B-6206C831BA25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ggregate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s need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needed) 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treme cases also nest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members of different type by overloaded methods, similar to part21 enco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e select for early binding attribut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F48-A0E5-44B4-8227-A3599135DA5A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erating and indexing Aggre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bers of an aggregate can be accessed either by an iterator or by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nd RW access with SdaiIterato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Iterator iter = agg.createIterat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CurrentMember(i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ccess by index for all types, RW only for LIST and ARRA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98B-E4DB-4D9D-B67E-8BB635E7A7FA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instance attribute (late and early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= p.createAttrib1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ggregat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sCurrentMe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f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Un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ggreg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ax = new AXxx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daiModel am = new ASdaiMod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357-25AA-4FC3-934E-E82FCFB8B5E4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8:39:59Z</dcterms:created>
  <dc:creator>Lothar</dc:creator>
  <dc:description/>
  <dc:language>en-US</dc:language>
  <cp:lastModifiedBy>Lothar</cp:lastModifiedBy>
  <cp:lastPrinted>2000-01-21T19:33:35Z</cp:lastPrinted>
  <dcterms:modified xsi:type="dcterms:W3CDTF">2000-01-29T12:11:43Z</dcterms:modified>
  <cp:revision>80</cp:revision>
  <dc:subject/>
  <dc:title>J-SDAI the Synergy of STEP and JavaTM technology</dc:title>
</cp:coreProperties>
</file>