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0B5-7161-4148-93ED-8449814A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24C-2743-4C3C-9297-5EBE47B7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BD0-076E-4FB9-86BF-267159E0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BC3-0E16-4837-99ED-3951C289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AA5-3113-43B7-9C9A-172D5ED2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AFD-E180-44E2-86BF-B04C95F8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27B-57EF-4B68-B5ED-7E3830F8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5AB-CF9F-4617-85CE-A804617C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29A-8B4D-4C0F-BF67-A1058302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E85-22F9-4013-BFAC-7A4EFAD6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FA3-5D8B-47C9-8C0A-9727A86A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5BA-3614-4EDA-98DA-32FBB253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4E77-9347-4541-9334-FE0D82421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work for CAD/CAM/PDM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55400" y="5943600"/>
            <a:ext cx="655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va and all Java-based trademarks and logos are trademarks or registered trademark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n Microsystems, Inc. in the United States and other countri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DAI is a trademark of LKSoftWare Gmb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560" y="4267080"/>
            <a:ext cx="34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thar Klei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KSoftWare Gmb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lksof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sdai_logo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505320" cy="966960"/>
          </a:xfrm>
          <a:prstGeom prst="rect">
            <a:avLst/>
          </a:prstGeom>
          <a:ln w="0">
            <a:noFill/>
          </a:ln>
        </p:spPr>
      </p:pic>
      <p:pic>
        <p:nvPicPr>
          <p:cNvPr id="45" name="LKSoftLogo1" descr=""/>
          <p:cNvPicPr/>
          <p:nvPr/>
        </p:nvPicPr>
        <p:blipFill>
          <a:blip r:embed="rId2"/>
          <a:stretch/>
        </p:blipFill>
        <p:spPr>
          <a:xfrm>
            <a:off x="838080" y="4495680"/>
            <a:ext cx="2286000" cy="854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4840" y="3397320"/>
            <a:ext cx="84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ynergy of STEP and Jav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 Data Storage and Ex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hange by file, stream or simi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-I (part12, outd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ear Text Encoding - "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hysical Fi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" - part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28 (X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 specific, e.g. J-SDAI binary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 access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or object oriented data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D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 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4F84-53DF-47ED-B045-B917F93C11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 Access R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aggregates are RO. See the special operations to modify them. Exception when create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Repository, ASchemaInstanc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, AEntityExt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Model.getInstances(...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Model.getExactInstances(...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tityExtent.getInstance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data in the special "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stemReposito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 repository containing dictionary and mapping data is read-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es in application data is RW if RW-transaction and RW model access is st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 Persistent 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ggregates are always R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D63-2493-4E28-A7A3-E0D8153D4B00}" type="slidenum">
              <a:t>10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"/>
          <p:cNvGraphicFramePr/>
          <p:nvPr/>
        </p:nvGraphicFramePr>
        <p:xfrm>
          <a:off x="76320" y="1185840"/>
          <a:ext cx="8991360" cy="45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85840"/>
                    <a:ext cx="899136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: General and Bou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939-B422-476C-A066-65CAC196FA6F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: Reading and Writing me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152280" y="1092240"/>
          <a:ext cx="8991720" cy="41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92240"/>
                    <a:ext cx="89917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566-4EF3-4B92-9C8E-4FF25F27FDCA}" type="slidenum">
              <a:t>10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: add, remove, create me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152280" y="925560"/>
          <a:ext cx="8839440" cy="50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25560"/>
                    <a:ext cx="883944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FD8-8188-448E-9974-6AB65024A8AD}" type="slidenum">
              <a:t>10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: spe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52280" y="1741320"/>
          <a:ext cx="8915400" cy="31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41320"/>
                    <a:ext cx="891540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5E5F-366B-4D34-B224-69B0CE6A8778}" type="slidenum">
              <a:t>10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where to sear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daiReposi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chemaInst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daiMod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Sdai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: attribute.name,  {...}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: =, &lt;=, =&gt;, &lt;, &gt;, :=:, :&lt;&gt;:, IN, LIK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r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added to AEntity, return 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implemented in J-SDAI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356-924D-463A-BAAF-C4492DA9A642}" type="slidenum">
              <a:t>10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ort / Export of ISO 10303-21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ear Text Encoding of the Exchang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Corrigendum (TC1) fix select bu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ndment extends for multiple data s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part21 and SDAI are not 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mplete Java Binding defines a mapping based on SdaiRepository. A mapping to SchemaInstance would also be a good altern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 is more powerful. Import is always possible but export is restricted because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schema_instance (domain, valid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into other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99D-F3D6-4D6B-9BCB-775D1AD1233C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ping between part21 and SD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2280" y="2425680"/>
            <a:ext cx="88394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Exchange Struc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Reposi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_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Repository.nam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-S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Mod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Lab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73D6-B9B2-4D8D-8066-CFF0FB0BF89A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228600" y="816120"/>
            <a:ext cx="8915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file_descrip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: LIST [1:?] OF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_level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"2.1" or "3.1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_ENTI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file_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_stamp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 : LIST [ 1 : ? ] OF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: LIST[ 1 : ? ] OF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sor_version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preProcessor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ting_system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originating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: STRING (256)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7360"/>
                <a:tab algn="l" pos="6280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_ENTIT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7200" y="763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ository / part21 attrib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FF9-8C90-4B0C-9B38-957F1631E9A9}" type="slidenum">
              <a:t>10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ository / part21 attrib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2280" y="1066680"/>
            <a:ext cx="883944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getAuthorization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Authorization(java.lang.String 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string getAutho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string getDescripti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string getOrganizati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getOriginating_syste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Originating_system(java.lang.String valu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 getPreprocessor_versi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Preprocessor_version(java.lang.String 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r" pos="4568760"/>
                <a:tab algn="l" pos="4956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ressShortNames(), allowShortName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7FC-59AA-4254-8C71-E732DB692045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essing STEP Data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lass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representation does not reflect the EXPRESS structure. For data exchange information is mapped during export/import -&gt; loss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representation fits with with the EXPRESS structure. Entity instances and aggregates are represented as objects -&gt; information is p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directly based o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DAI conform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 similar, but not conform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AF2-3146-4259-8A86-0FB19C2BB0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Prin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530280" y="990720"/>
            <a:ext cx="7686720" cy="2928600"/>
            <a:chOff x="530280" y="990720"/>
            <a:chExt cx="7686720" cy="2928600"/>
          </a:xfrm>
        </p:grpSpPr>
        <p:graphicFrame>
          <p:nvGraphicFramePr>
            <p:cNvPr id="737" name=""/>
            <p:cNvGraphicFramePr/>
            <p:nvPr/>
          </p:nvGraphicFramePr>
          <p:xfrm>
            <a:off x="1143000" y="1295280"/>
            <a:ext cx="7074000" cy="110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1295280"/>
                      <a:ext cx="7074000" cy="110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9" name=""/>
            <p:cNvSpPr/>
            <p:nvPr/>
          </p:nvSpPr>
          <p:spPr>
            <a:xfrm>
              <a:off x="1068120" y="2362320"/>
              <a:ext cx="6153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10=SCHEMA_DEFINITION('test_schema',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20=ENTITY_DEFINITION('A', ..., #10, 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30=ENTITY_DEFINITION('B', ..., #10, 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40=ATTRIBUTE('x', ..., #30, 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0280" y="990720"/>
              <a:ext cx="28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ta model and dat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601560" y="4038480"/>
            <a:ext cx="6027840" cy="2044800"/>
            <a:chOff x="601560" y="4038480"/>
            <a:chExt cx="6027840" cy="2044800"/>
          </a:xfrm>
        </p:grpSpPr>
        <p:graphicFrame>
          <p:nvGraphicFramePr>
            <p:cNvPr id="742" name=""/>
            <p:cNvGraphicFramePr/>
            <p:nvPr/>
          </p:nvGraphicFramePr>
          <p:xfrm>
            <a:off x="2362320" y="4343400"/>
            <a:ext cx="4267080" cy="111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62320" y="4343400"/>
                      <a:ext cx="4267080" cy="11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4" name=""/>
            <p:cNvSpPr/>
            <p:nvPr/>
          </p:nvSpPr>
          <p:spPr>
            <a:xfrm>
              <a:off x="601560" y="4038480"/>
              <a:ext cx="542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ication model (test_schema) and dat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44080" y="5257800"/>
              <a:ext cx="175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80=A( 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90=B(#80)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D06-37D2-4626-8708-221D2C6C637E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Meta model of the EXPRESS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 representation of EXPRESS sche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DAI_dictionary_data itself can be represented as a population of the SDAI_dictionary_sch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kernel part of J-SDAI in packa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sdai.dictio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te B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tity and attribute ac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J-SDAI  the SDAI_dictionary_schema is slightly modified for explicit support of short form sche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DAI_dictionary_schema will probably be substituted by a unified Semantic Meta Model for EXPRESS when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C5D-A96E-48C8-9004-303D24E1D525}" type="slidenum">
              <a:t>1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Origi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380880" y="1219320"/>
          <a:ext cx="8534520" cy="33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534520" cy="33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"/>
          <p:cNvSpPr/>
          <p:nvPr/>
        </p:nvSpPr>
        <p:spPr>
          <a:xfrm>
            <a:off x="289080" y="5029200"/>
            <a:ext cx="84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_definitions cannot be explicitly interfaced into other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F33-C905-4BB9-B26A-C27034861BD9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Modifi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228600" y="1025640"/>
          <a:ext cx="8686800" cy="48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25640"/>
                    <a:ext cx="8686800" cy="48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AB6-F2CC-49D3-88EE-FC70F5BC15CC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Decla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533520" y="914400"/>
          <a:ext cx="807696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4400"/>
                    <a:ext cx="807696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8BD4-FF37-4636-A886-46EF8B2AC0D9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8" name=""/>
          <p:cNvGraphicFramePr/>
          <p:nvPr/>
        </p:nvGraphicFramePr>
        <p:xfrm>
          <a:off x="685800" y="101520"/>
          <a:ext cx="7953480" cy="607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1520"/>
                    <a:ext cx="7953480" cy="60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30B-980C-4E3D-AC08-E9DB6C1A4079}" type="slidenum">
              <a:t>1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0" name=""/>
          <p:cNvGraphicFramePr/>
          <p:nvPr/>
        </p:nvGraphicFramePr>
        <p:xfrm>
          <a:off x="228600" y="380880"/>
          <a:ext cx="8763120" cy="540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80880"/>
                    <a:ext cx="8763120" cy="54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DB6-2780-4D8C-828B-799769B78556}" type="slidenum">
              <a:t>1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2" name=""/>
          <p:cNvGraphicFramePr/>
          <p:nvPr/>
        </p:nvGraphicFramePr>
        <p:xfrm>
          <a:off x="762120" y="304920"/>
          <a:ext cx="7619760" cy="57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61976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072-135B-4005-8A76-A72E3E256A61}" type="slidenum">
              <a:t>1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4" name=""/>
          <p:cNvGraphicFramePr/>
          <p:nvPr/>
        </p:nvGraphicFramePr>
        <p:xfrm>
          <a:off x="838080" y="0"/>
          <a:ext cx="7543800" cy="61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7543800" cy="61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17F-0FE1-4417-9191-60F79235BBBB}" type="slidenum">
              <a:t>1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6" name=""/>
          <p:cNvGraphicFramePr/>
          <p:nvPr/>
        </p:nvGraphicFramePr>
        <p:xfrm>
          <a:off x="1066680" y="987480"/>
          <a:ext cx="723924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87480"/>
                    <a:ext cx="723924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7D3-0CCA-4AB7-8D5E-8DC3A72FA234}" type="slidenum">
              <a:t>1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43000" y="16765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16765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8" idx="0"/>
            <a:endCxn id="66" idx="2"/>
          </p:cNvCxnSpPr>
          <p:nvPr/>
        </p:nvCxnSpPr>
        <p:spPr>
          <a:xfrm flipV="1">
            <a:off x="2133360" y="2590560"/>
            <a:ext cx="108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71" name=""/>
          <p:cNvCxnSpPr>
            <a:stCxn id="69" idx="0"/>
            <a:endCxn id="67" idx="2"/>
          </p:cNvCxnSpPr>
          <p:nvPr/>
        </p:nvCxnSpPr>
        <p:spPr>
          <a:xfrm flipV="1">
            <a:off x="6933960" y="2590560"/>
            <a:ext cx="108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72" name=""/>
          <p:cNvCxnSpPr>
            <a:stCxn id="69" idx="1"/>
            <a:endCxn id="68" idx="3"/>
          </p:cNvCxnSpPr>
          <p:nvPr/>
        </p:nvCxnSpPr>
        <p:spPr>
          <a:xfrm rot="10800000">
            <a:off x="3123360" y="518076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73" name=""/>
          <p:cNvCxnSpPr>
            <a:stCxn id="67" idx="1"/>
            <a:endCxn id="66" idx="3"/>
          </p:cNvCxnSpPr>
          <p:nvPr/>
        </p:nvCxnSpPr>
        <p:spPr>
          <a:xfrm rot="10800000">
            <a:off x="3123360" y="213300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6325920" y="19810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5560" y="1781280"/>
            <a:ext cx="193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_dic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6760" y="4952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53200" y="495288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4000" y="48006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55040" y="5257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3640" y="175248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37600" y="22096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1880" y="7920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cies of the STE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ption and Implementation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222-2548-46F2-AC13-10344995745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_dictionary_schema: Summe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fulfills the primary needs of SDAI (late bin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"declaration" entities allows full short form support, needed for interoperable 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sub-super type constrai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mpatible to E-Amend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lacks modeling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ions, statements, constants and variab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for the body of functions and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ting of entity data type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entity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types should be represented as constant instances, not as ent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536-579F-4E9F-9FCD-81FCFE089417}" type="slidenum">
              <a:t>1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6097680" y="3352680"/>
            <a:ext cx="166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45160" y="3276720"/>
            <a:ext cx="191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124080" y="3886200"/>
            <a:ext cx="25146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429000" y="33066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638680" y="3048120"/>
            <a:ext cx="2514600" cy="1676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87840" y="2787480"/>
            <a:ext cx="2644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DAI, part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38080" y="2057400"/>
            <a:ext cx="7696440" cy="3429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73400" y="1812960"/>
            <a:ext cx="6546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ping Extensions of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J-SD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691440" y="382896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3808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 of STEP Application Protoc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1AE-D96A-463E-9155-AD611B0721D2}" type="slidenum">
              <a:t>1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Schema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Operations, Histo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pping extensions of the SDAI_dictionary_schema and associated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11/N0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AI Mapping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11/N05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AI Mapping Schemas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11/N06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for the next version of SD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G11/N0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 Operations for the SD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nver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&lt;=&gt; ARM &lt;=&gt; EPIST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&lt;=&gt; EPIS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192E-5A17-4805-ABBC-8A09FB86ED6C}" type="slidenum">
              <a:t>1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1143000" y="16765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943600" y="16765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14300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94360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6" name=""/>
          <p:cNvCxnSpPr>
            <a:stCxn id="784" idx="0"/>
            <a:endCxn id="782" idx="2"/>
          </p:cNvCxnSpPr>
          <p:nvPr/>
        </p:nvCxnSpPr>
        <p:spPr>
          <a:xfrm flipV="1">
            <a:off x="2133360" y="2590560"/>
            <a:ext cx="108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787" name=""/>
          <p:cNvCxnSpPr>
            <a:stCxn id="785" idx="0"/>
            <a:endCxn id="783" idx="2"/>
          </p:cNvCxnSpPr>
          <p:nvPr/>
        </p:nvCxnSpPr>
        <p:spPr>
          <a:xfrm flipV="1">
            <a:off x="6933960" y="2590560"/>
            <a:ext cx="108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788" name=""/>
          <p:cNvCxnSpPr>
            <a:stCxn id="785" idx="1"/>
            <a:endCxn id="784" idx="3"/>
          </p:cNvCxnSpPr>
          <p:nvPr/>
        </p:nvCxnSpPr>
        <p:spPr>
          <a:xfrm rot="10800000">
            <a:off x="3123360" y="518076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789" name=""/>
          <p:cNvCxnSpPr>
            <a:stCxn id="783" idx="1"/>
            <a:endCxn id="782" idx="3"/>
          </p:cNvCxnSpPr>
          <p:nvPr/>
        </p:nvCxnSpPr>
        <p:spPr>
          <a:xfrm rot="10800000">
            <a:off x="3123360" y="213300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790" name=""/>
          <p:cNvSpPr/>
          <p:nvPr/>
        </p:nvSpPr>
        <p:spPr>
          <a:xfrm>
            <a:off x="6325920" y="19810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195560" y="1781280"/>
            <a:ext cx="193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_dic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476760" y="4952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53200" y="495288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204000" y="48006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955040" y="5257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03640" y="175248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737600" y="22096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31880" y="79200"/>
            <a:ext cx="78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cies of the STE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ption and Implementation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410-C564-4C23-B0AC-6A3CCEF578C8}" type="slidenum">
              <a:t>1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143000" y="1447920"/>
            <a:ext cx="19810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943600" y="1600200"/>
            <a:ext cx="1981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143000" y="4648320"/>
            <a:ext cx="1981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94360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stCxn id="801" idx="0"/>
            <a:endCxn id="799" idx="2"/>
          </p:cNvCxnSpPr>
          <p:nvPr/>
        </p:nvCxnSpPr>
        <p:spPr>
          <a:xfrm flipV="1">
            <a:off x="2133360" y="2819160"/>
            <a:ext cx="1080" cy="1829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804" name=""/>
          <p:cNvCxnSpPr>
            <a:stCxn id="802" idx="0"/>
            <a:endCxn id="800" idx="2"/>
          </p:cNvCxnSpPr>
          <p:nvPr/>
        </p:nvCxnSpPr>
        <p:spPr>
          <a:xfrm flipV="1">
            <a:off x="6933960" y="2666520"/>
            <a:ext cx="1080" cy="2057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805" name=""/>
          <p:cNvCxnSpPr>
            <a:stCxn id="802" idx="1"/>
            <a:endCxn id="801" idx="3"/>
          </p:cNvCxnSpPr>
          <p:nvPr/>
        </p:nvCxnSpPr>
        <p:spPr>
          <a:xfrm rot="10800000">
            <a:off x="3123360" y="518076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806" name=""/>
          <p:cNvCxnSpPr>
            <a:stCxn id="800" idx="1"/>
            <a:endCxn id="799" idx="3"/>
          </p:cNvCxnSpPr>
          <p:nvPr/>
        </p:nvCxnSpPr>
        <p:spPr>
          <a:xfrm rot="10800000">
            <a:off x="3123360" y="213300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807" name=""/>
          <p:cNvSpPr/>
          <p:nvPr/>
        </p:nvSpPr>
        <p:spPr>
          <a:xfrm>
            <a:off x="6323760" y="1752480"/>
            <a:ext cx="130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181160" y="1447920"/>
            <a:ext cx="196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_dictio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sch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_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476760" y="49528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63080" y="4800600"/>
            <a:ext cx="21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204000" y="48006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955040" y="5257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203640" y="175248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737600" y="220968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3E6-BC74-4423-87F6-ADB89DBCC7F5}" type="slidenum">
              <a:t>1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1143000" y="15238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943600" y="15238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143000" y="457200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943600" y="457200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7" idx="0"/>
            <a:endCxn id="815" idx="2"/>
          </p:cNvCxnSpPr>
          <p:nvPr/>
        </p:nvCxnSpPr>
        <p:spPr>
          <a:xfrm flipV="1">
            <a:off x="2133360" y="2437560"/>
            <a:ext cx="108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820" name=""/>
          <p:cNvCxnSpPr>
            <a:stCxn id="818" idx="0"/>
            <a:endCxn id="816" idx="2"/>
          </p:cNvCxnSpPr>
          <p:nvPr/>
        </p:nvCxnSpPr>
        <p:spPr>
          <a:xfrm flipV="1">
            <a:off x="6933960" y="2437560"/>
            <a:ext cx="108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821" name=""/>
          <p:cNvCxnSpPr>
            <a:stCxn id="818" idx="1"/>
            <a:endCxn id="817" idx="3"/>
          </p:cNvCxnSpPr>
          <p:nvPr/>
        </p:nvCxnSpPr>
        <p:spPr>
          <a:xfrm rot="10800000">
            <a:off x="3123360" y="502848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822" name=""/>
          <p:cNvCxnSpPr>
            <a:stCxn id="816" idx="1"/>
            <a:endCxn id="815" idx="3"/>
          </p:cNvCxnSpPr>
          <p:nvPr/>
        </p:nvCxnSpPr>
        <p:spPr>
          <a:xfrm rot="10800000">
            <a:off x="3123360" y="1980360"/>
            <a:ext cx="2820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823" name=""/>
          <p:cNvSpPr/>
          <p:nvPr/>
        </p:nvSpPr>
        <p:spPr>
          <a:xfrm>
            <a:off x="6039720" y="1600200"/>
            <a:ext cx="188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 (X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181160" y="1628640"/>
            <a:ext cx="196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tionary_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_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476760" y="48006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063080" y="4648320"/>
            <a:ext cx="212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AI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04000" y="464832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955040" y="51055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03280" y="160020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816800" y="2057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85920" y="212760"/>
            <a:ext cx="180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926840" y="152280"/>
            <a:ext cx="96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p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SC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347320" y="15685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66680" y="76320"/>
            <a:ext cx="21337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2742840" y="91404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133720" y="990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1371240" y="914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3200040" y="5335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81440" y="10526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20400" y="105264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35320" y="99072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7924320" y="1752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792468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23360" y="3048120"/>
            <a:ext cx="125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b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 + A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 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384760" y="202572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772400" y="243828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33200" y="3124080"/>
            <a:ext cx="143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ML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91440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31840" y="2590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352680" y="5791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434040" y="5867280"/>
            <a:ext cx="22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 &lt;=&gt; AIM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352680" y="5791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352680" y="6248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9D8-1123-4F50-B282-9599CFD3E709}" type="slidenum">
              <a:t>1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4" name=""/>
          <p:cNvGraphicFramePr/>
          <p:nvPr/>
        </p:nvGraphicFramePr>
        <p:xfrm>
          <a:off x="0" y="996840"/>
          <a:ext cx="9144000" cy="48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6840"/>
                    <a:ext cx="91440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322-C1A9-4AC3-BB8E-1867F9EE9EB5}" type="slidenum">
              <a:t>1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6" name=""/>
          <p:cNvGraphicFramePr/>
          <p:nvPr/>
        </p:nvGraphicFramePr>
        <p:xfrm>
          <a:off x="609480" y="-44280"/>
          <a:ext cx="8305920" cy="63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-44280"/>
                    <a:ext cx="830592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4F2-6F34-4F2D-BC89-E92B1424FFFF}" type="slidenum">
              <a:t>1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8" name=""/>
          <p:cNvGraphicFramePr/>
          <p:nvPr/>
        </p:nvGraphicFramePr>
        <p:xfrm>
          <a:off x="1447920" y="457200"/>
          <a:ext cx="6324480" cy="53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57200"/>
                    <a:ext cx="632448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0F9-48A5-44BF-9503-EE838C1A4811}" type="slidenum">
              <a:t>1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ping Operation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ow to work on AIM instances with ARM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dictionary data for ARM, AIM and mapping data =&gt; late-bind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arly binding also possible, but many classes and co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opera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instances which fits to a given ARM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if instance fits to an ARM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ARM at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ARM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op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IM instances for ARM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/unset ARM attribute values on AIM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methods are defined in SdaiModel and E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2007-019C-43DC-82B8-2F7BDC2284E0}" type="slidenum">
              <a:t>1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ndar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ess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erf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DAI, ISO 10303-2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licati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face (API) for STEP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ing Language binding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 (cancele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 (to be cancele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te Jav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O 10303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weight 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42C-74F1-49FD-AE01-6BE549F6D1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ping Operation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care of all constraints in the reference path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an ignore the reference path colu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 higher level API on top of the lower level SD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need to know only column 1 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cation 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2 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M el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limited to the quality of the Mapping T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ad-operations (AIM to ARM) fi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lutions, either 0, 1 or many. Often not only one sol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are needed to cover Conformance Classes and top - entities from where to start searching; e.g. product_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AA0-15E2-4B37-A0A9-A1BA5073C11F}" type="slidenum">
              <a:t>1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pping Operation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for testing and accessing 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ttribute armAttribute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dataDomain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mappingDomain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ttribute_mapping attAlternative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testSourceAttribute(armAttribut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Domain, mappingDoma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attAlternatives != null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 o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getMappedAttribute(armAttribut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Domain, mappingDoma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85D-72BE-4F58-97BD-88988CA93E67}" type="slidenum">
              <a:t>1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mory Limi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SDAI stores the persistent information of repositories and models on 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ents of a closed repository is stored on disk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ents of an in-active SdaiModel (no RO/RW access) is also stored on disk o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pening a repository its models and SchemaInstances are loaded into RA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ctivating a model in RO or RW access mode its entity instances are loaded into 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124-8926-4363-A173-50D09E1C11CE}" type="slidenum">
              <a:t>1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mory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vailable RAM limits the number of available entity instances at a time. Consequences for practical wor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't make SdaiModels too big. Several of them should always fit into 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-active models when not needed (end a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, don't keep pointers to objects you don't n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hem to null when no longer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data fields in classes - define as many fields as possible in methods (st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DFF-B5EE-4FAC-82D6-7C489229231A}" type="slidenum">
              <a:t>1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128 MByte machine can typically handle 250,000 entity instances or mo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ultaneous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sufficient for many applications. The problem is more that the STEP-APs and IRs give no guidance how to use SdaiModels (devide and conqu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an A-BREP into on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mory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C70-1C61-4609-AFE8-901BC90AD643}" type="slidenum">
              <a:t>1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Event and -Listener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may want to be informed if an SDAI object is changed either through local activities or from remote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of clas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form on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 classes implementing the interfa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send out Sdai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classes implement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Listen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receive SdaiEvents when having registered a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tSour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listen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F29-03B0-4B99-B4F7-8F2657F090B4}" type="slidenum">
              <a:t>1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Event and -Listener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(J-SDAI 2.0) the interfa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mplemen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Ent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basis for all application and dictionary insta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future versions we plan to hav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t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implemen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kin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ggre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chema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F1A-CA80-4EA8-B678-43E90392EBA7}" type="slidenum">
              <a:t>1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Event and -Listener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Ev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form on these modif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_MOD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_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EBER_RE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_DATA_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daiEvent types may be considered for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Event and SdaiListener define an information system on pur SDAI basis - it is on persistend data. It can be a replacement for other Java APIs such as InfoBus for this specific 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493-95F7-49C5-8871-942D42BB3E38}" type="slidenum">
              <a:t>1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possible part27 implement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loading of only the needed entity instances from disk/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ing unlimited number of entity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cannot know which data will be needed. Therefor entity instances are only loaded on request, e.g.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 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. This will significantly slow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like SdaiModel.getInstances or EntityExtent.getInstances are not useful. How to start initially (-&gt; que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very get Attribute access if is checked if this instance is already loa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EC3-4DDA-40C3-858E-04A7927978B7}" type="slidenum">
              <a:t>1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473400" y="685800"/>
            <a:ext cx="766512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RESS supports modular data modeling by interfacing elements from other sch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o a local one. Elements are interfaced e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plicit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FERENCE 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 FR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licit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hen used by explicitly interfaced el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in the context of a schema only locally declared entities or entities interfa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USE FROM can be individually instantiated. Instances of entities which are interfac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ther implicitly or with REFERENCE FROM are only allowed if they are refere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locally defined or USE FROM entity insta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day STEP consists of 66 schemas in the Integrated Resources (IR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 Interpreted Construct (AIC). While the IR schemas interfaces elements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IRs with REFERENCE FROM the AIC do this with USE FR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ry Application protocols (AP) have a short form and a long form schem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hort form schema interfaces elements from  the integrated and interpre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mas with USE FROM. In the long form schema all interfaced elements are resolv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global schema. So far STEP implementations are based on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ng-form schema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P-interoperabi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onent based programm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be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age of the AP short form is essential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50640" y="90360"/>
            <a:ext cx="759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RESS support for Modularization and it’s usage in STEP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6683-4645-4D34-867C-BA903199F213}" type="slidenum">
              <a:t>1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ava programming language binding to the SDA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Internet/Intranet exten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published as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hnic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cifications (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lit into 2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O 10303-27: 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O 10303-29: lightweight + EJ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F5B-9D2B-45B5-86C4-DDE2D21E3D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4921200" y="76320"/>
            <a:ext cx="35654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21200" y="685800"/>
            <a:ext cx="3565440" cy="3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21200" y="1295280"/>
            <a:ext cx="3565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21200" y="1905120"/>
            <a:ext cx="3565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21200" y="2514600"/>
            <a:ext cx="3565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921200" y="3124080"/>
            <a:ext cx="3565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21200" y="4343400"/>
            <a:ext cx="3565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21200" y="4952880"/>
            <a:ext cx="3565440" cy="3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ced_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21200" y="5867280"/>
            <a:ext cx="3581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921200" y="763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47400" y="7632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_context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997520" y="7002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921200" y="13096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definition_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921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921200" y="2529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definition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997520" y="31384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pe_definition_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920120" y="434340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ced_brep_shape_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921200" y="58053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tesia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48480" y="129528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definit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54240" y="252900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property_definit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47760" y="3138480"/>
            <a:ext cx="39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_property_representation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50640" y="42814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C 5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51000" y="48006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C5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48120" y="5408640"/>
            <a:ext cx="258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metry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pology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metric_model_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6" name=""/>
          <p:cNvCxnSpPr>
            <a:stCxn id="882" idx="2"/>
            <a:endCxn id="883" idx="0"/>
          </p:cNvCxnSpPr>
          <p:nvPr/>
        </p:nvCxnSpPr>
        <p:spPr>
          <a:xfrm flipV="1" rot="10800000">
            <a:off x="6703200" y="471240"/>
            <a:ext cx="1080" cy="214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oval" w="lg"/>
          </a:ln>
        </p:spPr>
      </p:cxnSp>
      <p:cxnSp>
        <p:nvCxnSpPr>
          <p:cNvPr id="907" name=""/>
          <p:cNvCxnSpPr>
            <a:stCxn id="883" idx="2"/>
            <a:endCxn id="884" idx="0"/>
          </p:cNvCxnSpPr>
          <p:nvPr/>
        </p:nvCxnSpPr>
        <p:spPr>
          <a:xfrm flipV="1" rot="10800000">
            <a:off x="6703200" y="1080720"/>
            <a:ext cx="1080" cy="2149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oval" w="lg"/>
          </a:ln>
        </p:spPr>
      </p:cxnSp>
      <p:cxnSp>
        <p:nvCxnSpPr>
          <p:cNvPr id="908" name=""/>
          <p:cNvCxnSpPr>
            <a:stCxn id="885" idx="0"/>
            <a:endCxn id="884" idx="2"/>
          </p:cNvCxnSpPr>
          <p:nvPr/>
        </p:nvCxnSpPr>
        <p:spPr>
          <a:xfrm flipV="1">
            <a:off x="6703560" y="16758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909" name=""/>
          <p:cNvCxnSpPr>
            <a:stCxn id="885" idx="2"/>
            <a:endCxn id="886" idx="0"/>
          </p:cNvCxnSpPr>
          <p:nvPr/>
        </p:nvCxnSpPr>
        <p:spPr>
          <a:xfrm flipV="1" rot="10800000">
            <a:off x="6703200" y="228564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oval" w="lg"/>
          </a:ln>
        </p:spPr>
      </p:cxnSp>
      <p:cxnSp>
        <p:nvCxnSpPr>
          <p:cNvPr id="910" name=""/>
          <p:cNvCxnSpPr>
            <a:stCxn id="886" idx="2"/>
            <a:endCxn id="887" idx="0"/>
          </p:cNvCxnSpPr>
          <p:nvPr/>
        </p:nvCxnSpPr>
        <p:spPr>
          <a:xfrm flipV="1" rot="10800000">
            <a:off x="6703200" y="28951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lg" type="oval" w="lg"/>
          </a:ln>
        </p:spPr>
      </p:cxnSp>
      <p:cxnSp>
        <p:nvCxnSpPr>
          <p:cNvPr id="911" name=""/>
          <p:cNvCxnSpPr>
            <a:stCxn id="888" idx="2"/>
            <a:endCxn id="889" idx="0"/>
          </p:cNvCxnSpPr>
          <p:nvPr/>
        </p:nvCxnSpPr>
        <p:spPr>
          <a:xfrm>
            <a:off x="6703560" y="4723920"/>
            <a:ext cx="1080" cy="229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912" name=""/>
          <p:cNvCxnSpPr>
            <a:stCxn id="889" idx="2"/>
            <a:endCxn id="890" idx="0"/>
          </p:cNvCxnSpPr>
          <p:nvPr/>
        </p:nvCxnSpPr>
        <p:spPr>
          <a:xfrm flipH="1" rot="16200000">
            <a:off x="6433920" y="5589000"/>
            <a:ext cx="548280" cy="8640"/>
          </a:xfrm>
          <a:prstGeom prst="bentConnector3">
            <a:avLst>
              <a:gd name="adj1" fmla="val 49802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913" name=""/>
          <p:cNvSpPr/>
          <p:nvPr/>
        </p:nvSpPr>
        <p:spPr>
          <a:xfrm>
            <a:off x="4692600" y="76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692600" y="685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926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69260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6926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692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692600" y="5410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1035000" y="533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103500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035000" y="2895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0350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03500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172880" y="67140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172880" y="196704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172880" y="288144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342080" y="4495680"/>
            <a:ext cx="11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342080" y="5105520"/>
            <a:ext cx="11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921200" y="3733920"/>
            <a:ext cx="3581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1" name=""/>
          <p:cNvCxnSpPr/>
          <p:nvPr/>
        </p:nvCxnSpPr>
        <p:spPr>
          <a:xfrm flipV="1" rot="10800000">
            <a:off x="6749280" y="350496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932" name=""/>
          <p:cNvCxnSpPr/>
          <p:nvPr/>
        </p:nvCxnSpPr>
        <p:spPr>
          <a:xfrm flipV="1" rot="10800000">
            <a:off x="6749280" y="4114440"/>
            <a:ext cx="1080" cy="229320"/>
          </a:xfrm>
          <a:prstGeom prst="bentConnector2">
            <a:avLst/>
          </a:prstGeom>
          <a:ln w="4428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933" name=""/>
          <p:cNvSpPr/>
          <p:nvPr/>
        </p:nvSpPr>
        <p:spPr>
          <a:xfrm>
            <a:off x="4905360" y="3719520"/>
            <a:ext cx="35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pe_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48840" y="3754440"/>
            <a:ext cx="22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resentation-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69260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0350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2880" y="347328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F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7B15-F8D9-4851-A8F9-2E74FDC9A389}" type="slidenum">
              <a:t>1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667080" y="414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lems with short form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41360" y="685800"/>
            <a:ext cx="81662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proposed p21 amendment allows more than one Data-S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Data-Section in a p21 file or an SdaiModel is based on one EXPRESS schema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Data-Section /SdaiModel can contain only instances of entities defined in 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lying schema or of interfaced entities. What to do with AP specific subtyp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lude them from AP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CONNOTATIONAL subtypes (Express V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 foreign subtypes in Data-Section / Sdai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many instances shall a Data-Section / SdaiModel contain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for the application_context_schema typically only 4 instances are nee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with too few instances the overhead of having a separate Data-Section / SdaiModel is too bi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complete assembled product with all shapes can easily consists of several millions of insta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is a practical upper limit of less than one million instances for an SdaiMode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wise working on repositories with billions of instances, referencing each o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ll be hard to implement and inefficient. (Optimal less than 100,000 instances per SdaiMod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idelines are needed for practical / typical sizes of Data Sections / Sdai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Data-Sections / SdaiModel needed for every schema or only for the major on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idelines are needed for which schemas to us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AIC schemas and product_property_representation_schem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 probably not application_context_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630-30A3-4EE3-8D42-EA5085336AE4}" type="slidenum">
              <a:t>1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hot topics from our persp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839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based on EXPRESS short form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makes us a lot of work to get mating sets of all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schemas - and we have to update the ol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(203) for the AICs our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ing the possible complex entity data typ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several leaves. These are those which requi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mapping in a part21 file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ay's STEP schemas allow an astronomic bi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those complexes - but only a few 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ly relevant and are supported by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mapping tables (clause 5.1 of APs)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ormance classes (4.1 of APs) computer rea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E99-7860-4926-A31D-44E3D4CFEB6C}" type="slidenum">
              <a:t>1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: Future SDAI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s of the EXPRESS Amendment and EXPRESS-2 on SD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he EXPRESS-2 semantic Meta-model will influence the SDAI_dictionary_sch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IB 32, the Geometric Programming interface for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SDAI may support Para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DAI can do for the special needs of handling life cycle  information as defined in STEP-AP221, ISO 15926, EPIS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556-F33A-41BD-A3E1-55B6C18CFC29}" type="slidenum">
              <a:t>1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stallation overview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ll now only manual insta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SDAI runs with Java 1.1, but we recommend to use Java 1.2 (Java 2 platform). In future we will move to JDK 1.3 for better complex type support (alternativ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SDAI is an extension of the Java platform. As such its components are installed in the special "ext" director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:\jdk1.2.2\jre\lib\ex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: When following the default installation of JDK1.2.2, two ext directories are created, one for compilation and one for usual prgram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the installing JDK 1.2.2 adjust the Java runtime system to "c:\jdk1.2.2\jr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1D0-5D66-4B5A-B647-CD553BC8ABE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stallation overview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assp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eeded ! Files to install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dai.propert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dai_m.j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dai_lib.j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directo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:\sdairepos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sdaix_ap203book.jar, jsdaix_look_feel.jar, jsdaix_view3d.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D06-1525-4C08-9153-094FEB39903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ckag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la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classes and interfaces for EXPR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diction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ionary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mapp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SXx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schema 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ut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iTerm, Sdai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.be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b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x.view3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-viewer b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x.pdm_bea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DM (p41) b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x.look_fe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L&amp;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4851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sdaix.ap203bo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203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813F-4F13-4E94-8D2F-F1F6E1E4F4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-SDAI implementation fa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% pure Java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written in Java + platform neu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ointers (Java references) for fas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directional between model and entity-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directional for explicit attribute (implicit inverse attribu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link form application level to meta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 and specialized binary forma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istent storage in 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alle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te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ly-bin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ccess for entity type, attributes and aggre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458-0895-461F-8C63-3F263BD3D6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: Basic SDAI Functiona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representation of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cla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writing part21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of inverse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le of SchemaIn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-Interoperability, usage of common data between several A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-binding and the SDAI_dictionary_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1159-B348-4E82-AD03-674A1FE7ED3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DAI Tutorial and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-SDAI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description and implementatio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ESS versus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SDAI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ed SDAI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SDAI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A7CD-1249-40E7-AAC7-2D322A7C28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, Entity Instance, Co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rm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-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not very precis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 Ent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ven miss-le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ity Data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are defined in an EXPRESS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x Entity Data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by an algorithm for a given EXPRESS schema (ABSTRACT, AND, ONEOF, AND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ral le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ter one is often called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lex 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instan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al Complex 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ncomple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 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They exist only in EXPRESS but not in SDAI or Part2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EB51-8019-4FE1-A7AA-C315F88840C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77840" y="2801880"/>
            <a:ext cx="1378080" cy="2521080"/>
            <a:chOff x="177840" y="2801880"/>
            <a:chExt cx="1378080" cy="2521080"/>
          </a:xfrm>
        </p:grpSpPr>
        <p:sp>
          <p:nvSpPr>
            <p:cNvPr id="100" name=""/>
            <p:cNvSpPr/>
            <p:nvPr/>
          </p:nvSpPr>
          <p:spPr>
            <a:xfrm>
              <a:off x="177840" y="2801880"/>
              <a:ext cx="137808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5000" y="28544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7880" y="3260880"/>
              <a:ext cx="91944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5000" y="3305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016000" y="2801880"/>
            <a:ext cx="1378080" cy="2521080"/>
            <a:chOff x="2016000" y="2801880"/>
            <a:chExt cx="1378080" cy="2521080"/>
          </a:xfrm>
        </p:grpSpPr>
        <p:sp>
          <p:nvSpPr>
            <p:cNvPr id="105" name=""/>
            <p:cNvSpPr/>
            <p:nvPr/>
          </p:nvSpPr>
          <p:spPr>
            <a:xfrm>
              <a:off x="2016000" y="2801880"/>
              <a:ext cx="137808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99040" y="2854440"/>
              <a:ext cx="60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46400" y="3260880"/>
              <a:ext cx="91764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03520" y="3305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46400" y="3948120"/>
              <a:ext cx="91764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03520" y="3992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54520" y="2801880"/>
            <a:ext cx="1377720" cy="2521080"/>
            <a:chOff x="3854520" y="2801880"/>
            <a:chExt cx="1377720" cy="2521080"/>
          </a:xfrm>
        </p:grpSpPr>
        <p:sp>
          <p:nvSpPr>
            <p:cNvPr id="112" name=""/>
            <p:cNvSpPr/>
            <p:nvPr/>
          </p:nvSpPr>
          <p:spPr>
            <a:xfrm>
              <a:off x="3854520" y="2801880"/>
              <a:ext cx="137772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960" y="2854440"/>
              <a:ext cx="62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83120" y="326088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40240" y="3305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3120" y="463536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7640" y="46800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91240" y="2801880"/>
            <a:ext cx="1379520" cy="2521080"/>
            <a:chOff x="5691240" y="2801880"/>
            <a:chExt cx="1379520" cy="2521080"/>
          </a:xfrm>
        </p:grpSpPr>
        <p:sp>
          <p:nvSpPr>
            <p:cNvPr id="119" name=""/>
            <p:cNvSpPr/>
            <p:nvPr/>
          </p:nvSpPr>
          <p:spPr>
            <a:xfrm>
              <a:off x="5691240" y="2801880"/>
              <a:ext cx="137952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59000" y="2854440"/>
              <a:ext cx="103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B&amp;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21280" y="326088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78400" y="3305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21280" y="394812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78400" y="3992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21280" y="463536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65800" y="46800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07080" y="2057400"/>
            <a:ext cx="5240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ex Entity Data 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299360" y="2287440"/>
            <a:ext cx="1838160" cy="3264120"/>
            <a:chOff x="7299360" y="2287440"/>
            <a:chExt cx="1838160" cy="3264120"/>
          </a:xfrm>
        </p:grpSpPr>
        <p:sp>
          <p:nvSpPr>
            <p:cNvPr id="129" name=""/>
            <p:cNvSpPr/>
            <p:nvPr/>
          </p:nvSpPr>
          <p:spPr>
            <a:xfrm>
              <a:off x="7529400" y="2801880"/>
              <a:ext cx="137808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00200" y="2854440"/>
              <a:ext cx="62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&amp;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59800" y="394812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16920" y="3992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59800" y="463536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04320" y="46800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03280" y="2287440"/>
              <a:ext cx="863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7299360" y="2343240"/>
              <a:ext cx="1838160" cy="3208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99360" y="2343240"/>
              <a:ext cx="1838160" cy="3208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8" name=""/>
          <p:cNvGraphicFramePr/>
          <p:nvPr/>
        </p:nvGraphicFramePr>
        <p:xfrm>
          <a:off x="5181480" y="304920"/>
          <a:ext cx="23306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04920"/>
                    <a:ext cx="23306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232200" y="22860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ity Data Typ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9880" y="547704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complex entity data types can be instant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F61-013D-4C9B-B64A-98962E4BD803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ex Entity Data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mber of Leave Entity Data Typ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10200" y="1565280"/>
            <a:ext cx="1450440" cy="3736440"/>
            <a:chOff x="610200" y="1565280"/>
            <a:chExt cx="1450440" cy="3736440"/>
          </a:xfrm>
        </p:grpSpPr>
        <p:sp>
          <p:nvSpPr>
            <p:cNvPr id="144" name=""/>
            <p:cNvSpPr/>
            <p:nvPr/>
          </p:nvSpPr>
          <p:spPr>
            <a:xfrm>
              <a:off x="682560" y="2209680"/>
              <a:ext cx="137808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70080" y="22622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2960" y="266868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70080" y="27129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44800" y="15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0200" y="48420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1=A(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439360" y="1565280"/>
            <a:ext cx="1459440" cy="3771360"/>
            <a:chOff x="2439360" y="1565280"/>
            <a:chExt cx="1459440" cy="3771360"/>
          </a:xfrm>
        </p:grpSpPr>
        <p:sp>
          <p:nvSpPr>
            <p:cNvPr id="151" name=""/>
            <p:cNvSpPr/>
            <p:nvPr/>
          </p:nvSpPr>
          <p:spPr>
            <a:xfrm>
              <a:off x="2521080" y="2209680"/>
              <a:ext cx="137772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03760" y="2262240"/>
              <a:ext cx="60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51120" y="2668680"/>
              <a:ext cx="91764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08240" y="27129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51120" y="3355920"/>
              <a:ext cx="91764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08240" y="34005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9920" y="156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39360" y="4876920"/>
              <a:ext cx="12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2=B(..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267440" y="1600200"/>
            <a:ext cx="1469880" cy="3736440"/>
            <a:chOff x="4267440" y="1600200"/>
            <a:chExt cx="1469880" cy="3736440"/>
          </a:xfrm>
        </p:grpSpPr>
        <p:sp>
          <p:nvSpPr>
            <p:cNvPr id="160" name=""/>
            <p:cNvSpPr/>
            <p:nvPr/>
          </p:nvSpPr>
          <p:spPr>
            <a:xfrm>
              <a:off x="4359240" y="2209680"/>
              <a:ext cx="137808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9680" y="2262240"/>
              <a:ext cx="625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87840" y="266868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44960" y="27129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87840" y="404352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32360" y="40878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7052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67440" y="4876920"/>
              <a:ext cx="13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3=C(...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95880" y="1600200"/>
            <a:ext cx="2870640" cy="3736440"/>
            <a:chOff x="6095880" y="1600200"/>
            <a:chExt cx="2870640" cy="3736440"/>
          </a:xfrm>
        </p:grpSpPr>
        <p:sp>
          <p:nvSpPr>
            <p:cNvPr id="169" name=""/>
            <p:cNvSpPr/>
            <p:nvPr/>
          </p:nvSpPr>
          <p:spPr>
            <a:xfrm>
              <a:off x="6195960" y="2209680"/>
              <a:ext cx="1379520" cy="2521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63720" y="2262240"/>
              <a:ext cx="103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&amp;B&amp;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26360" y="266868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83480" y="27129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26360" y="335592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3480" y="34005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26360" y="4043520"/>
              <a:ext cx="91908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70520" y="40878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0752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5880" y="4876920"/>
              <a:ext cx="287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4=(A(...)B(...)C(...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C73-86B0-4C7C-AD6E-1518803082F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 Mapping to Java (early bind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85040" y="3727440"/>
            <a:ext cx="1379520" cy="25210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64040" y="3780000"/>
            <a:ext cx="84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&amp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3727440"/>
            <a:ext cx="1377720" cy="25210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72840" y="3780000"/>
            <a:ext cx="43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09800" y="3727440"/>
            <a:ext cx="1378080" cy="25210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00840" y="3780000"/>
            <a:ext cx="42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3727440"/>
            <a:ext cx="1377720" cy="25210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2040" y="3780000"/>
            <a:ext cx="42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01680" y="418608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88960" y="423072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0200" y="4186080"/>
            <a:ext cx="9172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43320" y="423072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4873680"/>
            <a:ext cx="9172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43320" y="491796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418608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72120" y="423072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76920" y="556092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72480" y="5605560"/>
            <a:ext cx="42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5080" y="418608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00920" y="423072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5080" y="487368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00920" y="4917960"/>
            <a:ext cx="40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15080" y="5560920"/>
            <a:ext cx="91908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01280" y="5605560"/>
            <a:ext cx="42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762120"/>
            <a:ext cx="830124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ity Data Types are represent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Jav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fa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efix "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, e.g. "EXxx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plex Entity Data Types are represented b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Jav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efix "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, e.g. "CXxx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leave entity data types are separated by "&amp;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gregates of Entity Data Types are represented b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Jav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efix "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, e.g. "AXxx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E077-1BAD-483A-B462-C0A0418C1A7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 Mapping to Java (late bind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1066680"/>
            <a:ext cx="82310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83808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 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represented by the Java Interfac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ggreg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represented by the Java clas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ing of early and late binding is realized by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ntity is directly or indirectly extended by every early binding Entity Interfac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EXxx extends EEntity {...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EYyy extends EXxx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ntity is directly interfaced by every early binding Aggregate Clas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Xxx extends AEntity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1B1-DD35-4E51-A7B9-EA5EF2D375A8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cal and Enum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and early binding enumer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final class ELogical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unset =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int FALSE = 1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int TRUE = 2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int UNKNOWN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String values[] = {"FALSE", "TRUE"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UNKNOWN"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ELogical( );   // no instances are allo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int toInt(String s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String toString(int value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184-8054-4C73-A287-76CDDD3996F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581280" y="1751040"/>
            <a:ext cx="2286000" cy="304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24800" y="2708280"/>
            <a:ext cx="1485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-SD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751040"/>
            <a:ext cx="1994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fo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S 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320" y="3122640"/>
            <a:ext cx="132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963960"/>
            <a:ext cx="1994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S 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50920" y="2208240"/>
            <a:ext cx="2157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package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s and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42280" y="3506760"/>
            <a:ext cx="21664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ary dat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ased on th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DAI_dictionary_sche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677960"/>
            <a:ext cx="22860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886200"/>
            <a:ext cx="22860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2894040"/>
            <a:ext cx="2286000" cy="7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2057400"/>
            <a:ext cx="2286000" cy="99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3278160"/>
            <a:ext cx="2286000" cy="1444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7280" y="251460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3963960"/>
            <a:ext cx="60984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213516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327816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343400"/>
            <a:ext cx="6858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5D3-53E4-4371-8EBA-38B313F7B2F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-SDAI Liba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sdai_lib.j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~8.5 MBy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-schemas: 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C-schemas: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IB schemas: 2 (soon m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-AIM schemas: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-ARM schemas: 3 (210, 212, 2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Information: 2 (210, 2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pecial "schema" for cross-mix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 Entity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est and meta-sch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0D74-52DC-4EA8-9CE5-63E4F16000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 Management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Se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 from which every SDAI activity starts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Reposi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storage space for SchemaInstances and Sdai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aIn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cal grouping of models to define a valid population of an express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Mod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ing of entity instances based on one express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323-1496-4860-B62C-7707644026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xiliary Management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runtime information of th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Transac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s simultaneous updating of chang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s multiple clients from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tyExtent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, easy accessing entity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Excep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wn in case of error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C91-8EA9-4F65-8AF2-06A1461B62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5/96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1.0 released. It i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lacement for C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7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upgrade Java 1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8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is approved to submit Java as a Public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Specification (PAS) at ISO JTC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8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-&gt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va 2 Platfo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JDK 1.2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most complete OS-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9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 moves the standardization to ECMA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later it cancels this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71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0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DK 1.3, Split into several platfor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Enterprise (Enterprise JavaBean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M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tanda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4978-6977-4A10-BCEE-9CF69CE433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066680" y="228600"/>
            <a:ext cx="3198960" cy="5919840"/>
            <a:chOff x="1066680" y="228600"/>
            <a:chExt cx="3198960" cy="5919840"/>
          </a:xfrm>
        </p:grpSpPr>
        <p:sp>
          <p:nvSpPr>
            <p:cNvPr id="234" name=""/>
            <p:cNvSpPr/>
            <p:nvPr/>
          </p:nvSpPr>
          <p:spPr>
            <a:xfrm>
              <a:off x="1066680" y="228600"/>
              <a:ext cx="3197160" cy="1279440"/>
            </a:xfrm>
            <a:custGeom>
              <a:avLst/>
              <a:gdLst/>
              <a:ahLst/>
              <a:rect l="l" t="t" r="r" b="b"/>
              <a:pathLst>
                <a:path w="2014" h="806">
                  <a:moveTo>
                    <a:pt x="0" y="403"/>
                  </a:moveTo>
                  <a:lnTo>
                    <a:pt x="5" y="361"/>
                  </a:lnTo>
                  <a:lnTo>
                    <a:pt x="22" y="319"/>
                  </a:lnTo>
                  <a:lnTo>
                    <a:pt x="50" y="277"/>
                  </a:lnTo>
                  <a:lnTo>
                    <a:pt x="86" y="238"/>
                  </a:lnTo>
                  <a:lnTo>
                    <a:pt x="134" y="202"/>
                  </a:lnTo>
                  <a:lnTo>
                    <a:pt x="193" y="165"/>
                  </a:lnTo>
                  <a:lnTo>
                    <a:pt x="257" y="132"/>
                  </a:lnTo>
                  <a:lnTo>
                    <a:pt x="333" y="104"/>
                  </a:lnTo>
                  <a:lnTo>
                    <a:pt x="414" y="76"/>
                  </a:lnTo>
                  <a:lnTo>
                    <a:pt x="503" y="53"/>
                  </a:lnTo>
                  <a:lnTo>
                    <a:pt x="598" y="34"/>
                  </a:lnTo>
                  <a:lnTo>
                    <a:pt x="696" y="20"/>
                  </a:lnTo>
                  <a:lnTo>
                    <a:pt x="797" y="9"/>
                  </a:lnTo>
                  <a:lnTo>
                    <a:pt x="900" y="0"/>
                  </a:lnTo>
                  <a:lnTo>
                    <a:pt x="1007" y="0"/>
                  </a:lnTo>
                  <a:lnTo>
                    <a:pt x="1113" y="0"/>
                  </a:lnTo>
                  <a:lnTo>
                    <a:pt x="1217" y="9"/>
                  </a:lnTo>
                  <a:lnTo>
                    <a:pt x="1317" y="20"/>
                  </a:lnTo>
                  <a:lnTo>
                    <a:pt x="1415" y="34"/>
                  </a:lnTo>
                  <a:lnTo>
                    <a:pt x="1510" y="53"/>
                  </a:lnTo>
                  <a:lnTo>
                    <a:pt x="1600" y="76"/>
                  </a:lnTo>
                  <a:lnTo>
                    <a:pt x="1681" y="104"/>
                  </a:lnTo>
                  <a:lnTo>
                    <a:pt x="1757" y="132"/>
                  </a:lnTo>
                  <a:lnTo>
                    <a:pt x="1821" y="165"/>
                  </a:lnTo>
                  <a:lnTo>
                    <a:pt x="1880" y="202"/>
                  </a:lnTo>
                  <a:lnTo>
                    <a:pt x="1927" y="238"/>
                  </a:lnTo>
                  <a:lnTo>
                    <a:pt x="1964" y="277"/>
                  </a:lnTo>
                  <a:lnTo>
                    <a:pt x="1992" y="319"/>
                  </a:lnTo>
                  <a:lnTo>
                    <a:pt x="2008" y="361"/>
                  </a:lnTo>
                  <a:lnTo>
                    <a:pt x="2014" y="403"/>
                  </a:lnTo>
                  <a:lnTo>
                    <a:pt x="2008" y="445"/>
                  </a:lnTo>
                  <a:lnTo>
                    <a:pt x="1992" y="487"/>
                  </a:lnTo>
                  <a:lnTo>
                    <a:pt x="1964" y="526"/>
                  </a:lnTo>
                  <a:lnTo>
                    <a:pt x="1927" y="566"/>
                  </a:lnTo>
                  <a:lnTo>
                    <a:pt x="1880" y="605"/>
                  </a:lnTo>
                  <a:lnTo>
                    <a:pt x="1821" y="638"/>
                  </a:lnTo>
                  <a:lnTo>
                    <a:pt x="1757" y="672"/>
                  </a:lnTo>
                  <a:lnTo>
                    <a:pt x="1681" y="703"/>
                  </a:lnTo>
                  <a:lnTo>
                    <a:pt x="1600" y="728"/>
                  </a:lnTo>
                  <a:lnTo>
                    <a:pt x="1510" y="750"/>
                  </a:lnTo>
                  <a:lnTo>
                    <a:pt x="1415" y="770"/>
                  </a:lnTo>
                  <a:lnTo>
                    <a:pt x="1317" y="787"/>
                  </a:lnTo>
                  <a:lnTo>
                    <a:pt x="1217" y="795"/>
                  </a:lnTo>
                  <a:lnTo>
                    <a:pt x="1113" y="804"/>
                  </a:lnTo>
                  <a:lnTo>
                    <a:pt x="1007" y="806"/>
                  </a:lnTo>
                  <a:lnTo>
                    <a:pt x="900" y="804"/>
                  </a:lnTo>
                  <a:lnTo>
                    <a:pt x="797" y="795"/>
                  </a:lnTo>
                  <a:lnTo>
                    <a:pt x="696" y="787"/>
                  </a:lnTo>
                  <a:lnTo>
                    <a:pt x="598" y="770"/>
                  </a:lnTo>
                  <a:lnTo>
                    <a:pt x="503" y="750"/>
                  </a:lnTo>
                  <a:lnTo>
                    <a:pt x="414" y="728"/>
                  </a:lnTo>
                  <a:lnTo>
                    <a:pt x="333" y="703"/>
                  </a:lnTo>
                  <a:lnTo>
                    <a:pt x="257" y="672"/>
                  </a:lnTo>
                  <a:lnTo>
                    <a:pt x="193" y="638"/>
                  </a:lnTo>
                  <a:lnTo>
                    <a:pt x="134" y="605"/>
                  </a:lnTo>
                  <a:lnTo>
                    <a:pt x="86" y="566"/>
                  </a:lnTo>
                  <a:lnTo>
                    <a:pt x="50" y="526"/>
                  </a:lnTo>
                  <a:lnTo>
                    <a:pt x="22" y="487"/>
                  </a:lnTo>
                  <a:lnTo>
                    <a:pt x="5" y="445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59120" y="606240"/>
              <a:ext cx="14378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Repo A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66680" y="5508360"/>
              <a:ext cx="3197160" cy="640080"/>
            </a:xfrm>
            <a:custGeom>
              <a:avLst/>
              <a:gdLst/>
              <a:ahLst/>
              <a:rect l="l" t="t" r="r" b="b"/>
              <a:pathLst>
                <a:path w="2014" h="403">
                  <a:moveTo>
                    <a:pt x="0" y="0"/>
                  </a:moveTo>
                  <a:lnTo>
                    <a:pt x="5" y="42"/>
                  </a:lnTo>
                  <a:lnTo>
                    <a:pt x="22" y="84"/>
                  </a:lnTo>
                  <a:lnTo>
                    <a:pt x="50" y="123"/>
                  </a:lnTo>
                  <a:lnTo>
                    <a:pt x="86" y="162"/>
                  </a:lnTo>
                  <a:lnTo>
                    <a:pt x="134" y="201"/>
                  </a:lnTo>
                  <a:lnTo>
                    <a:pt x="193" y="235"/>
                  </a:lnTo>
                  <a:lnTo>
                    <a:pt x="257" y="268"/>
                  </a:lnTo>
                  <a:lnTo>
                    <a:pt x="333" y="299"/>
                  </a:lnTo>
                  <a:lnTo>
                    <a:pt x="414" y="324"/>
                  </a:lnTo>
                  <a:lnTo>
                    <a:pt x="503" y="347"/>
                  </a:lnTo>
                  <a:lnTo>
                    <a:pt x="598" y="366"/>
                  </a:lnTo>
                  <a:lnTo>
                    <a:pt x="696" y="383"/>
                  </a:lnTo>
                  <a:lnTo>
                    <a:pt x="797" y="391"/>
                  </a:lnTo>
                  <a:lnTo>
                    <a:pt x="900" y="400"/>
                  </a:lnTo>
                  <a:lnTo>
                    <a:pt x="1007" y="403"/>
                  </a:lnTo>
                  <a:lnTo>
                    <a:pt x="1113" y="400"/>
                  </a:lnTo>
                  <a:lnTo>
                    <a:pt x="1217" y="391"/>
                  </a:lnTo>
                  <a:lnTo>
                    <a:pt x="1317" y="383"/>
                  </a:lnTo>
                  <a:lnTo>
                    <a:pt x="1415" y="366"/>
                  </a:lnTo>
                  <a:lnTo>
                    <a:pt x="1510" y="347"/>
                  </a:lnTo>
                  <a:lnTo>
                    <a:pt x="1600" y="324"/>
                  </a:lnTo>
                  <a:lnTo>
                    <a:pt x="1681" y="299"/>
                  </a:lnTo>
                  <a:lnTo>
                    <a:pt x="1757" y="268"/>
                  </a:lnTo>
                  <a:lnTo>
                    <a:pt x="1821" y="235"/>
                  </a:lnTo>
                  <a:lnTo>
                    <a:pt x="1880" y="201"/>
                  </a:lnTo>
                  <a:lnTo>
                    <a:pt x="1927" y="162"/>
                  </a:lnTo>
                  <a:lnTo>
                    <a:pt x="1964" y="123"/>
                  </a:lnTo>
                  <a:lnTo>
                    <a:pt x="1992" y="84"/>
                  </a:lnTo>
                  <a:lnTo>
                    <a:pt x="2008" y="42"/>
                  </a:lnTo>
                  <a:lnTo>
                    <a:pt x="20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66680" y="868320"/>
              <a:ext cx="1800" cy="4640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63840" y="868320"/>
              <a:ext cx="1800" cy="4640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700520" y="312840"/>
            <a:ext cx="3198960" cy="5919840"/>
            <a:chOff x="4700520" y="312840"/>
            <a:chExt cx="3198960" cy="5919840"/>
          </a:xfrm>
        </p:grpSpPr>
        <p:sp>
          <p:nvSpPr>
            <p:cNvPr id="240" name=""/>
            <p:cNvSpPr/>
            <p:nvPr/>
          </p:nvSpPr>
          <p:spPr>
            <a:xfrm>
              <a:off x="4700520" y="312840"/>
              <a:ext cx="3197160" cy="1279440"/>
            </a:xfrm>
            <a:custGeom>
              <a:avLst/>
              <a:gdLst/>
              <a:ahLst/>
              <a:rect l="l" t="t" r="r" b="b"/>
              <a:pathLst>
                <a:path w="2014" h="806">
                  <a:moveTo>
                    <a:pt x="0" y="403"/>
                  </a:moveTo>
                  <a:lnTo>
                    <a:pt x="6" y="361"/>
                  </a:lnTo>
                  <a:lnTo>
                    <a:pt x="22" y="319"/>
                  </a:lnTo>
                  <a:lnTo>
                    <a:pt x="50" y="277"/>
                  </a:lnTo>
                  <a:lnTo>
                    <a:pt x="87" y="238"/>
                  </a:lnTo>
                  <a:lnTo>
                    <a:pt x="134" y="202"/>
                  </a:lnTo>
                  <a:lnTo>
                    <a:pt x="193" y="165"/>
                  </a:lnTo>
                  <a:lnTo>
                    <a:pt x="257" y="132"/>
                  </a:lnTo>
                  <a:lnTo>
                    <a:pt x="333" y="104"/>
                  </a:lnTo>
                  <a:lnTo>
                    <a:pt x="414" y="76"/>
                  </a:lnTo>
                  <a:lnTo>
                    <a:pt x="504" y="53"/>
                  </a:lnTo>
                  <a:lnTo>
                    <a:pt x="599" y="34"/>
                  </a:lnTo>
                  <a:lnTo>
                    <a:pt x="697" y="20"/>
                  </a:lnTo>
                  <a:lnTo>
                    <a:pt x="797" y="9"/>
                  </a:lnTo>
                  <a:lnTo>
                    <a:pt x="901" y="0"/>
                  </a:lnTo>
                  <a:lnTo>
                    <a:pt x="1007" y="0"/>
                  </a:lnTo>
                  <a:lnTo>
                    <a:pt x="1114" y="0"/>
                  </a:lnTo>
                  <a:lnTo>
                    <a:pt x="1217" y="9"/>
                  </a:lnTo>
                  <a:lnTo>
                    <a:pt x="1318" y="20"/>
                  </a:lnTo>
                  <a:lnTo>
                    <a:pt x="1416" y="34"/>
                  </a:lnTo>
                  <a:lnTo>
                    <a:pt x="1511" y="53"/>
                  </a:lnTo>
                  <a:lnTo>
                    <a:pt x="1600" y="76"/>
                  </a:lnTo>
                  <a:lnTo>
                    <a:pt x="1681" y="104"/>
                  </a:lnTo>
                  <a:lnTo>
                    <a:pt x="1757" y="132"/>
                  </a:lnTo>
                  <a:lnTo>
                    <a:pt x="1821" y="165"/>
                  </a:lnTo>
                  <a:lnTo>
                    <a:pt x="1880" y="202"/>
                  </a:lnTo>
                  <a:lnTo>
                    <a:pt x="1928" y="238"/>
                  </a:lnTo>
                  <a:lnTo>
                    <a:pt x="1964" y="277"/>
                  </a:lnTo>
                  <a:lnTo>
                    <a:pt x="1992" y="319"/>
                  </a:lnTo>
                  <a:lnTo>
                    <a:pt x="2009" y="361"/>
                  </a:lnTo>
                  <a:lnTo>
                    <a:pt x="2014" y="403"/>
                  </a:lnTo>
                  <a:lnTo>
                    <a:pt x="2009" y="445"/>
                  </a:lnTo>
                  <a:lnTo>
                    <a:pt x="1992" y="487"/>
                  </a:lnTo>
                  <a:lnTo>
                    <a:pt x="1964" y="526"/>
                  </a:lnTo>
                  <a:lnTo>
                    <a:pt x="1928" y="566"/>
                  </a:lnTo>
                  <a:lnTo>
                    <a:pt x="1880" y="605"/>
                  </a:lnTo>
                  <a:lnTo>
                    <a:pt x="1821" y="638"/>
                  </a:lnTo>
                  <a:lnTo>
                    <a:pt x="1757" y="672"/>
                  </a:lnTo>
                  <a:lnTo>
                    <a:pt x="1681" y="703"/>
                  </a:lnTo>
                  <a:lnTo>
                    <a:pt x="1600" y="728"/>
                  </a:lnTo>
                  <a:lnTo>
                    <a:pt x="1511" y="750"/>
                  </a:lnTo>
                  <a:lnTo>
                    <a:pt x="1416" y="770"/>
                  </a:lnTo>
                  <a:lnTo>
                    <a:pt x="1318" y="787"/>
                  </a:lnTo>
                  <a:lnTo>
                    <a:pt x="1217" y="795"/>
                  </a:lnTo>
                  <a:lnTo>
                    <a:pt x="1114" y="804"/>
                  </a:lnTo>
                  <a:lnTo>
                    <a:pt x="1007" y="806"/>
                  </a:lnTo>
                  <a:lnTo>
                    <a:pt x="901" y="804"/>
                  </a:lnTo>
                  <a:lnTo>
                    <a:pt x="797" y="795"/>
                  </a:lnTo>
                  <a:lnTo>
                    <a:pt x="697" y="787"/>
                  </a:lnTo>
                  <a:lnTo>
                    <a:pt x="599" y="770"/>
                  </a:lnTo>
                  <a:lnTo>
                    <a:pt x="504" y="750"/>
                  </a:lnTo>
                  <a:lnTo>
                    <a:pt x="414" y="728"/>
                  </a:lnTo>
                  <a:lnTo>
                    <a:pt x="333" y="703"/>
                  </a:lnTo>
                  <a:lnTo>
                    <a:pt x="257" y="672"/>
                  </a:lnTo>
                  <a:lnTo>
                    <a:pt x="193" y="638"/>
                  </a:lnTo>
                  <a:lnTo>
                    <a:pt x="134" y="605"/>
                  </a:lnTo>
                  <a:lnTo>
                    <a:pt x="87" y="566"/>
                  </a:lnTo>
                  <a:lnTo>
                    <a:pt x="50" y="526"/>
                  </a:lnTo>
                  <a:lnTo>
                    <a:pt x="22" y="487"/>
                  </a:lnTo>
                  <a:lnTo>
                    <a:pt x="6" y="445"/>
                  </a:lnTo>
                  <a:lnTo>
                    <a:pt x="0" y="40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92960" y="690480"/>
              <a:ext cx="14378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Repo B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00520" y="5592600"/>
              <a:ext cx="3197160" cy="640080"/>
            </a:xfrm>
            <a:custGeom>
              <a:avLst/>
              <a:gdLst/>
              <a:ahLst/>
              <a:rect l="l" t="t" r="r" b="b"/>
              <a:pathLst>
                <a:path w="2014" h="403">
                  <a:moveTo>
                    <a:pt x="0" y="0"/>
                  </a:moveTo>
                  <a:lnTo>
                    <a:pt x="6" y="42"/>
                  </a:lnTo>
                  <a:lnTo>
                    <a:pt x="22" y="84"/>
                  </a:lnTo>
                  <a:lnTo>
                    <a:pt x="50" y="123"/>
                  </a:lnTo>
                  <a:lnTo>
                    <a:pt x="87" y="162"/>
                  </a:lnTo>
                  <a:lnTo>
                    <a:pt x="134" y="201"/>
                  </a:lnTo>
                  <a:lnTo>
                    <a:pt x="193" y="235"/>
                  </a:lnTo>
                  <a:lnTo>
                    <a:pt x="257" y="268"/>
                  </a:lnTo>
                  <a:lnTo>
                    <a:pt x="333" y="299"/>
                  </a:lnTo>
                  <a:lnTo>
                    <a:pt x="414" y="324"/>
                  </a:lnTo>
                  <a:lnTo>
                    <a:pt x="504" y="347"/>
                  </a:lnTo>
                  <a:lnTo>
                    <a:pt x="599" y="366"/>
                  </a:lnTo>
                  <a:lnTo>
                    <a:pt x="697" y="383"/>
                  </a:lnTo>
                  <a:lnTo>
                    <a:pt x="797" y="391"/>
                  </a:lnTo>
                  <a:lnTo>
                    <a:pt x="901" y="400"/>
                  </a:lnTo>
                  <a:lnTo>
                    <a:pt x="1007" y="403"/>
                  </a:lnTo>
                  <a:lnTo>
                    <a:pt x="1114" y="400"/>
                  </a:lnTo>
                  <a:lnTo>
                    <a:pt x="1217" y="391"/>
                  </a:lnTo>
                  <a:lnTo>
                    <a:pt x="1318" y="383"/>
                  </a:lnTo>
                  <a:lnTo>
                    <a:pt x="1416" y="366"/>
                  </a:lnTo>
                  <a:lnTo>
                    <a:pt x="1511" y="347"/>
                  </a:lnTo>
                  <a:lnTo>
                    <a:pt x="1600" y="324"/>
                  </a:lnTo>
                  <a:lnTo>
                    <a:pt x="1681" y="299"/>
                  </a:lnTo>
                  <a:lnTo>
                    <a:pt x="1757" y="268"/>
                  </a:lnTo>
                  <a:lnTo>
                    <a:pt x="1821" y="235"/>
                  </a:lnTo>
                  <a:lnTo>
                    <a:pt x="1880" y="201"/>
                  </a:lnTo>
                  <a:lnTo>
                    <a:pt x="1928" y="162"/>
                  </a:lnTo>
                  <a:lnTo>
                    <a:pt x="1964" y="123"/>
                  </a:lnTo>
                  <a:lnTo>
                    <a:pt x="1992" y="84"/>
                  </a:lnTo>
                  <a:lnTo>
                    <a:pt x="2009" y="42"/>
                  </a:lnTo>
                  <a:lnTo>
                    <a:pt x="20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00520" y="952560"/>
              <a:ext cx="1800" cy="4640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97680" y="952560"/>
              <a:ext cx="1800" cy="4640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82600" y="2631960"/>
            <a:ext cx="2879640" cy="1839960"/>
            <a:chOff x="1182600" y="2631960"/>
            <a:chExt cx="2879640" cy="1839960"/>
          </a:xfrm>
        </p:grpSpPr>
        <p:sp>
          <p:nvSpPr>
            <p:cNvPr id="246" name=""/>
            <p:cNvSpPr/>
            <p:nvPr/>
          </p:nvSpPr>
          <p:spPr>
            <a:xfrm>
              <a:off x="1182600" y="2631960"/>
              <a:ext cx="2878200" cy="1116000"/>
            </a:xfrm>
            <a:custGeom>
              <a:avLst/>
              <a:gdLst/>
              <a:ahLst/>
              <a:rect l="l" t="t" r="r" b="b"/>
              <a:pathLst>
                <a:path w="1813" h="703">
                  <a:moveTo>
                    <a:pt x="0" y="353"/>
                  </a:moveTo>
                  <a:lnTo>
                    <a:pt x="6" y="314"/>
                  </a:lnTo>
                  <a:lnTo>
                    <a:pt x="23" y="277"/>
                  </a:lnTo>
                  <a:lnTo>
                    <a:pt x="48" y="238"/>
                  </a:lnTo>
                  <a:lnTo>
                    <a:pt x="84" y="205"/>
                  </a:lnTo>
                  <a:lnTo>
                    <a:pt x="129" y="171"/>
                  </a:lnTo>
                  <a:lnTo>
                    <a:pt x="185" y="137"/>
                  </a:lnTo>
                  <a:lnTo>
                    <a:pt x="249" y="109"/>
                  </a:lnTo>
                  <a:lnTo>
                    <a:pt x="319" y="84"/>
                  </a:lnTo>
                  <a:lnTo>
                    <a:pt x="398" y="59"/>
                  </a:lnTo>
                  <a:lnTo>
                    <a:pt x="482" y="40"/>
                  </a:lnTo>
                  <a:lnTo>
                    <a:pt x="571" y="26"/>
                  </a:lnTo>
                  <a:lnTo>
                    <a:pt x="663" y="12"/>
                  </a:lnTo>
                  <a:lnTo>
                    <a:pt x="761" y="3"/>
                  </a:lnTo>
                  <a:lnTo>
                    <a:pt x="856" y="0"/>
                  </a:lnTo>
                  <a:lnTo>
                    <a:pt x="957" y="0"/>
                  </a:lnTo>
                  <a:lnTo>
                    <a:pt x="1052" y="3"/>
                  </a:lnTo>
                  <a:lnTo>
                    <a:pt x="1150" y="12"/>
                  </a:lnTo>
                  <a:lnTo>
                    <a:pt x="1242" y="26"/>
                  </a:lnTo>
                  <a:lnTo>
                    <a:pt x="1332" y="40"/>
                  </a:lnTo>
                  <a:lnTo>
                    <a:pt x="1416" y="59"/>
                  </a:lnTo>
                  <a:lnTo>
                    <a:pt x="1494" y="84"/>
                  </a:lnTo>
                  <a:lnTo>
                    <a:pt x="1564" y="109"/>
                  </a:lnTo>
                  <a:lnTo>
                    <a:pt x="1629" y="137"/>
                  </a:lnTo>
                  <a:lnTo>
                    <a:pt x="1685" y="171"/>
                  </a:lnTo>
                  <a:lnTo>
                    <a:pt x="1729" y="205"/>
                  </a:lnTo>
                  <a:lnTo>
                    <a:pt x="1766" y="238"/>
                  </a:lnTo>
                  <a:lnTo>
                    <a:pt x="1791" y="277"/>
                  </a:lnTo>
                  <a:lnTo>
                    <a:pt x="1808" y="314"/>
                  </a:lnTo>
                  <a:lnTo>
                    <a:pt x="1813" y="353"/>
                  </a:lnTo>
                  <a:lnTo>
                    <a:pt x="1808" y="389"/>
                  </a:lnTo>
                  <a:lnTo>
                    <a:pt x="1791" y="429"/>
                  </a:lnTo>
                  <a:lnTo>
                    <a:pt x="1766" y="465"/>
                  </a:lnTo>
                  <a:lnTo>
                    <a:pt x="1729" y="501"/>
                  </a:lnTo>
                  <a:lnTo>
                    <a:pt x="1685" y="535"/>
                  </a:lnTo>
                  <a:lnTo>
                    <a:pt x="1629" y="566"/>
                  </a:lnTo>
                  <a:lnTo>
                    <a:pt x="1564" y="594"/>
                  </a:lnTo>
                  <a:lnTo>
                    <a:pt x="1494" y="622"/>
                  </a:lnTo>
                  <a:lnTo>
                    <a:pt x="1416" y="644"/>
                  </a:lnTo>
                  <a:lnTo>
                    <a:pt x="1332" y="664"/>
                  </a:lnTo>
                  <a:lnTo>
                    <a:pt x="1242" y="681"/>
                  </a:lnTo>
                  <a:lnTo>
                    <a:pt x="1150" y="692"/>
                  </a:lnTo>
                  <a:lnTo>
                    <a:pt x="1052" y="700"/>
                  </a:lnTo>
                  <a:lnTo>
                    <a:pt x="957" y="703"/>
                  </a:lnTo>
                  <a:lnTo>
                    <a:pt x="856" y="703"/>
                  </a:lnTo>
                  <a:lnTo>
                    <a:pt x="761" y="700"/>
                  </a:lnTo>
                  <a:lnTo>
                    <a:pt x="663" y="692"/>
                  </a:lnTo>
                  <a:lnTo>
                    <a:pt x="571" y="681"/>
                  </a:lnTo>
                  <a:lnTo>
                    <a:pt x="482" y="664"/>
                  </a:lnTo>
                  <a:lnTo>
                    <a:pt x="398" y="644"/>
                  </a:lnTo>
                  <a:lnTo>
                    <a:pt x="319" y="622"/>
                  </a:lnTo>
                  <a:lnTo>
                    <a:pt x="249" y="594"/>
                  </a:lnTo>
                  <a:lnTo>
                    <a:pt x="185" y="566"/>
                  </a:lnTo>
                  <a:lnTo>
                    <a:pt x="129" y="535"/>
                  </a:lnTo>
                  <a:lnTo>
                    <a:pt x="84" y="501"/>
                  </a:lnTo>
                  <a:lnTo>
                    <a:pt x="48" y="465"/>
                  </a:lnTo>
                  <a:lnTo>
                    <a:pt x="23" y="429"/>
                  </a:lnTo>
                  <a:lnTo>
                    <a:pt x="6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05840" y="2805120"/>
              <a:ext cx="1430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Model A1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88560" y="3187800"/>
              <a:ext cx="1465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chema 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82600" y="3832200"/>
              <a:ext cx="2878200" cy="639720"/>
            </a:xfrm>
            <a:custGeom>
              <a:avLst/>
              <a:gdLst/>
              <a:ahLst/>
              <a:rect l="l" t="t" r="r" b="b"/>
              <a:pathLst>
                <a:path w="1813" h="403">
                  <a:moveTo>
                    <a:pt x="0" y="0"/>
                  </a:moveTo>
                  <a:lnTo>
                    <a:pt x="6" y="42"/>
                  </a:lnTo>
                  <a:lnTo>
                    <a:pt x="20" y="84"/>
                  </a:lnTo>
                  <a:lnTo>
                    <a:pt x="45" y="123"/>
                  </a:lnTo>
                  <a:lnTo>
                    <a:pt x="79" y="162"/>
                  </a:lnTo>
                  <a:lnTo>
                    <a:pt x="121" y="202"/>
                  </a:lnTo>
                  <a:lnTo>
                    <a:pt x="174" y="235"/>
                  </a:lnTo>
                  <a:lnTo>
                    <a:pt x="233" y="269"/>
                  </a:lnTo>
                  <a:lnTo>
                    <a:pt x="300" y="300"/>
                  </a:lnTo>
                  <a:lnTo>
                    <a:pt x="375" y="325"/>
                  </a:lnTo>
                  <a:lnTo>
                    <a:pt x="454" y="347"/>
                  </a:lnTo>
                  <a:lnTo>
                    <a:pt x="537" y="367"/>
                  </a:lnTo>
                  <a:lnTo>
                    <a:pt x="627" y="384"/>
                  </a:lnTo>
                  <a:lnTo>
                    <a:pt x="719" y="392"/>
                  </a:lnTo>
                  <a:lnTo>
                    <a:pt x="812" y="400"/>
                  </a:lnTo>
                  <a:lnTo>
                    <a:pt x="907" y="403"/>
                  </a:lnTo>
                  <a:lnTo>
                    <a:pt x="1002" y="400"/>
                  </a:lnTo>
                  <a:lnTo>
                    <a:pt x="1094" y="392"/>
                  </a:lnTo>
                  <a:lnTo>
                    <a:pt x="1187" y="384"/>
                  </a:lnTo>
                  <a:lnTo>
                    <a:pt x="1276" y="367"/>
                  </a:lnTo>
                  <a:lnTo>
                    <a:pt x="1360" y="347"/>
                  </a:lnTo>
                  <a:lnTo>
                    <a:pt x="1438" y="325"/>
                  </a:lnTo>
                  <a:lnTo>
                    <a:pt x="1514" y="300"/>
                  </a:lnTo>
                  <a:lnTo>
                    <a:pt x="1581" y="269"/>
                  </a:lnTo>
                  <a:lnTo>
                    <a:pt x="1640" y="235"/>
                  </a:lnTo>
                  <a:lnTo>
                    <a:pt x="1693" y="202"/>
                  </a:lnTo>
                  <a:lnTo>
                    <a:pt x="1735" y="162"/>
                  </a:lnTo>
                  <a:lnTo>
                    <a:pt x="1768" y="123"/>
                  </a:lnTo>
                  <a:lnTo>
                    <a:pt x="1794" y="84"/>
                  </a:lnTo>
                  <a:lnTo>
                    <a:pt x="1808" y="42"/>
                  </a:lnTo>
                  <a:lnTo>
                    <a:pt x="181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82600" y="3192480"/>
              <a:ext cx="180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0800" y="3192480"/>
              <a:ext cx="144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62120" y="3992400"/>
              <a:ext cx="16020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2" y="11"/>
                  </a:lnTo>
                  <a:lnTo>
                    <a:pt x="96" y="28"/>
                  </a:lnTo>
                  <a:lnTo>
                    <a:pt x="101" y="50"/>
                  </a:lnTo>
                  <a:lnTo>
                    <a:pt x="96" y="70"/>
                  </a:lnTo>
                  <a:lnTo>
                    <a:pt x="82" y="89"/>
                  </a:lnTo>
                  <a:lnTo>
                    <a:pt x="62" y="98"/>
                  </a:lnTo>
                  <a:lnTo>
                    <a:pt x="40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01840" y="3992400"/>
              <a:ext cx="16020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2" y="98"/>
                  </a:lnTo>
                  <a:lnTo>
                    <a:pt x="40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81360" y="383220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2" y="11"/>
                  </a:lnTo>
                  <a:lnTo>
                    <a:pt x="96" y="28"/>
                  </a:lnTo>
                  <a:lnTo>
                    <a:pt x="101" y="50"/>
                  </a:lnTo>
                  <a:lnTo>
                    <a:pt x="96" y="70"/>
                  </a:lnTo>
                  <a:lnTo>
                    <a:pt x="82" y="90"/>
                  </a:lnTo>
                  <a:lnTo>
                    <a:pt x="62" y="98"/>
                  </a:lnTo>
                  <a:lnTo>
                    <a:pt x="40" y="98"/>
                  </a:lnTo>
                  <a:lnTo>
                    <a:pt x="20" y="90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81280" y="3832200"/>
              <a:ext cx="16056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90"/>
                  </a:lnTo>
                  <a:lnTo>
                    <a:pt x="62" y="98"/>
                  </a:lnTo>
                  <a:lnTo>
                    <a:pt x="39" y="98"/>
                  </a:lnTo>
                  <a:lnTo>
                    <a:pt x="20" y="90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2240" y="4032360"/>
              <a:ext cx="81000" cy="7596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0" y="25"/>
                  </a:moveTo>
                  <a:lnTo>
                    <a:pt x="6" y="39"/>
                  </a:lnTo>
                  <a:lnTo>
                    <a:pt x="17" y="48"/>
                  </a:lnTo>
                  <a:lnTo>
                    <a:pt x="34" y="48"/>
                  </a:lnTo>
                  <a:lnTo>
                    <a:pt x="45" y="39"/>
                  </a:lnTo>
                  <a:lnTo>
                    <a:pt x="51" y="25"/>
                  </a:lnTo>
                  <a:lnTo>
                    <a:pt x="45" y="8"/>
                  </a:lnTo>
                  <a:lnTo>
                    <a:pt x="34" y="0"/>
                  </a:lnTo>
                  <a:lnTo>
                    <a:pt x="17" y="0"/>
                  </a:lnTo>
                  <a:lnTo>
                    <a:pt x="6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822320" y="3911760"/>
              <a:ext cx="1758960" cy="161640"/>
              <a:chOff x="1822320" y="3911760"/>
              <a:chExt cx="1758960" cy="161640"/>
            </a:xfrm>
          </p:grpSpPr>
          <p:sp>
            <p:nvSpPr>
              <p:cNvPr id="258" name=""/>
              <p:cNvSpPr/>
              <p:nvPr/>
            </p:nvSpPr>
            <p:spPr>
              <a:xfrm>
                <a:off x="1822320" y="4071960"/>
                <a:ext cx="4795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941560" y="3911760"/>
                <a:ext cx="6397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541680" y="3871800"/>
              <a:ext cx="79560" cy="7632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25"/>
                  </a:moveTo>
                  <a:lnTo>
                    <a:pt x="5" y="39"/>
                  </a:lnTo>
                  <a:lnTo>
                    <a:pt x="17" y="48"/>
                  </a:lnTo>
                  <a:lnTo>
                    <a:pt x="33" y="48"/>
                  </a:lnTo>
                  <a:lnTo>
                    <a:pt x="45" y="39"/>
                  </a:lnTo>
                  <a:lnTo>
                    <a:pt x="50" y="25"/>
                  </a:lnTo>
                  <a:lnTo>
                    <a:pt x="45" y="9"/>
                  </a:lnTo>
                  <a:lnTo>
                    <a:pt x="33" y="0"/>
                  </a:lnTo>
                  <a:lnTo>
                    <a:pt x="17" y="0"/>
                  </a:lnTo>
                  <a:lnTo>
                    <a:pt x="5" y="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741480" y="2631960"/>
            <a:ext cx="3999240" cy="1839960"/>
            <a:chOff x="3741480" y="2631960"/>
            <a:chExt cx="3999240" cy="1839960"/>
          </a:xfrm>
        </p:grpSpPr>
        <p:sp>
          <p:nvSpPr>
            <p:cNvPr id="262" name=""/>
            <p:cNvSpPr/>
            <p:nvPr/>
          </p:nvSpPr>
          <p:spPr>
            <a:xfrm>
              <a:off x="4861080" y="2631960"/>
              <a:ext cx="2877840" cy="1116000"/>
            </a:xfrm>
            <a:custGeom>
              <a:avLst/>
              <a:gdLst/>
              <a:ahLst/>
              <a:rect l="l" t="t" r="r" b="b"/>
              <a:pathLst>
                <a:path w="1813" h="703">
                  <a:moveTo>
                    <a:pt x="0" y="353"/>
                  </a:moveTo>
                  <a:lnTo>
                    <a:pt x="5" y="314"/>
                  </a:lnTo>
                  <a:lnTo>
                    <a:pt x="22" y="277"/>
                  </a:lnTo>
                  <a:lnTo>
                    <a:pt x="47" y="238"/>
                  </a:lnTo>
                  <a:lnTo>
                    <a:pt x="84" y="205"/>
                  </a:lnTo>
                  <a:lnTo>
                    <a:pt x="128" y="171"/>
                  </a:lnTo>
                  <a:lnTo>
                    <a:pt x="184" y="137"/>
                  </a:lnTo>
                  <a:lnTo>
                    <a:pt x="249" y="109"/>
                  </a:lnTo>
                  <a:lnTo>
                    <a:pt x="319" y="84"/>
                  </a:lnTo>
                  <a:lnTo>
                    <a:pt x="397" y="59"/>
                  </a:lnTo>
                  <a:lnTo>
                    <a:pt x="481" y="40"/>
                  </a:lnTo>
                  <a:lnTo>
                    <a:pt x="571" y="26"/>
                  </a:lnTo>
                  <a:lnTo>
                    <a:pt x="663" y="12"/>
                  </a:lnTo>
                  <a:lnTo>
                    <a:pt x="761" y="3"/>
                  </a:lnTo>
                  <a:lnTo>
                    <a:pt x="856" y="0"/>
                  </a:lnTo>
                  <a:lnTo>
                    <a:pt x="957" y="0"/>
                  </a:lnTo>
                  <a:lnTo>
                    <a:pt x="1052" y="3"/>
                  </a:lnTo>
                  <a:lnTo>
                    <a:pt x="1150" y="12"/>
                  </a:lnTo>
                  <a:lnTo>
                    <a:pt x="1242" y="26"/>
                  </a:lnTo>
                  <a:lnTo>
                    <a:pt x="1331" y="40"/>
                  </a:lnTo>
                  <a:lnTo>
                    <a:pt x="1415" y="59"/>
                  </a:lnTo>
                  <a:lnTo>
                    <a:pt x="1494" y="84"/>
                  </a:lnTo>
                  <a:lnTo>
                    <a:pt x="1564" y="109"/>
                  </a:lnTo>
                  <a:lnTo>
                    <a:pt x="1628" y="137"/>
                  </a:lnTo>
                  <a:lnTo>
                    <a:pt x="1684" y="171"/>
                  </a:lnTo>
                  <a:lnTo>
                    <a:pt x="1729" y="205"/>
                  </a:lnTo>
                  <a:lnTo>
                    <a:pt x="1765" y="238"/>
                  </a:lnTo>
                  <a:lnTo>
                    <a:pt x="1790" y="277"/>
                  </a:lnTo>
                  <a:lnTo>
                    <a:pt x="1807" y="314"/>
                  </a:lnTo>
                  <a:lnTo>
                    <a:pt x="1813" y="353"/>
                  </a:lnTo>
                  <a:lnTo>
                    <a:pt x="1807" y="389"/>
                  </a:lnTo>
                  <a:lnTo>
                    <a:pt x="1790" y="429"/>
                  </a:lnTo>
                  <a:lnTo>
                    <a:pt x="1765" y="465"/>
                  </a:lnTo>
                  <a:lnTo>
                    <a:pt x="1729" y="501"/>
                  </a:lnTo>
                  <a:lnTo>
                    <a:pt x="1684" y="535"/>
                  </a:lnTo>
                  <a:lnTo>
                    <a:pt x="1628" y="566"/>
                  </a:lnTo>
                  <a:lnTo>
                    <a:pt x="1564" y="594"/>
                  </a:lnTo>
                  <a:lnTo>
                    <a:pt x="1494" y="622"/>
                  </a:lnTo>
                  <a:lnTo>
                    <a:pt x="1415" y="644"/>
                  </a:lnTo>
                  <a:lnTo>
                    <a:pt x="1331" y="664"/>
                  </a:lnTo>
                  <a:lnTo>
                    <a:pt x="1242" y="681"/>
                  </a:lnTo>
                  <a:lnTo>
                    <a:pt x="1150" y="692"/>
                  </a:lnTo>
                  <a:lnTo>
                    <a:pt x="1052" y="700"/>
                  </a:lnTo>
                  <a:lnTo>
                    <a:pt x="957" y="703"/>
                  </a:lnTo>
                  <a:lnTo>
                    <a:pt x="856" y="703"/>
                  </a:lnTo>
                  <a:lnTo>
                    <a:pt x="761" y="700"/>
                  </a:lnTo>
                  <a:lnTo>
                    <a:pt x="663" y="692"/>
                  </a:lnTo>
                  <a:lnTo>
                    <a:pt x="571" y="681"/>
                  </a:lnTo>
                  <a:lnTo>
                    <a:pt x="481" y="664"/>
                  </a:lnTo>
                  <a:lnTo>
                    <a:pt x="397" y="644"/>
                  </a:lnTo>
                  <a:lnTo>
                    <a:pt x="319" y="622"/>
                  </a:lnTo>
                  <a:lnTo>
                    <a:pt x="249" y="594"/>
                  </a:lnTo>
                  <a:lnTo>
                    <a:pt x="184" y="566"/>
                  </a:lnTo>
                  <a:lnTo>
                    <a:pt x="128" y="535"/>
                  </a:lnTo>
                  <a:lnTo>
                    <a:pt x="84" y="501"/>
                  </a:lnTo>
                  <a:lnTo>
                    <a:pt x="47" y="465"/>
                  </a:lnTo>
                  <a:lnTo>
                    <a:pt x="22" y="429"/>
                  </a:lnTo>
                  <a:lnTo>
                    <a:pt x="5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3960" y="2805120"/>
              <a:ext cx="1430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Model B1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66680" y="3187800"/>
              <a:ext cx="1465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chema 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61080" y="3832200"/>
              <a:ext cx="2877840" cy="639720"/>
            </a:xfrm>
            <a:custGeom>
              <a:avLst/>
              <a:gdLst/>
              <a:ahLst/>
              <a:rect l="l" t="t" r="r" b="b"/>
              <a:pathLst>
                <a:path w="1813" h="403">
                  <a:moveTo>
                    <a:pt x="0" y="0"/>
                  </a:moveTo>
                  <a:lnTo>
                    <a:pt x="5" y="42"/>
                  </a:lnTo>
                  <a:lnTo>
                    <a:pt x="19" y="84"/>
                  </a:lnTo>
                  <a:lnTo>
                    <a:pt x="45" y="123"/>
                  </a:lnTo>
                  <a:lnTo>
                    <a:pt x="78" y="162"/>
                  </a:lnTo>
                  <a:lnTo>
                    <a:pt x="120" y="202"/>
                  </a:lnTo>
                  <a:lnTo>
                    <a:pt x="173" y="235"/>
                  </a:lnTo>
                  <a:lnTo>
                    <a:pt x="232" y="269"/>
                  </a:lnTo>
                  <a:lnTo>
                    <a:pt x="299" y="300"/>
                  </a:lnTo>
                  <a:lnTo>
                    <a:pt x="375" y="325"/>
                  </a:lnTo>
                  <a:lnTo>
                    <a:pt x="453" y="347"/>
                  </a:lnTo>
                  <a:lnTo>
                    <a:pt x="537" y="367"/>
                  </a:lnTo>
                  <a:lnTo>
                    <a:pt x="626" y="384"/>
                  </a:lnTo>
                  <a:lnTo>
                    <a:pt x="719" y="392"/>
                  </a:lnTo>
                  <a:lnTo>
                    <a:pt x="811" y="400"/>
                  </a:lnTo>
                  <a:lnTo>
                    <a:pt x="906" y="403"/>
                  </a:lnTo>
                  <a:lnTo>
                    <a:pt x="1001" y="400"/>
                  </a:lnTo>
                  <a:lnTo>
                    <a:pt x="1094" y="392"/>
                  </a:lnTo>
                  <a:lnTo>
                    <a:pt x="1186" y="384"/>
                  </a:lnTo>
                  <a:lnTo>
                    <a:pt x="1276" y="367"/>
                  </a:lnTo>
                  <a:lnTo>
                    <a:pt x="1359" y="347"/>
                  </a:lnTo>
                  <a:lnTo>
                    <a:pt x="1438" y="325"/>
                  </a:lnTo>
                  <a:lnTo>
                    <a:pt x="1513" y="300"/>
                  </a:lnTo>
                  <a:lnTo>
                    <a:pt x="1580" y="269"/>
                  </a:lnTo>
                  <a:lnTo>
                    <a:pt x="1639" y="235"/>
                  </a:lnTo>
                  <a:lnTo>
                    <a:pt x="1692" y="202"/>
                  </a:lnTo>
                  <a:lnTo>
                    <a:pt x="1734" y="162"/>
                  </a:lnTo>
                  <a:lnTo>
                    <a:pt x="1768" y="123"/>
                  </a:lnTo>
                  <a:lnTo>
                    <a:pt x="1793" y="84"/>
                  </a:lnTo>
                  <a:lnTo>
                    <a:pt x="1807" y="42"/>
                  </a:lnTo>
                  <a:lnTo>
                    <a:pt x="181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61080" y="3192480"/>
              <a:ext cx="144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38920" y="3192480"/>
              <a:ext cx="180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80040" y="383220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90"/>
                  </a:lnTo>
                  <a:lnTo>
                    <a:pt x="62" y="98"/>
                  </a:lnTo>
                  <a:lnTo>
                    <a:pt x="39" y="98"/>
                  </a:lnTo>
                  <a:lnTo>
                    <a:pt x="20" y="90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59760" y="3832200"/>
              <a:ext cx="158760" cy="15552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50"/>
                  </a:moveTo>
                  <a:lnTo>
                    <a:pt x="5" y="28"/>
                  </a:lnTo>
                  <a:lnTo>
                    <a:pt x="19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0" y="50"/>
                  </a:lnTo>
                  <a:lnTo>
                    <a:pt x="95" y="70"/>
                  </a:lnTo>
                  <a:lnTo>
                    <a:pt x="81" y="90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19" y="90"/>
                  </a:lnTo>
                  <a:lnTo>
                    <a:pt x="5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59480" y="3992400"/>
              <a:ext cx="16056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00800" y="3992400"/>
              <a:ext cx="158760" cy="15588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50"/>
                  </a:moveTo>
                  <a:lnTo>
                    <a:pt x="5" y="28"/>
                  </a:lnTo>
                  <a:lnTo>
                    <a:pt x="19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0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19" y="89"/>
                  </a:lnTo>
                  <a:lnTo>
                    <a:pt x="5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741480" y="3911760"/>
              <a:ext cx="1438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40440" y="3871800"/>
              <a:ext cx="79200" cy="7632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25"/>
                  </a:moveTo>
                  <a:lnTo>
                    <a:pt x="6" y="39"/>
                  </a:lnTo>
                  <a:lnTo>
                    <a:pt x="17" y="48"/>
                  </a:lnTo>
                  <a:lnTo>
                    <a:pt x="34" y="48"/>
                  </a:lnTo>
                  <a:lnTo>
                    <a:pt x="45" y="39"/>
                  </a:lnTo>
                  <a:lnTo>
                    <a:pt x="50" y="25"/>
                  </a:lnTo>
                  <a:lnTo>
                    <a:pt x="45" y="9"/>
                  </a:lnTo>
                  <a:lnTo>
                    <a:pt x="34" y="0"/>
                  </a:lnTo>
                  <a:lnTo>
                    <a:pt x="17" y="0"/>
                  </a:lnTo>
                  <a:lnTo>
                    <a:pt x="6" y="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63280" y="1913040"/>
            <a:ext cx="3197520" cy="2936880"/>
            <a:chOff x="863280" y="1913040"/>
            <a:chExt cx="3197520" cy="2936880"/>
          </a:xfrm>
        </p:grpSpPr>
        <p:sp>
          <p:nvSpPr>
            <p:cNvPr id="275" name=""/>
            <p:cNvSpPr/>
            <p:nvPr/>
          </p:nvSpPr>
          <p:spPr>
            <a:xfrm>
              <a:off x="1004760" y="47307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0" y="0"/>
                  </a:moveTo>
                  <a:lnTo>
                    <a:pt x="112" y="39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863280" y="3192480"/>
              <a:ext cx="1602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82600" y="1913040"/>
              <a:ext cx="2878200" cy="4791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96440" y="1957320"/>
              <a:ext cx="2454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I AX, Schema 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63640" y="2152800"/>
              <a:ext cx="318960" cy="1039680"/>
            </a:xfrm>
            <a:custGeom>
              <a:avLst/>
              <a:gdLst/>
              <a:ahLst/>
              <a:rect l="l" t="t" r="r" b="b"/>
              <a:pathLst>
                <a:path w="201" h="655">
                  <a:moveTo>
                    <a:pt x="201" y="0"/>
                  </a:moveTo>
                  <a:lnTo>
                    <a:pt x="0" y="0"/>
                  </a:lnTo>
                  <a:lnTo>
                    <a:pt x="0" y="655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63640" y="3192480"/>
              <a:ext cx="160200" cy="1600200"/>
            </a:xfrm>
            <a:custGeom>
              <a:avLst/>
              <a:gdLst/>
              <a:ahLst/>
              <a:rect l="l" t="t" r="r" b="b"/>
              <a:pathLst>
                <a:path w="101" h="1008">
                  <a:moveTo>
                    <a:pt x="101" y="1008"/>
                  </a:moveTo>
                  <a:lnTo>
                    <a:pt x="0" y="1008"/>
                  </a:lnTo>
                  <a:lnTo>
                    <a:pt x="0" y="0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04760" y="31305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0" y="0"/>
                  </a:moveTo>
                  <a:lnTo>
                    <a:pt x="112" y="39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060800" y="1592280"/>
            <a:ext cx="3678120" cy="1657440"/>
            <a:chOff x="4060800" y="1592280"/>
            <a:chExt cx="3678120" cy="1657440"/>
          </a:xfrm>
        </p:grpSpPr>
        <p:sp>
          <p:nvSpPr>
            <p:cNvPr id="283" name=""/>
            <p:cNvSpPr/>
            <p:nvPr/>
          </p:nvSpPr>
          <p:spPr>
            <a:xfrm>
              <a:off x="4060800" y="31305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112" y="75"/>
                  </a:moveTo>
                  <a:lnTo>
                    <a:pt x="0" y="39"/>
                  </a:lnTo>
                  <a:lnTo>
                    <a:pt x="112" y="0"/>
                  </a:lnTo>
                  <a:lnTo>
                    <a:pt x="11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61080" y="1592280"/>
              <a:ext cx="2877840" cy="4809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72760" y="1636560"/>
              <a:ext cx="2454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I BX, Schema 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60760" y="1832040"/>
              <a:ext cx="400320" cy="1360440"/>
            </a:xfrm>
            <a:custGeom>
              <a:avLst/>
              <a:gdLst/>
              <a:ahLst/>
              <a:rect l="l" t="t" r="r" b="b"/>
              <a:pathLst>
                <a:path w="252" h="857">
                  <a:moveTo>
                    <a:pt x="252" y="0"/>
                  </a:moveTo>
                  <a:lnTo>
                    <a:pt x="0" y="0"/>
                  </a:lnTo>
                  <a:lnTo>
                    <a:pt x="0" y="857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21000" y="3192480"/>
              <a:ext cx="2397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500360" y="3192480"/>
              <a:ext cx="19980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83240" y="31305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0" y="0"/>
                  </a:moveTo>
                  <a:lnTo>
                    <a:pt x="112" y="39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861080" y="2232000"/>
            <a:ext cx="3197160" cy="2617920"/>
            <a:chOff x="4861080" y="2232000"/>
            <a:chExt cx="3197160" cy="2617920"/>
          </a:xfrm>
        </p:grpSpPr>
        <p:sp>
          <p:nvSpPr>
            <p:cNvPr id="291" name=""/>
            <p:cNvSpPr/>
            <p:nvPr/>
          </p:nvSpPr>
          <p:spPr>
            <a:xfrm>
              <a:off x="7738920" y="47307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112" y="75"/>
                  </a:moveTo>
                  <a:lnTo>
                    <a:pt x="0" y="39"/>
                  </a:lnTo>
                  <a:lnTo>
                    <a:pt x="112" y="0"/>
                  </a:lnTo>
                  <a:lnTo>
                    <a:pt x="11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61080" y="2232000"/>
              <a:ext cx="2877840" cy="4809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72760" y="2276640"/>
              <a:ext cx="2454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I BY, Schema Y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38920" y="2473200"/>
              <a:ext cx="319320" cy="719280"/>
            </a:xfrm>
            <a:custGeom>
              <a:avLst/>
              <a:gdLst/>
              <a:ahLst/>
              <a:rect l="l" t="t" r="r" b="b"/>
              <a:pathLst>
                <a:path w="201" h="453">
                  <a:moveTo>
                    <a:pt x="0" y="0"/>
                  </a:moveTo>
                  <a:lnTo>
                    <a:pt x="201" y="0"/>
                  </a:lnTo>
                  <a:lnTo>
                    <a:pt x="201" y="453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97680" y="3192480"/>
              <a:ext cx="160560" cy="1600200"/>
            </a:xfrm>
            <a:custGeom>
              <a:avLst/>
              <a:gdLst/>
              <a:ahLst/>
              <a:rect l="l" t="t" r="r" b="b"/>
              <a:pathLst>
                <a:path w="101" h="1008">
                  <a:moveTo>
                    <a:pt x="0" y="1008"/>
                  </a:moveTo>
                  <a:lnTo>
                    <a:pt x="101" y="1008"/>
                  </a:lnTo>
                  <a:lnTo>
                    <a:pt x="101" y="0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897680" y="3192480"/>
              <a:ext cx="16056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38920" y="3130560"/>
              <a:ext cx="177840" cy="119160"/>
            </a:xfrm>
            <a:custGeom>
              <a:avLst/>
              <a:gdLst/>
              <a:ahLst/>
              <a:rect l="l" t="t" r="r" b="b"/>
              <a:pathLst>
                <a:path w="112" h="75">
                  <a:moveTo>
                    <a:pt x="112" y="75"/>
                  </a:moveTo>
                  <a:lnTo>
                    <a:pt x="0" y="39"/>
                  </a:lnTo>
                  <a:lnTo>
                    <a:pt x="112" y="0"/>
                  </a:lnTo>
                  <a:lnTo>
                    <a:pt x="11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182600" y="4152960"/>
            <a:ext cx="2879640" cy="1919160"/>
            <a:chOff x="1182600" y="4152960"/>
            <a:chExt cx="2879640" cy="1919160"/>
          </a:xfrm>
        </p:grpSpPr>
        <p:sp>
          <p:nvSpPr>
            <p:cNvPr id="299" name=""/>
            <p:cNvSpPr/>
            <p:nvPr/>
          </p:nvSpPr>
          <p:spPr>
            <a:xfrm>
              <a:off x="3062160" y="5472000"/>
              <a:ext cx="79560" cy="7632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25"/>
                  </a:moveTo>
                  <a:lnTo>
                    <a:pt x="5" y="39"/>
                  </a:lnTo>
                  <a:lnTo>
                    <a:pt x="17" y="48"/>
                  </a:lnTo>
                  <a:lnTo>
                    <a:pt x="33" y="48"/>
                  </a:lnTo>
                  <a:lnTo>
                    <a:pt x="45" y="39"/>
                  </a:lnTo>
                  <a:lnTo>
                    <a:pt x="50" y="25"/>
                  </a:lnTo>
                  <a:lnTo>
                    <a:pt x="45" y="8"/>
                  </a:lnTo>
                  <a:lnTo>
                    <a:pt x="33" y="0"/>
                  </a:lnTo>
                  <a:lnTo>
                    <a:pt x="17" y="0"/>
                  </a:lnTo>
                  <a:lnTo>
                    <a:pt x="5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82600" y="4232160"/>
              <a:ext cx="2878200" cy="1116000"/>
            </a:xfrm>
            <a:custGeom>
              <a:avLst/>
              <a:gdLst/>
              <a:ahLst/>
              <a:rect l="l" t="t" r="r" b="b"/>
              <a:pathLst>
                <a:path w="1813" h="703">
                  <a:moveTo>
                    <a:pt x="0" y="353"/>
                  </a:moveTo>
                  <a:lnTo>
                    <a:pt x="6" y="314"/>
                  </a:lnTo>
                  <a:lnTo>
                    <a:pt x="23" y="277"/>
                  </a:lnTo>
                  <a:lnTo>
                    <a:pt x="48" y="238"/>
                  </a:lnTo>
                  <a:lnTo>
                    <a:pt x="84" y="204"/>
                  </a:lnTo>
                  <a:lnTo>
                    <a:pt x="129" y="171"/>
                  </a:lnTo>
                  <a:lnTo>
                    <a:pt x="185" y="137"/>
                  </a:lnTo>
                  <a:lnTo>
                    <a:pt x="249" y="109"/>
                  </a:lnTo>
                  <a:lnTo>
                    <a:pt x="319" y="84"/>
                  </a:lnTo>
                  <a:lnTo>
                    <a:pt x="398" y="59"/>
                  </a:lnTo>
                  <a:lnTo>
                    <a:pt x="482" y="39"/>
                  </a:lnTo>
                  <a:lnTo>
                    <a:pt x="571" y="25"/>
                  </a:lnTo>
                  <a:lnTo>
                    <a:pt x="663" y="11"/>
                  </a:lnTo>
                  <a:lnTo>
                    <a:pt x="761" y="3"/>
                  </a:lnTo>
                  <a:lnTo>
                    <a:pt x="856" y="0"/>
                  </a:lnTo>
                  <a:lnTo>
                    <a:pt x="957" y="0"/>
                  </a:lnTo>
                  <a:lnTo>
                    <a:pt x="1052" y="3"/>
                  </a:lnTo>
                  <a:lnTo>
                    <a:pt x="1150" y="11"/>
                  </a:lnTo>
                  <a:lnTo>
                    <a:pt x="1242" y="25"/>
                  </a:lnTo>
                  <a:lnTo>
                    <a:pt x="1332" y="39"/>
                  </a:lnTo>
                  <a:lnTo>
                    <a:pt x="1416" y="59"/>
                  </a:lnTo>
                  <a:lnTo>
                    <a:pt x="1494" y="84"/>
                  </a:lnTo>
                  <a:lnTo>
                    <a:pt x="1564" y="109"/>
                  </a:lnTo>
                  <a:lnTo>
                    <a:pt x="1629" y="137"/>
                  </a:lnTo>
                  <a:lnTo>
                    <a:pt x="1685" y="171"/>
                  </a:lnTo>
                  <a:lnTo>
                    <a:pt x="1729" y="204"/>
                  </a:lnTo>
                  <a:lnTo>
                    <a:pt x="1766" y="238"/>
                  </a:lnTo>
                  <a:lnTo>
                    <a:pt x="1791" y="277"/>
                  </a:lnTo>
                  <a:lnTo>
                    <a:pt x="1808" y="314"/>
                  </a:lnTo>
                  <a:lnTo>
                    <a:pt x="1813" y="353"/>
                  </a:lnTo>
                  <a:lnTo>
                    <a:pt x="1808" y="389"/>
                  </a:lnTo>
                  <a:lnTo>
                    <a:pt x="1791" y="428"/>
                  </a:lnTo>
                  <a:lnTo>
                    <a:pt x="1766" y="465"/>
                  </a:lnTo>
                  <a:lnTo>
                    <a:pt x="1729" y="501"/>
                  </a:lnTo>
                  <a:lnTo>
                    <a:pt x="1685" y="535"/>
                  </a:lnTo>
                  <a:lnTo>
                    <a:pt x="1629" y="565"/>
                  </a:lnTo>
                  <a:lnTo>
                    <a:pt x="1564" y="593"/>
                  </a:lnTo>
                  <a:lnTo>
                    <a:pt x="1494" y="621"/>
                  </a:lnTo>
                  <a:lnTo>
                    <a:pt x="1416" y="644"/>
                  </a:lnTo>
                  <a:lnTo>
                    <a:pt x="1332" y="663"/>
                  </a:lnTo>
                  <a:lnTo>
                    <a:pt x="1242" y="680"/>
                  </a:lnTo>
                  <a:lnTo>
                    <a:pt x="1150" y="691"/>
                  </a:lnTo>
                  <a:lnTo>
                    <a:pt x="1052" y="700"/>
                  </a:lnTo>
                  <a:lnTo>
                    <a:pt x="957" y="703"/>
                  </a:lnTo>
                  <a:lnTo>
                    <a:pt x="856" y="703"/>
                  </a:lnTo>
                  <a:lnTo>
                    <a:pt x="761" y="700"/>
                  </a:lnTo>
                  <a:lnTo>
                    <a:pt x="663" y="691"/>
                  </a:lnTo>
                  <a:lnTo>
                    <a:pt x="571" y="680"/>
                  </a:lnTo>
                  <a:lnTo>
                    <a:pt x="482" y="663"/>
                  </a:lnTo>
                  <a:lnTo>
                    <a:pt x="398" y="644"/>
                  </a:lnTo>
                  <a:lnTo>
                    <a:pt x="319" y="621"/>
                  </a:lnTo>
                  <a:lnTo>
                    <a:pt x="249" y="593"/>
                  </a:lnTo>
                  <a:lnTo>
                    <a:pt x="185" y="565"/>
                  </a:lnTo>
                  <a:lnTo>
                    <a:pt x="129" y="535"/>
                  </a:lnTo>
                  <a:lnTo>
                    <a:pt x="84" y="501"/>
                  </a:lnTo>
                  <a:lnTo>
                    <a:pt x="48" y="465"/>
                  </a:lnTo>
                  <a:lnTo>
                    <a:pt x="23" y="428"/>
                  </a:lnTo>
                  <a:lnTo>
                    <a:pt x="6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5840" y="4405320"/>
              <a:ext cx="1430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Model A2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88560" y="4788000"/>
              <a:ext cx="1465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chema 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82600" y="5432400"/>
              <a:ext cx="2878200" cy="639720"/>
            </a:xfrm>
            <a:custGeom>
              <a:avLst/>
              <a:gdLst/>
              <a:ahLst/>
              <a:rect l="l" t="t" r="r" b="b"/>
              <a:pathLst>
                <a:path w="1813" h="403">
                  <a:moveTo>
                    <a:pt x="0" y="0"/>
                  </a:moveTo>
                  <a:lnTo>
                    <a:pt x="6" y="42"/>
                  </a:lnTo>
                  <a:lnTo>
                    <a:pt x="20" y="84"/>
                  </a:lnTo>
                  <a:lnTo>
                    <a:pt x="45" y="123"/>
                  </a:lnTo>
                  <a:lnTo>
                    <a:pt x="79" y="162"/>
                  </a:lnTo>
                  <a:lnTo>
                    <a:pt x="121" y="201"/>
                  </a:lnTo>
                  <a:lnTo>
                    <a:pt x="174" y="235"/>
                  </a:lnTo>
                  <a:lnTo>
                    <a:pt x="233" y="268"/>
                  </a:lnTo>
                  <a:lnTo>
                    <a:pt x="300" y="299"/>
                  </a:lnTo>
                  <a:lnTo>
                    <a:pt x="375" y="324"/>
                  </a:lnTo>
                  <a:lnTo>
                    <a:pt x="454" y="347"/>
                  </a:lnTo>
                  <a:lnTo>
                    <a:pt x="537" y="366"/>
                  </a:lnTo>
                  <a:lnTo>
                    <a:pt x="627" y="383"/>
                  </a:lnTo>
                  <a:lnTo>
                    <a:pt x="719" y="392"/>
                  </a:lnTo>
                  <a:lnTo>
                    <a:pt x="812" y="400"/>
                  </a:lnTo>
                  <a:lnTo>
                    <a:pt x="907" y="403"/>
                  </a:lnTo>
                  <a:lnTo>
                    <a:pt x="1002" y="400"/>
                  </a:lnTo>
                  <a:lnTo>
                    <a:pt x="1094" y="392"/>
                  </a:lnTo>
                  <a:lnTo>
                    <a:pt x="1187" y="383"/>
                  </a:lnTo>
                  <a:lnTo>
                    <a:pt x="1276" y="366"/>
                  </a:lnTo>
                  <a:lnTo>
                    <a:pt x="1360" y="347"/>
                  </a:lnTo>
                  <a:lnTo>
                    <a:pt x="1438" y="324"/>
                  </a:lnTo>
                  <a:lnTo>
                    <a:pt x="1514" y="299"/>
                  </a:lnTo>
                  <a:lnTo>
                    <a:pt x="1581" y="268"/>
                  </a:lnTo>
                  <a:lnTo>
                    <a:pt x="1640" y="235"/>
                  </a:lnTo>
                  <a:lnTo>
                    <a:pt x="1693" y="201"/>
                  </a:lnTo>
                  <a:lnTo>
                    <a:pt x="1735" y="162"/>
                  </a:lnTo>
                  <a:lnTo>
                    <a:pt x="1768" y="123"/>
                  </a:lnTo>
                  <a:lnTo>
                    <a:pt x="1794" y="84"/>
                  </a:lnTo>
                  <a:lnTo>
                    <a:pt x="1808" y="42"/>
                  </a:lnTo>
                  <a:lnTo>
                    <a:pt x="181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82600" y="4792680"/>
              <a:ext cx="180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60800" y="4792680"/>
              <a:ext cx="144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62120" y="543240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40" y="0"/>
                  </a:lnTo>
                  <a:lnTo>
                    <a:pt x="62" y="0"/>
                  </a:lnTo>
                  <a:lnTo>
                    <a:pt x="82" y="11"/>
                  </a:lnTo>
                  <a:lnTo>
                    <a:pt x="96" y="28"/>
                  </a:lnTo>
                  <a:lnTo>
                    <a:pt x="101" y="50"/>
                  </a:lnTo>
                  <a:lnTo>
                    <a:pt x="96" y="70"/>
                  </a:lnTo>
                  <a:lnTo>
                    <a:pt x="82" y="89"/>
                  </a:lnTo>
                  <a:lnTo>
                    <a:pt x="62" y="98"/>
                  </a:lnTo>
                  <a:lnTo>
                    <a:pt x="40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02120" y="543240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62040" y="5751360"/>
              <a:ext cx="16056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1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1"/>
                  </a:lnTo>
                  <a:lnTo>
                    <a:pt x="95" y="70"/>
                  </a:lnTo>
                  <a:lnTo>
                    <a:pt x="81" y="90"/>
                  </a:lnTo>
                  <a:lnTo>
                    <a:pt x="62" y="98"/>
                  </a:lnTo>
                  <a:lnTo>
                    <a:pt x="39" y="98"/>
                  </a:lnTo>
                  <a:lnTo>
                    <a:pt x="20" y="90"/>
                  </a:lnTo>
                  <a:lnTo>
                    <a:pt x="6" y="7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22320" y="5511960"/>
              <a:ext cx="12798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43120" y="4152960"/>
              <a:ext cx="1440" cy="1279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861080" y="3992400"/>
            <a:ext cx="2879640" cy="2079720"/>
            <a:chOff x="4861080" y="3992400"/>
            <a:chExt cx="2879640" cy="2079720"/>
          </a:xfrm>
        </p:grpSpPr>
        <p:sp>
          <p:nvSpPr>
            <p:cNvPr id="312" name=""/>
            <p:cNvSpPr/>
            <p:nvPr/>
          </p:nvSpPr>
          <p:spPr>
            <a:xfrm>
              <a:off x="4861080" y="4232160"/>
              <a:ext cx="2877840" cy="1116000"/>
            </a:xfrm>
            <a:custGeom>
              <a:avLst/>
              <a:gdLst/>
              <a:ahLst/>
              <a:rect l="l" t="t" r="r" b="b"/>
              <a:pathLst>
                <a:path w="1813" h="703">
                  <a:moveTo>
                    <a:pt x="0" y="353"/>
                  </a:moveTo>
                  <a:lnTo>
                    <a:pt x="5" y="314"/>
                  </a:lnTo>
                  <a:lnTo>
                    <a:pt x="22" y="277"/>
                  </a:lnTo>
                  <a:lnTo>
                    <a:pt x="47" y="238"/>
                  </a:lnTo>
                  <a:lnTo>
                    <a:pt x="84" y="204"/>
                  </a:lnTo>
                  <a:lnTo>
                    <a:pt x="128" y="171"/>
                  </a:lnTo>
                  <a:lnTo>
                    <a:pt x="184" y="137"/>
                  </a:lnTo>
                  <a:lnTo>
                    <a:pt x="249" y="109"/>
                  </a:lnTo>
                  <a:lnTo>
                    <a:pt x="319" y="84"/>
                  </a:lnTo>
                  <a:lnTo>
                    <a:pt x="397" y="59"/>
                  </a:lnTo>
                  <a:lnTo>
                    <a:pt x="481" y="39"/>
                  </a:lnTo>
                  <a:lnTo>
                    <a:pt x="571" y="25"/>
                  </a:lnTo>
                  <a:lnTo>
                    <a:pt x="663" y="11"/>
                  </a:lnTo>
                  <a:lnTo>
                    <a:pt x="761" y="3"/>
                  </a:lnTo>
                  <a:lnTo>
                    <a:pt x="856" y="0"/>
                  </a:lnTo>
                  <a:lnTo>
                    <a:pt x="957" y="0"/>
                  </a:lnTo>
                  <a:lnTo>
                    <a:pt x="1052" y="3"/>
                  </a:lnTo>
                  <a:lnTo>
                    <a:pt x="1150" y="11"/>
                  </a:lnTo>
                  <a:lnTo>
                    <a:pt x="1242" y="25"/>
                  </a:lnTo>
                  <a:lnTo>
                    <a:pt x="1331" y="39"/>
                  </a:lnTo>
                  <a:lnTo>
                    <a:pt x="1415" y="59"/>
                  </a:lnTo>
                  <a:lnTo>
                    <a:pt x="1494" y="84"/>
                  </a:lnTo>
                  <a:lnTo>
                    <a:pt x="1564" y="109"/>
                  </a:lnTo>
                  <a:lnTo>
                    <a:pt x="1628" y="137"/>
                  </a:lnTo>
                  <a:lnTo>
                    <a:pt x="1684" y="171"/>
                  </a:lnTo>
                  <a:lnTo>
                    <a:pt x="1729" y="204"/>
                  </a:lnTo>
                  <a:lnTo>
                    <a:pt x="1765" y="238"/>
                  </a:lnTo>
                  <a:lnTo>
                    <a:pt x="1790" y="277"/>
                  </a:lnTo>
                  <a:lnTo>
                    <a:pt x="1807" y="314"/>
                  </a:lnTo>
                  <a:lnTo>
                    <a:pt x="1813" y="353"/>
                  </a:lnTo>
                  <a:lnTo>
                    <a:pt x="1807" y="389"/>
                  </a:lnTo>
                  <a:lnTo>
                    <a:pt x="1790" y="428"/>
                  </a:lnTo>
                  <a:lnTo>
                    <a:pt x="1765" y="465"/>
                  </a:lnTo>
                  <a:lnTo>
                    <a:pt x="1729" y="501"/>
                  </a:lnTo>
                  <a:lnTo>
                    <a:pt x="1684" y="535"/>
                  </a:lnTo>
                  <a:lnTo>
                    <a:pt x="1628" y="565"/>
                  </a:lnTo>
                  <a:lnTo>
                    <a:pt x="1564" y="593"/>
                  </a:lnTo>
                  <a:lnTo>
                    <a:pt x="1494" y="621"/>
                  </a:lnTo>
                  <a:lnTo>
                    <a:pt x="1415" y="644"/>
                  </a:lnTo>
                  <a:lnTo>
                    <a:pt x="1331" y="663"/>
                  </a:lnTo>
                  <a:lnTo>
                    <a:pt x="1242" y="680"/>
                  </a:lnTo>
                  <a:lnTo>
                    <a:pt x="1150" y="691"/>
                  </a:lnTo>
                  <a:lnTo>
                    <a:pt x="1052" y="700"/>
                  </a:lnTo>
                  <a:lnTo>
                    <a:pt x="957" y="703"/>
                  </a:lnTo>
                  <a:lnTo>
                    <a:pt x="856" y="703"/>
                  </a:lnTo>
                  <a:lnTo>
                    <a:pt x="761" y="700"/>
                  </a:lnTo>
                  <a:lnTo>
                    <a:pt x="663" y="691"/>
                  </a:lnTo>
                  <a:lnTo>
                    <a:pt x="571" y="680"/>
                  </a:lnTo>
                  <a:lnTo>
                    <a:pt x="481" y="663"/>
                  </a:lnTo>
                  <a:lnTo>
                    <a:pt x="397" y="644"/>
                  </a:lnTo>
                  <a:lnTo>
                    <a:pt x="319" y="621"/>
                  </a:lnTo>
                  <a:lnTo>
                    <a:pt x="249" y="593"/>
                  </a:lnTo>
                  <a:lnTo>
                    <a:pt x="184" y="565"/>
                  </a:lnTo>
                  <a:lnTo>
                    <a:pt x="128" y="535"/>
                  </a:lnTo>
                  <a:lnTo>
                    <a:pt x="84" y="501"/>
                  </a:lnTo>
                  <a:lnTo>
                    <a:pt x="47" y="465"/>
                  </a:lnTo>
                  <a:lnTo>
                    <a:pt x="22" y="428"/>
                  </a:lnTo>
                  <a:lnTo>
                    <a:pt x="5" y="389"/>
                  </a:lnTo>
                  <a:lnTo>
                    <a:pt x="0" y="35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83960" y="4405320"/>
              <a:ext cx="1430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Model B1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66680" y="4788000"/>
              <a:ext cx="1465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Schema Y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61080" y="5432400"/>
              <a:ext cx="2877840" cy="639720"/>
            </a:xfrm>
            <a:custGeom>
              <a:avLst/>
              <a:gdLst/>
              <a:ahLst/>
              <a:rect l="l" t="t" r="r" b="b"/>
              <a:pathLst>
                <a:path w="1813" h="403">
                  <a:moveTo>
                    <a:pt x="0" y="0"/>
                  </a:moveTo>
                  <a:lnTo>
                    <a:pt x="5" y="42"/>
                  </a:lnTo>
                  <a:lnTo>
                    <a:pt x="19" y="84"/>
                  </a:lnTo>
                  <a:lnTo>
                    <a:pt x="45" y="123"/>
                  </a:lnTo>
                  <a:lnTo>
                    <a:pt x="78" y="162"/>
                  </a:lnTo>
                  <a:lnTo>
                    <a:pt x="120" y="201"/>
                  </a:lnTo>
                  <a:lnTo>
                    <a:pt x="173" y="235"/>
                  </a:lnTo>
                  <a:lnTo>
                    <a:pt x="232" y="268"/>
                  </a:lnTo>
                  <a:lnTo>
                    <a:pt x="299" y="299"/>
                  </a:lnTo>
                  <a:lnTo>
                    <a:pt x="375" y="324"/>
                  </a:lnTo>
                  <a:lnTo>
                    <a:pt x="453" y="347"/>
                  </a:lnTo>
                  <a:lnTo>
                    <a:pt x="537" y="366"/>
                  </a:lnTo>
                  <a:lnTo>
                    <a:pt x="626" y="383"/>
                  </a:lnTo>
                  <a:lnTo>
                    <a:pt x="719" y="392"/>
                  </a:lnTo>
                  <a:lnTo>
                    <a:pt x="811" y="400"/>
                  </a:lnTo>
                  <a:lnTo>
                    <a:pt x="906" y="403"/>
                  </a:lnTo>
                  <a:lnTo>
                    <a:pt x="1001" y="400"/>
                  </a:lnTo>
                  <a:lnTo>
                    <a:pt x="1094" y="392"/>
                  </a:lnTo>
                  <a:lnTo>
                    <a:pt x="1186" y="383"/>
                  </a:lnTo>
                  <a:lnTo>
                    <a:pt x="1276" y="366"/>
                  </a:lnTo>
                  <a:lnTo>
                    <a:pt x="1359" y="347"/>
                  </a:lnTo>
                  <a:lnTo>
                    <a:pt x="1438" y="324"/>
                  </a:lnTo>
                  <a:lnTo>
                    <a:pt x="1513" y="299"/>
                  </a:lnTo>
                  <a:lnTo>
                    <a:pt x="1580" y="268"/>
                  </a:lnTo>
                  <a:lnTo>
                    <a:pt x="1639" y="235"/>
                  </a:lnTo>
                  <a:lnTo>
                    <a:pt x="1692" y="201"/>
                  </a:lnTo>
                  <a:lnTo>
                    <a:pt x="1734" y="162"/>
                  </a:lnTo>
                  <a:lnTo>
                    <a:pt x="1768" y="123"/>
                  </a:lnTo>
                  <a:lnTo>
                    <a:pt x="1793" y="84"/>
                  </a:lnTo>
                  <a:lnTo>
                    <a:pt x="1807" y="42"/>
                  </a:lnTo>
                  <a:lnTo>
                    <a:pt x="181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61080" y="4792680"/>
              <a:ext cx="144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38920" y="4792680"/>
              <a:ext cx="1800" cy="639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80040" y="543240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2" y="98"/>
                  </a:lnTo>
                  <a:lnTo>
                    <a:pt x="39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19760" y="5592600"/>
              <a:ext cx="16020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2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2" y="98"/>
                  </a:lnTo>
                  <a:lnTo>
                    <a:pt x="39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59480" y="5592600"/>
              <a:ext cx="160560" cy="15588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0" y="50"/>
                  </a:moveTo>
                  <a:lnTo>
                    <a:pt x="6" y="28"/>
                  </a:lnTo>
                  <a:lnTo>
                    <a:pt x="20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1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20" y="89"/>
                  </a:lnTo>
                  <a:lnTo>
                    <a:pt x="6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9760" y="5432400"/>
              <a:ext cx="158760" cy="15552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50"/>
                  </a:moveTo>
                  <a:lnTo>
                    <a:pt x="5" y="28"/>
                  </a:lnTo>
                  <a:lnTo>
                    <a:pt x="19" y="11"/>
                  </a:lnTo>
                  <a:lnTo>
                    <a:pt x="39" y="0"/>
                  </a:lnTo>
                  <a:lnTo>
                    <a:pt x="61" y="0"/>
                  </a:lnTo>
                  <a:lnTo>
                    <a:pt x="81" y="11"/>
                  </a:lnTo>
                  <a:lnTo>
                    <a:pt x="95" y="28"/>
                  </a:lnTo>
                  <a:lnTo>
                    <a:pt x="100" y="50"/>
                  </a:lnTo>
                  <a:lnTo>
                    <a:pt x="95" y="70"/>
                  </a:lnTo>
                  <a:lnTo>
                    <a:pt x="81" y="89"/>
                  </a:lnTo>
                  <a:lnTo>
                    <a:pt x="61" y="98"/>
                  </a:lnTo>
                  <a:lnTo>
                    <a:pt x="39" y="98"/>
                  </a:lnTo>
                  <a:lnTo>
                    <a:pt x="19" y="89"/>
                  </a:lnTo>
                  <a:lnTo>
                    <a:pt x="5" y="7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38960" y="3992400"/>
              <a:ext cx="1800" cy="1440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BEE-0182-4A0D-B959-A0EE361353D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2763720" y="2530440"/>
            <a:ext cx="4834440" cy="351000"/>
            <a:chOff x="2763720" y="2530440"/>
            <a:chExt cx="4834440" cy="351000"/>
          </a:xfrm>
        </p:grpSpPr>
        <p:sp>
          <p:nvSpPr>
            <p:cNvPr id="324" name=""/>
            <p:cNvSpPr/>
            <p:nvPr/>
          </p:nvSpPr>
          <p:spPr>
            <a:xfrm>
              <a:off x="2763720" y="2530440"/>
              <a:ext cx="2103480" cy="35100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08080" y="2563920"/>
              <a:ext cx="187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DAI (Part 22+2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28800" y="2563920"/>
              <a:ext cx="36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7200" y="2530440"/>
              <a:ext cx="1403280" cy="35100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47200" y="2563920"/>
              <a:ext cx="1116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763720" y="2881440"/>
            <a:ext cx="5494680" cy="3421080"/>
            <a:chOff x="2763720" y="2881440"/>
            <a:chExt cx="5494680" cy="3421080"/>
          </a:xfrm>
        </p:grpSpPr>
        <p:sp>
          <p:nvSpPr>
            <p:cNvPr id="330" name=""/>
            <p:cNvSpPr/>
            <p:nvPr/>
          </p:nvSpPr>
          <p:spPr>
            <a:xfrm>
              <a:off x="2763720" y="2881440"/>
              <a:ext cx="3506760" cy="34210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38320" y="4459320"/>
              <a:ext cx="1403640" cy="701640"/>
            </a:xfrm>
            <a:custGeom>
              <a:avLst/>
              <a:gdLst/>
              <a:ahLst/>
              <a:rect l="l" t="t" r="r" b="b"/>
              <a:pathLst>
                <a:path w="884" h="442">
                  <a:moveTo>
                    <a:pt x="0" y="221"/>
                  </a:moveTo>
                  <a:lnTo>
                    <a:pt x="6" y="185"/>
                  </a:lnTo>
                  <a:lnTo>
                    <a:pt x="25" y="151"/>
                  </a:lnTo>
                  <a:lnTo>
                    <a:pt x="52" y="117"/>
                  </a:lnTo>
                  <a:lnTo>
                    <a:pt x="92" y="86"/>
                  </a:lnTo>
                  <a:lnTo>
                    <a:pt x="141" y="59"/>
                  </a:lnTo>
                  <a:lnTo>
                    <a:pt x="200" y="37"/>
                  </a:lnTo>
                  <a:lnTo>
                    <a:pt x="264" y="19"/>
                  </a:lnTo>
                  <a:lnTo>
                    <a:pt x="335" y="6"/>
                  </a:lnTo>
                  <a:lnTo>
                    <a:pt x="405" y="0"/>
                  </a:lnTo>
                  <a:lnTo>
                    <a:pt x="479" y="0"/>
                  </a:lnTo>
                  <a:lnTo>
                    <a:pt x="549" y="6"/>
                  </a:lnTo>
                  <a:lnTo>
                    <a:pt x="620" y="19"/>
                  </a:lnTo>
                  <a:lnTo>
                    <a:pt x="684" y="37"/>
                  </a:lnTo>
                  <a:lnTo>
                    <a:pt x="740" y="59"/>
                  </a:lnTo>
                  <a:lnTo>
                    <a:pt x="792" y="86"/>
                  </a:lnTo>
                  <a:lnTo>
                    <a:pt x="832" y="117"/>
                  </a:lnTo>
                  <a:lnTo>
                    <a:pt x="859" y="151"/>
                  </a:lnTo>
                  <a:lnTo>
                    <a:pt x="878" y="185"/>
                  </a:lnTo>
                  <a:lnTo>
                    <a:pt x="884" y="221"/>
                  </a:lnTo>
                  <a:lnTo>
                    <a:pt x="878" y="258"/>
                  </a:lnTo>
                  <a:lnTo>
                    <a:pt x="859" y="292"/>
                  </a:lnTo>
                  <a:lnTo>
                    <a:pt x="832" y="326"/>
                  </a:lnTo>
                  <a:lnTo>
                    <a:pt x="792" y="356"/>
                  </a:lnTo>
                  <a:lnTo>
                    <a:pt x="740" y="384"/>
                  </a:lnTo>
                  <a:lnTo>
                    <a:pt x="684" y="406"/>
                  </a:lnTo>
                  <a:lnTo>
                    <a:pt x="620" y="424"/>
                  </a:lnTo>
                  <a:lnTo>
                    <a:pt x="549" y="436"/>
                  </a:lnTo>
                  <a:lnTo>
                    <a:pt x="479" y="442"/>
                  </a:lnTo>
                  <a:lnTo>
                    <a:pt x="405" y="442"/>
                  </a:lnTo>
                  <a:lnTo>
                    <a:pt x="335" y="436"/>
                  </a:lnTo>
                  <a:lnTo>
                    <a:pt x="264" y="424"/>
                  </a:lnTo>
                  <a:lnTo>
                    <a:pt x="200" y="406"/>
                  </a:lnTo>
                  <a:lnTo>
                    <a:pt x="141" y="384"/>
                  </a:lnTo>
                  <a:lnTo>
                    <a:pt x="92" y="356"/>
                  </a:lnTo>
                  <a:lnTo>
                    <a:pt x="52" y="326"/>
                  </a:lnTo>
                  <a:lnTo>
                    <a:pt x="25" y="292"/>
                  </a:lnTo>
                  <a:lnTo>
                    <a:pt x="6" y="258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14720" y="4635360"/>
              <a:ext cx="1401840" cy="701640"/>
            </a:xfrm>
            <a:custGeom>
              <a:avLst/>
              <a:gdLst/>
              <a:ahLst/>
              <a:rect l="l" t="t" r="r" b="b"/>
              <a:pathLst>
                <a:path w="883" h="442">
                  <a:moveTo>
                    <a:pt x="0" y="221"/>
                  </a:moveTo>
                  <a:lnTo>
                    <a:pt x="6" y="184"/>
                  </a:lnTo>
                  <a:lnTo>
                    <a:pt x="24" y="150"/>
                  </a:lnTo>
                  <a:lnTo>
                    <a:pt x="52" y="116"/>
                  </a:lnTo>
                  <a:lnTo>
                    <a:pt x="92" y="86"/>
                  </a:lnTo>
                  <a:lnTo>
                    <a:pt x="141" y="58"/>
                  </a:lnTo>
                  <a:lnTo>
                    <a:pt x="199" y="37"/>
                  </a:lnTo>
                  <a:lnTo>
                    <a:pt x="263" y="18"/>
                  </a:lnTo>
                  <a:lnTo>
                    <a:pt x="334" y="6"/>
                  </a:lnTo>
                  <a:lnTo>
                    <a:pt x="405" y="0"/>
                  </a:lnTo>
                  <a:lnTo>
                    <a:pt x="478" y="0"/>
                  </a:lnTo>
                  <a:lnTo>
                    <a:pt x="549" y="6"/>
                  </a:lnTo>
                  <a:lnTo>
                    <a:pt x="619" y="18"/>
                  </a:lnTo>
                  <a:lnTo>
                    <a:pt x="684" y="37"/>
                  </a:lnTo>
                  <a:lnTo>
                    <a:pt x="739" y="58"/>
                  </a:lnTo>
                  <a:lnTo>
                    <a:pt x="791" y="86"/>
                  </a:lnTo>
                  <a:lnTo>
                    <a:pt x="831" y="116"/>
                  </a:lnTo>
                  <a:lnTo>
                    <a:pt x="859" y="150"/>
                  </a:lnTo>
                  <a:lnTo>
                    <a:pt x="877" y="184"/>
                  </a:lnTo>
                  <a:lnTo>
                    <a:pt x="883" y="221"/>
                  </a:lnTo>
                  <a:lnTo>
                    <a:pt x="877" y="258"/>
                  </a:lnTo>
                  <a:lnTo>
                    <a:pt x="859" y="291"/>
                  </a:lnTo>
                  <a:lnTo>
                    <a:pt x="831" y="325"/>
                  </a:lnTo>
                  <a:lnTo>
                    <a:pt x="791" y="356"/>
                  </a:lnTo>
                  <a:lnTo>
                    <a:pt x="739" y="384"/>
                  </a:lnTo>
                  <a:lnTo>
                    <a:pt x="684" y="405"/>
                  </a:lnTo>
                  <a:lnTo>
                    <a:pt x="619" y="423"/>
                  </a:lnTo>
                  <a:lnTo>
                    <a:pt x="549" y="436"/>
                  </a:lnTo>
                  <a:lnTo>
                    <a:pt x="478" y="442"/>
                  </a:lnTo>
                  <a:lnTo>
                    <a:pt x="405" y="442"/>
                  </a:lnTo>
                  <a:lnTo>
                    <a:pt x="334" y="436"/>
                  </a:lnTo>
                  <a:lnTo>
                    <a:pt x="263" y="423"/>
                  </a:lnTo>
                  <a:lnTo>
                    <a:pt x="199" y="405"/>
                  </a:lnTo>
                  <a:lnTo>
                    <a:pt x="141" y="384"/>
                  </a:lnTo>
                  <a:lnTo>
                    <a:pt x="92" y="356"/>
                  </a:lnTo>
                  <a:lnTo>
                    <a:pt x="52" y="325"/>
                  </a:lnTo>
                  <a:lnTo>
                    <a:pt x="24" y="291"/>
                  </a:lnTo>
                  <a:lnTo>
                    <a:pt x="6" y="258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08040" y="4703760"/>
              <a:ext cx="1089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37080" y="498636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14720" y="5862600"/>
              <a:ext cx="1401840" cy="352440"/>
            </a:xfrm>
            <a:custGeom>
              <a:avLst/>
              <a:gdLst/>
              <a:ahLst/>
              <a:rect l="l" t="t" r="r" b="b"/>
              <a:pathLst>
                <a:path w="883" h="222">
                  <a:moveTo>
                    <a:pt x="0" y="0"/>
                  </a:moveTo>
                  <a:lnTo>
                    <a:pt x="6" y="34"/>
                  </a:lnTo>
                  <a:lnTo>
                    <a:pt x="21" y="68"/>
                  </a:lnTo>
                  <a:lnTo>
                    <a:pt x="49" y="102"/>
                  </a:lnTo>
                  <a:lnTo>
                    <a:pt x="82" y="129"/>
                  </a:lnTo>
                  <a:lnTo>
                    <a:pt x="128" y="157"/>
                  </a:lnTo>
                  <a:lnTo>
                    <a:pt x="181" y="179"/>
                  </a:lnTo>
                  <a:lnTo>
                    <a:pt x="242" y="197"/>
                  </a:lnTo>
                  <a:lnTo>
                    <a:pt x="303" y="209"/>
                  </a:lnTo>
                  <a:lnTo>
                    <a:pt x="371" y="218"/>
                  </a:lnTo>
                  <a:lnTo>
                    <a:pt x="441" y="222"/>
                  </a:lnTo>
                  <a:lnTo>
                    <a:pt x="509" y="218"/>
                  </a:lnTo>
                  <a:lnTo>
                    <a:pt x="576" y="209"/>
                  </a:lnTo>
                  <a:lnTo>
                    <a:pt x="641" y="197"/>
                  </a:lnTo>
                  <a:lnTo>
                    <a:pt x="702" y="179"/>
                  </a:lnTo>
                  <a:lnTo>
                    <a:pt x="754" y="157"/>
                  </a:lnTo>
                  <a:lnTo>
                    <a:pt x="797" y="129"/>
                  </a:lnTo>
                  <a:lnTo>
                    <a:pt x="834" y="102"/>
                  </a:lnTo>
                  <a:lnTo>
                    <a:pt x="862" y="68"/>
                  </a:lnTo>
                  <a:lnTo>
                    <a:pt x="877" y="34"/>
                  </a:lnTo>
                  <a:lnTo>
                    <a:pt x="88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14720" y="4986360"/>
              <a:ext cx="1440" cy="876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16560" y="4986360"/>
              <a:ext cx="1440" cy="876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38320" y="5688000"/>
              <a:ext cx="176400" cy="1746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0" y="0"/>
                  </a:moveTo>
                  <a:lnTo>
                    <a:pt x="12" y="34"/>
                  </a:lnTo>
                  <a:lnTo>
                    <a:pt x="37" y="68"/>
                  </a:lnTo>
                  <a:lnTo>
                    <a:pt x="71" y="92"/>
                  </a:lnTo>
                  <a:lnTo>
                    <a:pt x="111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92600" y="4459320"/>
              <a:ext cx="1403280" cy="701640"/>
            </a:xfrm>
            <a:custGeom>
              <a:avLst/>
              <a:gdLst/>
              <a:ahLst/>
              <a:rect l="l" t="t" r="r" b="b"/>
              <a:pathLst>
                <a:path w="884" h="442">
                  <a:moveTo>
                    <a:pt x="0" y="221"/>
                  </a:moveTo>
                  <a:lnTo>
                    <a:pt x="6" y="185"/>
                  </a:lnTo>
                  <a:lnTo>
                    <a:pt x="24" y="151"/>
                  </a:lnTo>
                  <a:lnTo>
                    <a:pt x="52" y="117"/>
                  </a:lnTo>
                  <a:lnTo>
                    <a:pt x="92" y="86"/>
                  </a:lnTo>
                  <a:lnTo>
                    <a:pt x="141" y="59"/>
                  </a:lnTo>
                  <a:lnTo>
                    <a:pt x="199" y="37"/>
                  </a:lnTo>
                  <a:lnTo>
                    <a:pt x="264" y="19"/>
                  </a:lnTo>
                  <a:lnTo>
                    <a:pt x="334" y="6"/>
                  </a:lnTo>
                  <a:lnTo>
                    <a:pt x="405" y="0"/>
                  </a:lnTo>
                  <a:lnTo>
                    <a:pt x="479" y="0"/>
                  </a:lnTo>
                  <a:lnTo>
                    <a:pt x="549" y="6"/>
                  </a:lnTo>
                  <a:lnTo>
                    <a:pt x="620" y="19"/>
                  </a:lnTo>
                  <a:lnTo>
                    <a:pt x="684" y="37"/>
                  </a:lnTo>
                  <a:lnTo>
                    <a:pt x="739" y="59"/>
                  </a:lnTo>
                  <a:lnTo>
                    <a:pt x="792" y="86"/>
                  </a:lnTo>
                  <a:lnTo>
                    <a:pt x="831" y="117"/>
                  </a:lnTo>
                  <a:lnTo>
                    <a:pt x="859" y="151"/>
                  </a:lnTo>
                  <a:lnTo>
                    <a:pt x="877" y="185"/>
                  </a:lnTo>
                  <a:lnTo>
                    <a:pt x="884" y="221"/>
                  </a:lnTo>
                  <a:lnTo>
                    <a:pt x="877" y="258"/>
                  </a:lnTo>
                  <a:lnTo>
                    <a:pt x="859" y="292"/>
                  </a:lnTo>
                  <a:lnTo>
                    <a:pt x="831" y="326"/>
                  </a:lnTo>
                  <a:lnTo>
                    <a:pt x="792" y="356"/>
                  </a:lnTo>
                  <a:lnTo>
                    <a:pt x="739" y="384"/>
                  </a:lnTo>
                  <a:lnTo>
                    <a:pt x="684" y="406"/>
                  </a:lnTo>
                  <a:lnTo>
                    <a:pt x="620" y="424"/>
                  </a:lnTo>
                  <a:lnTo>
                    <a:pt x="549" y="436"/>
                  </a:lnTo>
                  <a:lnTo>
                    <a:pt x="479" y="442"/>
                  </a:lnTo>
                  <a:lnTo>
                    <a:pt x="405" y="442"/>
                  </a:lnTo>
                  <a:lnTo>
                    <a:pt x="334" y="436"/>
                  </a:lnTo>
                  <a:lnTo>
                    <a:pt x="264" y="424"/>
                  </a:lnTo>
                  <a:lnTo>
                    <a:pt x="199" y="406"/>
                  </a:lnTo>
                  <a:lnTo>
                    <a:pt x="141" y="384"/>
                  </a:lnTo>
                  <a:lnTo>
                    <a:pt x="92" y="356"/>
                  </a:lnTo>
                  <a:lnTo>
                    <a:pt x="52" y="326"/>
                  </a:lnTo>
                  <a:lnTo>
                    <a:pt x="24" y="292"/>
                  </a:lnTo>
                  <a:lnTo>
                    <a:pt x="6" y="258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50000" y="4527720"/>
              <a:ext cx="9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ction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85560" y="4809960"/>
              <a:ext cx="108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map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92600" y="5688000"/>
              <a:ext cx="1403280" cy="351000"/>
            </a:xfrm>
            <a:custGeom>
              <a:avLst/>
              <a:gdLst/>
              <a:ahLst/>
              <a:rect l="l" t="t" r="r" b="b"/>
              <a:pathLst>
                <a:path w="884" h="221">
                  <a:moveTo>
                    <a:pt x="0" y="0"/>
                  </a:moveTo>
                  <a:lnTo>
                    <a:pt x="6" y="34"/>
                  </a:lnTo>
                  <a:lnTo>
                    <a:pt x="21" y="68"/>
                  </a:lnTo>
                  <a:lnTo>
                    <a:pt x="49" y="101"/>
                  </a:lnTo>
                  <a:lnTo>
                    <a:pt x="83" y="129"/>
                  </a:lnTo>
                  <a:lnTo>
                    <a:pt x="129" y="157"/>
                  </a:lnTo>
                  <a:lnTo>
                    <a:pt x="181" y="178"/>
                  </a:lnTo>
                  <a:lnTo>
                    <a:pt x="242" y="196"/>
                  </a:lnTo>
                  <a:lnTo>
                    <a:pt x="304" y="209"/>
                  </a:lnTo>
                  <a:lnTo>
                    <a:pt x="371" y="218"/>
                  </a:lnTo>
                  <a:lnTo>
                    <a:pt x="442" y="221"/>
                  </a:lnTo>
                  <a:lnTo>
                    <a:pt x="509" y="218"/>
                  </a:lnTo>
                  <a:lnTo>
                    <a:pt x="577" y="209"/>
                  </a:lnTo>
                  <a:lnTo>
                    <a:pt x="641" y="196"/>
                  </a:lnTo>
                  <a:lnTo>
                    <a:pt x="703" y="178"/>
                  </a:lnTo>
                  <a:lnTo>
                    <a:pt x="755" y="157"/>
                  </a:lnTo>
                  <a:lnTo>
                    <a:pt x="798" y="129"/>
                  </a:lnTo>
                  <a:lnTo>
                    <a:pt x="835" y="101"/>
                  </a:lnTo>
                  <a:lnTo>
                    <a:pt x="862" y="68"/>
                  </a:lnTo>
                  <a:lnTo>
                    <a:pt x="877" y="34"/>
                  </a:lnTo>
                  <a:lnTo>
                    <a:pt x="88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92600" y="4809960"/>
              <a:ext cx="180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095880" y="4809960"/>
              <a:ext cx="180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698520" y="3265560"/>
              <a:ext cx="1559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38320" y="3757680"/>
              <a:ext cx="3157560" cy="350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16800" y="3792600"/>
              <a:ext cx="126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daiS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16560" y="3056040"/>
              <a:ext cx="1440" cy="5270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52840" y="2881440"/>
              <a:ext cx="127080" cy="188640"/>
            </a:xfrm>
            <a:custGeom>
              <a:avLst/>
              <a:gdLst/>
              <a:ahLst/>
              <a:rect l="l" t="t" r="r" b="b"/>
              <a:pathLst>
                <a:path w="80" h="119">
                  <a:moveTo>
                    <a:pt x="0" y="119"/>
                  </a:moveTo>
                  <a:lnTo>
                    <a:pt x="40" y="0"/>
                  </a:lnTo>
                  <a:lnTo>
                    <a:pt x="8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52840" y="3562200"/>
              <a:ext cx="127080" cy="19548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639960" y="3055680"/>
              <a:ext cx="1800" cy="12286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76600" y="4264200"/>
              <a:ext cx="12708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76600" y="2881440"/>
              <a:ext cx="127080" cy="188640"/>
            </a:xfrm>
            <a:custGeom>
              <a:avLst/>
              <a:gdLst/>
              <a:ahLst/>
              <a:rect l="l" t="t" r="r" b="b"/>
              <a:pathLst>
                <a:path w="80" h="119">
                  <a:moveTo>
                    <a:pt x="0" y="119"/>
                  </a:moveTo>
                  <a:lnTo>
                    <a:pt x="40" y="0"/>
                  </a:lnTo>
                  <a:lnTo>
                    <a:pt x="8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394240" y="3056040"/>
              <a:ext cx="1800" cy="140328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30880" y="2881440"/>
              <a:ext cx="127080" cy="188640"/>
            </a:xfrm>
            <a:custGeom>
              <a:avLst/>
              <a:gdLst/>
              <a:ahLst/>
              <a:rect l="l" t="t" r="r" b="b"/>
              <a:pathLst>
                <a:path w="80" h="119">
                  <a:moveTo>
                    <a:pt x="0" y="119"/>
                  </a:moveTo>
                  <a:lnTo>
                    <a:pt x="40" y="0"/>
                  </a:lnTo>
                  <a:lnTo>
                    <a:pt x="8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80360" y="318780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96920" y="318780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02320" y="30463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33560" y="33289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38320" y="4809960"/>
              <a:ext cx="180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95280" y="3757680"/>
            <a:ext cx="2543040" cy="2368440"/>
            <a:chOff x="395280" y="3757680"/>
            <a:chExt cx="2543040" cy="2368440"/>
          </a:xfrm>
        </p:grpSpPr>
        <p:sp>
          <p:nvSpPr>
            <p:cNvPr id="362" name=""/>
            <p:cNvSpPr/>
            <p:nvPr/>
          </p:nvSpPr>
          <p:spPr>
            <a:xfrm>
              <a:off x="395280" y="4108320"/>
              <a:ext cx="1577880" cy="201780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2760" y="4459320"/>
              <a:ext cx="1403280" cy="701640"/>
            </a:xfrm>
            <a:custGeom>
              <a:avLst/>
              <a:gdLst/>
              <a:ahLst/>
              <a:rect l="l" t="t" r="r" b="b"/>
              <a:pathLst>
                <a:path w="884" h="442">
                  <a:moveTo>
                    <a:pt x="0" y="221"/>
                  </a:moveTo>
                  <a:lnTo>
                    <a:pt x="7" y="185"/>
                  </a:lnTo>
                  <a:lnTo>
                    <a:pt x="25" y="151"/>
                  </a:lnTo>
                  <a:lnTo>
                    <a:pt x="53" y="117"/>
                  </a:lnTo>
                  <a:lnTo>
                    <a:pt x="93" y="86"/>
                  </a:lnTo>
                  <a:lnTo>
                    <a:pt x="142" y="59"/>
                  </a:lnTo>
                  <a:lnTo>
                    <a:pt x="200" y="37"/>
                  </a:lnTo>
                  <a:lnTo>
                    <a:pt x="264" y="19"/>
                  </a:lnTo>
                  <a:lnTo>
                    <a:pt x="335" y="6"/>
                  </a:lnTo>
                  <a:lnTo>
                    <a:pt x="406" y="0"/>
                  </a:lnTo>
                  <a:lnTo>
                    <a:pt x="479" y="0"/>
                  </a:lnTo>
                  <a:lnTo>
                    <a:pt x="550" y="6"/>
                  </a:lnTo>
                  <a:lnTo>
                    <a:pt x="620" y="19"/>
                  </a:lnTo>
                  <a:lnTo>
                    <a:pt x="685" y="37"/>
                  </a:lnTo>
                  <a:lnTo>
                    <a:pt x="740" y="59"/>
                  </a:lnTo>
                  <a:lnTo>
                    <a:pt x="792" y="86"/>
                  </a:lnTo>
                  <a:lnTo>
                    <a:pt x="832" y="117"/>
                  </a:lnTo>
                  <a:lnTo>
                    <a:pt x="860" y="151"/>
                  </a:lnTo>
                  <a:lnTo>
                    <a:pt x="878" y="185"/>
                  </a:lnTo>
                  <a:lnTo>
                    <a:pt x="884" y="221"/>
                  </a:lnTo>
                  <a:lnTo>
                    <a:pt x="878" y="258"/>
                  </a:lnTo>
                  <a:lnTo>
                    <a:pt x="860" y="292"/>
                  </a:lnTo>
                  <a:lnTo>
                    <a:pt x="832" y="326"/>
                  </a:lnTo>
                  <a:lnTo>
                    <a:pt x="792" y="356"/>
                  </a:lnTo>
                  <a:lnTo>
                    <a:pt x="740" y="384"/>
                  </a:lnTo>
                  <a:lnTo>
                    <a:pt x="685" y="406"/>
                  </a:lnTo>
                  <a:lnTo>
                    <a:pt x="620" y="424"/>
                  </a:lnTo>
                  <a:lnTo>
                    <a:pt x="550" y="436"/>
                  </a:lnTo>
                  <a:lnTo>
                    <a:pt x="479" y="442"/>
                  </a:lnTo>
                  <a:lnTo>
                    <a:pt x="406" y="442"/>
                  </a:lnTo>
                  <a:lnTo>
                    <a:pt x="335" y="436"/>
                  </a:lnTo>
                  <a:lnTo>
                    <a:pt x="264" y="424"/>
                  </a:lnTo>
                  <a:lnTo>
                    <a:pt x="200" y="406"/>
                  </a:lnTo>
                  <a:lnTo>
                    <a:pt x="142" y="384"/>
                  </a:lnTo>
                  <a:lnTo>
                    <a:pt x="93" y="356"/>
                  </a:lnTo>
                  <a:lnTo>
                    <a:pt x="53" y="326"/>
                  </a:lnTo>
                  <a:lnTo>
                    <a:pt x="25" y="292"/>
                  </a:lnTo>
                  <a:lnTo>
                    <a:pt x="7" y="258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5720" y="4527720"/>
              <a:ext cx="81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46440" y="4809960"/>
              <a:ext cx="45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2760" y="5688000"/>
              <a:ext cx="1403280" cy="351000"/>
            </a:xfrm>
            <a:custGeom>
              <a:avLst/>
              <a:gdLst/>
              <a:ahLst/>
              <a:rect l="l" t="t" r="r" b="b"/>
              <a:pathLst>
                <a:path w="884" h="221">
                  <a:moveTo>
                    <a:pt x="0" y="0"/>
                  </a:moveTo>
                  <a:lnTo>
                    <a:pt x="7" y="34"/>
                  </a:lnTo>
                  <a:lnTo>
                    <a:pt x="22" y="68"/>
                  </a:lnTo>
                  <a:lnTo>
                    <a:pt x="50" y="101"/>
                  </a:lnTo>
                  <a:lnTo>
                    <a:pt x="83" y="129"/>
                  </a:lnTo>
                  <a:lnTo>
                    <a:pt x="129" y="157"/>
                  </a:lnTo>
                  <a:lnTo>
                    <a:pt x="181" y="178"/>
                  </a:lnTo>
                  <a:lnTo>
                    <a:pt x="243" y="196"/>
                  </a:lnTo>
                  <a:lnTo>
                    <a:pt x="304" y="209"/>
                  </a:lnTo>
                  <a:lnTo>
                    <a:pt x="372" y="218"/>
                  </a:lnTo>
                  <a:lnTo>
                    <a:pt x="442" y="221"/>
                  </a:lnTo>
                  <a:lnTo>
                    <a:pt x="510" y="218"/>
                  </a:lnTo>
                  <a:lnTo>
                    <a:pt x="577" y="209"/>
                  </a:lnTo>
                  <a:lnTo>
                    <a:pt x="642" y="196"/>
                  </a:lnTo>
                  <a:lnTo>
                    <a:pt x="703" y="178"/>
                  </a:lnTo>
                  <a:lnTo>
                    <a:pt x="755" y="157"/>
                  </a:lnTo>
                  <a:lnTo>
                    <a:pt x="798" y="129"/>
                  </a:lnTo>
                  <a:lnTo>
                    <a:pt x="835" y="101"/>
                  </a:lnTo>
                  <a:lnTo>
                    <a:pt x="863" y="68"/>
                  </a:lnTo>
                  <a:lnTo>
                    <a:pt x="878" y="34"/>
                  </a:lnTo>
                  <a:lnTo>
                    <a:pt x="88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2760" y="4809960"/>
              <a:ext cx="144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86040" y="4809960"/>
              <a:ext cx="144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5280" y="3757680"/>
              <a:ext cx="1577880" cy="350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42160" y="3792600"/>
              <a:ext cx="124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Sdai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49560" y="3933720"/>
              <a:ext cx="61416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73160" y="3870360"/>
              <a:ext cx="190440" cy="127080"/>
            </a:xfrm>
            <a:custGeom>
              <a:avLst/>
              <a:gdLst/>
              <a:ahLst/>
              <a:rect l="l" t="t" r="r" b="b"/>
              <a:pathLst>
                <a:path w="120" h="80">
                  <a:moveTo>
                    <a:pt x="120" y="80"/>
                  </a:moveTo>
                  <a:lnTo>
                    <a:pt x="0" y="40"/>
                  </a:lnTo>
                  <a:lnTo>
                    <a:pt x="120" y="0"/>
                  </a:lnTo>
                  <a:lnTo>
                    <a:pt x="12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43200" y="3870360"/>
              <a:ext cx="195120" cy="127080"/>
            </a:xfrm>
            <a:custGeom>
              <a:avLst/>
              <a:gdLst/>
              <a:ahLst/>
              <a:rect l="l" t="t" r="r" b="b"/>
              <a:pathLst>
                <a:path w="123" h="80">
                  <a:moveTo>
                    <a:pt x="0" y="0"/>
                  </a:moveTo>
                  <a:lnTo>
                    <a:pt x="123" y="40"/>
                  </a:lnTo>
                  <a:lnTo>
                    <a:pt x="0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84400" y="4108320"/>
              <a:ext cx="1440" cy="1764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20680" y="4264200"/>
              <a:ext cx="12708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095880" y="3870360"/>
            <a:ext cx="2281320" cy="2168640"/>
            <a:chOff x="6095880" y="3870360"/>
            <a:chExt cx="2281320" cy="2168640"/>
          </a:xfrm>
        </p:grpSpPr>
        <p:sp>
          <p:nvSpPr>
            <p:cNvPr id="377" name=""/>
            <p:cNvSpPr/>
            <p:nvPr/>
          </p:nvSpPr>
          <p:spPr>
            <a:xfrm>
              <a:off x="6972480" y="4459320"/>
              <a:ext cx="1403280" cy="701640"/>
            </a:xfrm>
            <a:custGeom>
              <a:avLst/>
              <a:gdLst/>
              <a:ahLst/>
              <a:rect l="l" t="t" r="r" b="b"/>
              <a:pathLst>
                <a:path w="884" h="442">
                  <a:moveTo>
                    <a:pt x="0" y="221"/>
                  </a:moveTo>
                  <a:lnTo>
                    <a:pt x="6" y="185"/>
                  </a:lnTo>
                  <a:lnTo>
                    <a:pt x="25" y="151"/>
                  </a:lnTo>
                  <a:lnTo>
                    <a:pt x="52" y="117"/>
                  </a:lnTo>
                  <a:lnTo>
                    <a:pt x="92" y="86"/>
                  </a:lnTo>
                  <a:lnTo>
                    <a:pt x="141" y="59"/>
                  </a:lnTo>
                  <a:lnTo>
                    <a:pt x="199" y="37"/>
                  </a:lnTo>
                  <a:lnTo>
                    <a:pt x="264" y="19"/>
                  </a:lnTo>
                  <a:lnTo>
                    <a:pt x="334" y="6"/>
                  </a:lnTo>
                  <a:lnTo>
                    <a:pt x="405" y="0"/>
                  </a:lnTo>
                  <a:lnTo>
                    <a:pt x="479" y="0"/>
                  </a:lnTo>
                  <a:lnTo>
                    <a:pt x="549" y="6"/>
                  </a:lnTo>
                  <a:lnTo>
                    <a:pt x="620" y="19"/>
                  </a:lnTo>
                  <a:lnTo>
                    <a:pt x="684" y="37"/>
                  </a:lnTo>
                  <a:lnTo>
                    <a:pt x="740" y="59"/>
                  </a:lnTo>
                  <a:lnTo>
                    <a:pt x="792" y="86"/>
                  </a:lnTo>
                  <a:lnTo>
                    <a:pt x="832" y="117"/>
                  </a:lnTo>
                  <a:lnTo>
                    <a:pt x="859" y="151"/>
                  </a:lnTo>
                  <a:lnTo>
                    <a:pt x="878" y="185"/>
                  </a:lnTo>
                  <a:lnTo>
                    <a:pt x="884" y="221"/>
                  </a:lnTo>
                  <a:lnTo>
                    <a:pt x="878" y="258"/>
                  </a:lnTo>
                  <a:lnTo>
                    <a:pt x="859" y="292"/>
                  </a:lnTo>
                  <a:lnTo>
                    <a:pt x="832" y="326"/>
                  </a:lnTo>
                  <a:lnTo>
                    <a:pt x="792" y="356"/>
                  </a:lnTo>
                  <a:lnTo>
                    <a:pt x="740" y="384"/>
                  </a:lnTo>
                  <a:lnTo>
                    <a:pt x="684" y="406"/>
                  </a:lnTo>
                  <a:lnTo>
                    <a:pt x="620" y="424"/>
                  </a:lnTo>
                  <a:lnTo>
                    <a:pt x="549" y="436"/>
                  </a:lnTo>
                  <a:lnTo>
                    <a:pt x="479" y="442"/>
                  </a:lnTo>
                  <a:lnTo>
                    <a:pt x="405" y="442"/>
                  </a:lnTo>
                  <a:lnTo>
                    <a:pt x="334" y="436"/>
                  </a:lnTo>
                  <a:lnTo>
                    <a:pt x="264" y="424"/>
                  </a:lnTo>
                  <a:lnTo>
                    <a:pt x="199" y="406"/>
                  </a:lnTo>
                  <a:lnTo>
                    <a:pt x="141" y="384"/>
                  </a:lnTo>
                  <a:lnTo>
                    <a:pt x="92" y="356"/>
                  </a:lnTo>
                  <a:lnTo>
                    <a:pt x="52" y="326"/>
                  </a:lnTo>
                  <a:lnTo>
                    <a:pt x="25" y="292"/>
                  </a:lnTo>
                  <a:lnTo>
                    <a:pt x="6" y="258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46000" y="4668840"/>
              <a:ext cx="112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21-fi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72480" y="5688000"/>
              <a:ext cx="1403280" cy="351000"/>
            </a:xfrm>
            <a:custGeom>
              <a:avLst/>
              <a:gdLst/>
              <a:ahLst/>
              <a:rect l="l" t="t" r="r" b="b"/>
              <a:pathLst>
                <a:path w="884" h="221">
                  <a:moveTo>
                    <a:pt x="0" y="0"/>
                  </a:moveTo>
                  <a:lnTo>
                    <a:pt x="6" y="34"/>
                  </a:lnTo>
                  <a:lnTo>
                    <a:pt x="21" y="68"/>
                  </a:lnTo>
                  <a:lnTo>
                    <a:pt x="49" y="101"/>
                  </a:lnTo>
                  <a:lnTo>
                    <a:pt x="83" y="129"/>
                  </a:lnTo>
                  <a:lnTo>
                    <a:pt x="129" y="157"/>
                  </a:lnTo>
                  <a:lnTo>
                    <a:pt x="181" y="178"/>
                  </a:lnTo>
                  <a:lnTo>
                    <a:pt x="242" y="196"/>
                  </a:lnTo>
                  <a:lnTo>
                    <a:pt x="304" y="209"/>
                  </a:lnTo>
                  <a:lnTo>
                    <a:pt x="371" y="218"/>
                  </a:lnTo>
                  <a:lnTo>
                    <a:pt x="442" y="221"/>
                  </a:lnTo>
                  <a:lnTo>
                    <a:pt x="509" y="218"/>
                  </a:lnTo>
                  <a:lnTo>
                    <a:pt x="577" y="209"/>
                  </a:lnTo>
                  <a:lnTo>
                    <a:pt x="641" y="196"/>
                  </a:lnTo>
                  <a:lnTo>
                    <a:pt x="703" y="178"/>
                  </a:lnTo>
                  <a:lnTo>
                    <a:pt x="755" y="157"/>
                  </a:lnTo>
                  <a:lnTo>
                    <a:pt x="798" y="129"/>
                  </a:lnTo>
                  <a:lnTo>
                    <a:pt x="835" y="101"/>
                  </a:lnTo>
                  <a:lnTo>
                    <a:pt x="862" y="68"/>
                  </a:lnTo>
                  <a:lnTo>
                    <a:pt x="878" y="34"/>
                  </a:lnTo>
                  <a:lnTo>
                    <a:pt x="88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72480" y="4809960"/>
              <a:ext cx="144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75760" y="4809960"/>
              <a:ext cx="1440" cy="87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70480" y="3933720"/>
              <a:ext cx="1403640" cy="18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5880" y="3870360"/>
              <a:ext cx="189000" cy="127080"/>
            </a:xfrm>
            <a:custGeom>
              <a:avLst/>
              <a:gdLst/>
              <a:ahLst/>
              <a:rect l="l" t="t" r="r" b="b"/>
              <a:pathLst>
                <a:path w="119" h="80">
                  <a:moveTo>
                    <a:pt x="119" y="80"/>
                  </a:moveTo>
                  <a:lnTo>
                    <a:pt x="0" y="40"/>
                  </a:lnTo>
                  <a:lnTo>
                    <a:pt x="119" y="0"/>
                  </a:lnTo>
                  <a:lnTo>
                    <a:pt x="119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674120" y="3933360"/>
              <a:ext cx="1440" cy="3510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10400" y="4264200"/>
              <a:ext cx="12708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763720" y="73080"/>
            <a:ext cx="5174640" cy="2457360"/>
            <a:chOff x="2763720" y="73080"/>
            <a:chExt cx="5174640" cy="2457360"/>
          </a:xfrm>
        </p:grpSpPr>
        <p:sp>
          <p:nvSpPr>
            <p:cNvPr id="387" name=""/>
            <p:cNvSpPr/>
            <p:nvPr/>
          </p:nvSpPr>
          <p:spPr>
            <a:xfrm>
              <a:off x="6709320" y="380880"/>
              <a:ext cx="1229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63720" y="73080"/>
              <a:ext cx="1227240" cy="701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72960" y="141120"/>
              <a:ext cx="68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2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59720" y="4237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90960" y="73080"/>
              <a:ext cx="2279520" cy="701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83560" y="28260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90960" y="950760"/>
              <a:ext cx="1440" cy="1746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27600" y="774720"/>
              <a:ext cx="126720" cy="190440"/>
            </a:xfrm>
            <a:custGeom>
              <a:avLst/>
              <a:gdLst/>
              <a:ahLst/>
              <a:rect l="l" t="t" r="r" b="b"/>
              <a:pathLst>
                <a:path w="80" h="120">
                  <a:moveTo>
                    <a:pt x="0" y="120"/>
                  </a:moveTo>
                  <a:lnTo>
                    <a:pt x="40" y="0"/>
                  </a:lnTo>
                  <a:lnTo>
                    <a:pt x="8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27600" y="1106640"/>
              <a:ext cx="12672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68840" y="950760"/>
              <a:ext cx="1800" cy="140364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05480" y="774720"/>
              <a:ext cx="127080" cy="190440"/>
            </a:xfrm>
            <a:custGeom>
              <a:avLst/>
              <a:gdLst/>
              <a:ahLst/>
              <a:rect l="l" t="t" r="r" b="b"/>
              <a:pathLst>
                <a:path w="80" h="120">
                  <a:moveTo>
                    <a:pt x="0" y="120"/>
                  </a:moveTo>
                  <a:lnTo>
                    <a:pt x="40" y="0"/>
                  </a:lnTo>
                  <a:lnTo>
                    <a:pt x="8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05480" y="2335320"/>
              <a:ext cx="12708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763720" y="1170000"/>
            <a:ext cx="5221800" cy="1360440"/>
            <a:chOff x="2763720" y="1170000"/>
            <a:chExt cx="5221800" cy="1360440"/>
          </a:xfrm>
        </p:grpSpPr>
        <p:sp>
          <p:nvSpPr>
            <p:cNvPr id="400" name=""/>
            <p:cNvSpPr/>
            <p:nvPr/>
          </p:nvSpPr>
          <p:spPr>
            <a:xfrm>
              <a:off x="2763720" y="1301760"/>
              <a:ext cx="789120" cy="701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19680" y="137016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D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52280" y="1652760"/>
              <a:ext cx="69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e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52840" y="1301760"/>
              <a:ext cx="701640" cy="701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95400" y="1370160"/>
              <a:ext cx="5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D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8840" y="1652760"/>
              <a:ext cx="53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54480" y="1301760"/>
              <a:ext cx="701640" cy="7016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56520" y="1511280"/>
              <a:ext cx="19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16680" y="1170000"/>
              <a:ext cx="96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us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54840" y="1447920"/>
              <a:ext cx="90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06880" y="1730520"/>
              <a:ext cx="117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9480" y="2013120"/>
              <a:ext cx="799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ean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90960" y="2178000"/>
              <a:ext cx="1440" cy="176400"/>
            </a:xfrm>
            <a:prstGeom prst="line">
              <a:avLst/>
            </a:prstGeom>
            <a:ln w="39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27600" y="2003400"/>
              <a:ext cx="126720" cy="190440"/>
            </a:xfrm>
            <a:custGeom>
              <a:avLst/>
              <a:gdLst/>
              <a:ahLst/>
              <a:rect l="l" t="t" r="r" b="b"/>
              <a:pathLst>
                <a:path w="80" h="120">
                  <a:moveTo>
                    <a:pt x="0" y="120"/>
                  </a:moveTo>
                  <a:lnTo>
                    <a:pt x="40" y="0"/>
                  </a:lnTo>
                  <a:lnTo>
                    <a:pt x="8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27600" y="2335320"/>
              <a:ext cx="126720" cy="195120"/>
            </a:xfrm>
            <a:custGeom>
              <a:avLst/>
              <a:gdLst/>
              <a:ahLst/>
              <a:rect l="l" t="t" r="r" b="b"/>
              <a:pathLst>
                <a:path w="80" h="123">
                  <a:moveTo>
                    <a:pt x="80" y="0"/>
                  </a:moveTo>
                  <a:lnTo>
                    <a:pt x="40" y="123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24360" y="137160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D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F33-6B43-4870-82CB-61DF9E5FC86A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57200" y="152280"/>
            <a:ext cx="8434440" cy="61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79760" y="5014800"/>
            <a:ext cx="4218120" cy="959040"/>
          </a:xfrm>
          <a:prstGeom prst="rect">
            <a:avLst/>
          </a:prstGeom>
          <a:solidFill>
            <a:srgbClr val="ccecff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479760" y="289080"/>
            <a:ext cx="4218120" cy="4725720"/>
          </a:xfrm>
          <a:prstGeom prst="rect">
            <a:avLst/>
          </a:prstGeom>
          <a:solidFill>
            <a:srgbClr val="ffffcc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8320" y="1727280"/>
            <a:ext cx="2740320" cy="4246560"/>
          </a:xfrm>
          <a:prstGeom prst="rect">
            <a:avLst/>
          </a:prstGeom>
          <a:solidFill>
            <a:srgbClr val="99ffcc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18080" y="563400"/>
            <a:ext cx="1546200" cy="5479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18080" y="1454040"/>
            <a:ext cx="1546200" cy="5479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18080" y="3029040"/>
            <a:ext cx="1546200" cy="5475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18080" y="4194000"/>
            <a:ext cx="1546200" cy="5479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18080" y="631800"/>
            <a:ext cx="1335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650200" y="684360"/>
            <a:ext cx="110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ai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18080" y="1522440"/>
            <a:ext cx="1687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628960" y="1574640"/>
            <a:ext cx="141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ai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18080" y="3097080"/>
            <a:ext cx="14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44880" y="3149640"/>
            <a:ext cx="100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dai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518080" y="4262400"/>
            <a:ext cx="15462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80160" y="4314960"/>
            <a:ext cx="70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238800" y="1111320"/>
            <a:ext cx="104760" cy="393480"/>
            <a:chOff x="6238800" y="1111320"/>
            <a:chExt cx="104760" cy="393480"/>
          </a:xfrm>
        </p:grpSpPr>
        <p:sp>
          <p:nvSpPr>
            <p:cNvPr id="433" name=""/>
            <p:cNvSpPr/>
            <p:nvPr/>
          </p:nvSpPr>
          <p:spPr>
            <a:xfrm>
              <a:off x="6291360" y="1111320"/>
              <a:ext cx="1440" cy="342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238800" y="1401840"/>
              <a:ext cx="10476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6238800" y="1951200"/>
            <a:ext cx="104760" cy="1077840"/>
            <a:chOff x="6238800" y="1951200"/>
            <a:chExt cx="104760" cy="1077840"/>
          </a:xfrm>
        </p:grpSpPr>
        <p:sp>
          <p:nvSpPr>
            <p:cNvPr id="436" name=""/>
            <p:cNvSpPr/>
            <p:nvPr/>
          </p:nvSpPr>
          <p:spPr>
            <a:xfrm>
              <a:off x="6291360" y="200196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8800" y="1951200"/>
              <a:ext cx="104760" cy="101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238800" y="3525840"/>
            <a:ext cx="104760" cy="668160"/>
            <a:chOff x="6238800" y="3525840"/>
            <a:chExt cx="104760" cy="668160"/>
          </a:xfrm>
        </p:grpSpPr>
        <p:sp>
          <p:nvSpPr>
            <p:cNvPr id="439" name=""/>
            <p:cNvSpPr/>
            <p:nvPr/>
          </p:nvSpPr>
          <p:spPr>
            <a:xfrm>
              <a:off x="6291360" y="3576600"/>
              <a:ext cx="1440" cy="617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38800" y="3525840"/>
              <a:ext cx="104760" cy="103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6291360" y="3800520"/>
            <a:ext cx="12999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10520" y="3851280"/>
            <a:ext cx="1148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wning_mod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15000" y="3800520"/>
            <a:ext cx="1371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8120" y="3851280"/>
            <a:ext cx="121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INV) instan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91360" y="1111320"/>
            <a:ext cx="1212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11960" y="1162080"/>
            <a:ext cx="105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rvers S[1:?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66680" y="4194000"/>
            <a:ext cx="1990800" cy="5479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3097080"/>
            <a:ext cx="1990800" cy="5479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12840" y="3218040"/>
            <a:ext cx="18972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140480" y="3270240"/>
            <a:ext cx="18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chema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00320" y="4313160"/>
            <a:ext cx="1722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90880" y="4365720"/>
            <a:ext cx="170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ntity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3005280" y="3321000"/>
            <a:ext cx="2512440" cy="101520"/>
            <a:chOff x="3005280" y="3321000"/>
            <a:chExt cx="2512440" cy="101520"/>
          </a:xfrm>
        </p:grpSpPr>
        <p:sp>
          <p:nvSpPr>
            <p:cNvPr id="454" name=""/>
            <p:cNvSpPr/>
            <p:nvPr/>
          </p:nvSpPr>
          <p:spPr>
            <a:xfrm flipH="1">
              <a:off x="3057120" y="3371760"/>
              <a:ext cx="24606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05280" y="3321000"/>
              <a:ext cx="104760" cy="101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005280" y="4416480"/>
            <a:ext cx="2512440" cy="102960"/>
            <a:chOff x="3005280" y="4416480"/>
            <a:chExt cx="2512440" cy="102960"/>
          </a:xfrm>
        </p:grpSpPr>
        <p:sp>
          <p:nvSpPr>
            <p:cNvPr id="457" name=""/>
            <p:cNvSpPr/>
            <p:nvPr/>
          </p:nvSpPr>
          <p:spPr>
            <a:xfrm flipH="1">
              <a:off x="3057120" y="4467240"/>
              <a:ext cx="246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05280" y="4416480"/>
              <a:ext cx="10476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127240" y="3594240"/>
            <a:ext cx="104760" cy="599400"/>
            <a:chOff x="2127240" y="3594240"/>
            <a:chExt cx="104760" cy="599400"/>
          </a:xfrm>
        </p:grpSpPr>
        <p:sp>
          <p:nvSpPr>
            <p:cNvPr id="460" name=""/>
            <p:cNvSpPr/>
            <p:nvPr/>
          </p:nvSpPr>
          <p:spPr>
            <a:xfrm flipV="1">
              <a:off x="2179800" y="3644640"/>
              <a:ext cx="1440" cy="549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27240" y="3594240"/>
              <a:ext cx="10476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808200" y="3800520"/>
            <a:ext cx="1301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31320" y="3851280"/>
            <a:ext cx="114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ent_sche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19440" y="3371760"/>
            <a:ext cx="1635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32840" y="3422520"/>
            <a:ext cx="149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underlying_sche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9760" y="357120"/>
            <a:ext cx="2935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23880" y="426960"/>
            <a:ext cx="2792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re SDAI Struc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53040" y="5153040"/>
            <a:ext cx="1690560" cy="4795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91360" y="5153040"/>
            <a:ext cx="1054080" cy="47952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00480" y="5221440"/>
            <a:ext cx="15987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85800" y="5273640"/>
            <a:ext cx="159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artesia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61200" y="5221440"/>
            <a:ext cx="8794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449400" y="5273640"/>
            <a:ext cx="8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956120" y="4741920"/>
            <a:ext cx="1335240" cy="479520"/>
            <a:chOff x="4956120" y="4741920"/>
            <a:chExt cx="1335240" cy="479520"/>
          </a:xfrm>
        </p:grpSpPr>
        <p:sp>
          <p:nvSpPr>
            <p:cNvPr id="475" name=""/>
            <p:cNvSpPr/>
            <p:nvPr/>
          </p:nvSpPr>
          <p:spPr>
            <a:xfrm>
              <a:off x="5025960" y="4741920"/>
              <a:ext cx="1265400" cy="41112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72" y="0"/>
                  </a:moveTo>
                  <a:lnTo>
                    <a:pt x="72" y="12"/>
                  </a:lnTo>
                  <a:lnTo>
                    <a:pt x="0" y="12"/>
                  </a:lnTo>
                  <a:lnTo>
                    <a:pt x="0" y="24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956120" y="5084640"/>
              <a:ext cx="139680" cy="136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291360" y="4741920"/>
            <a:ext cx="596880" cy="479520"/>
            <a:chOff x="6291360" y="4741920"/>
            <a:chExt cx="596880" cy="479520"/>
          </a:xfrm>
        </p:grpSpPr>
        <p:sp>
          <p:nvSpPr>
            <p:cNvPr id="478" name=""/>
            <p:cNvSpPr/>
            <p:nvPr/>
          </p:nvSpPr>
          <p:spPr>
            <a:xfrm>
              <a:off x="6291360" y="4741920"/>
              <a:ext cx="527040" cy="41112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0" y="12"/>
                  </a:lnTo>
                  <a:lnTo>
                    <a:pt x="30" y="12"/>
                  </a:lnTo>
                  <a:lnTo>
                    <a:pt x="30" y="24"/>
                  </a:lnTo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48560" y="5084640"/>
              <a:ext cx="139680" cy="136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5799240" y="5084640"/>
            <a:ext cx="422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00840" y="5153040"/>
            <a:ext cx="247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66680" y="5014800"/>
            <a:ext cx="1990800" cy="5493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371600" y="5153040"/>
            <a:ext cx="15638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56080" y="5203800"/>
            <a:ext cx="96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127240" y="4689360"/>
            <a:ext cx="104760" cy="325440"/>
            <a:chOff x="2127240" y="4689360"/>
            <a:chExt cx="104760" cy="325440"/>
          </a:xfrm>
        </p:grpSpPr>
        <p:sp>
          <p:nvSpPr>
            <p:cNvPr id="486" name=""/>
            <p:cNvSpPr/>
            <p:nvPr/>
          </p:nvSpPr>
          <p:spPr>
            <a:xfrm flipV="1">
              <a:off x="2179800" y="4741920"/>
              <a:ext cx="1440" cy="27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27240" y="4689360"/>
              <a:ext cx="104760" cy="103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598320" y="1797120"/>
            <a:ext cx="23544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7960" y="1847880"/>
            <a:ext cx="2109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DAI_dictionary_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dai.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79760" y="289080"/>
            <a:ext cx="2108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68320" y="339840"/>
            <a:ext cx="1873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DAI_session_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sdai.l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837560" y="4194000"/>
            <a:ext cx="8078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980480" y="424512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999200" y="448452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985160" y="5237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999200" y="547704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760920" y="2138400"/>
            <a:ext cx="1687320" cy="5475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760920" y="2206800"/>
            <a:ext cx="1687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67480" y="2259000"/>
            <a:ext cx="148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maIns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127240" y="2413080"/>
            <a:ext cx="1633680" cy="736560"/>
            <a:chOff x="2127240" y="2413080"/>
            <a:chExt cx="1633680" cy="736560"/>
          </a:xfrm>
        </p:grpSpPr>
        <p:sp>
          <p:nvSpPr>
            <p:cNvPr id="501" name=""/>
            <p:cNvSpPr/>
            <p:nvPr/>
          </p:nvSpPr>
          <p:spPr>
            <a:xfrm>
              <a:off x="2179800" y="2413080"/>
              <a:ext cx="1581120" cy="684000"/>
            </a:xfrm>
            <a:custGeom>
              <a:avLst/>
              <a:gdLst/>
              <a:ahLst/>
              <a:rect l="l" t="t" r="r" b="b"/>
              <a:pathLst>
                <a:path w="996" h="431">
                  <a:moveTo>
                    <a:pt x="996" y="0"/>
                  </a:moveTo>
                  <a:lnTo>
                    <a:pt x="0" y="0"/>
                  </a:lnTo>
                  <a:lnTo>
                    <a:pt x="0" y="43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27240" y="3046320"/>
              <a:ext cx="104760" cy="103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4603680" y="1676520"/>
            <a:ext cx="966960" cy="461880"/>
            <a:chOff x="4603680" y="1676520"/>
            <a:chExt cx="966960" cy="461880"/>
          </a:xfrm>
        </p:grpSpPr>
        <p:sp>
          <p:nvSpPr>
            <p:cNvPr id="504" name=""/>
            <p:cNvSpPr/>
            <p:nvPr/>
          </p:nvSpPr>
          <p:spPr>
            <a:xfrm>
              <a:off x="4603680" y="1727280"/>
              <a:ext cx="914400" cy="411120"/>
            </a:xfrm>
            <a:custGeom>
              <a:avLst/>
              <a:gdLst/>
              <a:ahLst/>
              <a:rect l="l" t="t" r="r" b="b"/>
              <a:pathLst>
                <a:path w="576" h="259">
                  <a:moveTo>
                    <a:pt x="0" y="259"/>
                  </a:moveTo>
                  <a:lnTo>
                    <a:pt x="0" y="0"/>
                  </a:lnTo>
                  <a:lnTo>
                    <a:pt x="576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65880" y="1676520"/>
              <a:ext cx="104760" cy="1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603680" y="2685960"/>
            <a:ext cx="966960" cy="600120"/>
            <a:chOff x="4603680" y="2685960"/>
            <a:chExt cx="966960" cy="600120"/>
          </a:xfrm>
        </p:grpSpPr>
        <p:sp>
          <p:nvSpPr>
            <p:cNvPr id="507" name=""/>
            <p:cNvSpPr/>
            <p:nvPr/>
          </p:nvSpPr>
          <p:spPr>
            <a:xfrm>
              <a:off x="4603680" y="2685960"/>
              <a:ext cx="914400" cy="549360"/>
            </a:xfrm>
            <a:custGeom>
              <a:avLst/>
              <a:gdLst/>
              <a:ahLst/>
              <a:rect l="l" t="t" r="r" b="b"/>
              <a:pathLst>
                <a:path w="576" h="346">
                  <a:moveTo>
                    <a:pt x="0" y="0"/>
                  </a:moveTo>
                  <a:lnTo>
                    <a:pt x="0" y="346"/>
                  </a:lnTo>
                  <a:lnTo>
                    <a:pt x="576" y="346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465880" y="3182760"/>
              <a:ext cx="104760" cy="103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3691080" y="2755800"/>
            <a:ext cx="20905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06280" y="2806560"/>
            <a:ext cx="19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ssociated_models S[0:?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79760" y="5632560"/>
            <a:ext cx="2108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99000" y="5683320"/>
            <a:ext cx="1861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application 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127240" y="2120760"/>
            <a:ext cx="12826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45680" y="2173320"/>
            <a:ext cx="113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ative_schem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50880" y="820800"/>
            <a:ext cx="1071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9320" y="871560"/>
            <a:ext cx="90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simplified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04C-9AD8-4D46-90D8-EF96C708A000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daiExceptio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s java.lang.Exce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wn by every SDAI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ing of error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ErrorId(): IDs defined for every case, e.g: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** Repository is not open */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int RP_NOPN = xx;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ErrorDescription() - some expla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ErrorBase() - the object causing this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UnderlyingError(), e.g. file I/O or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447-1B3B-49E0-807A-9E6AA9A0F75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daiExceptio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 usage: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... some J-SDAI oper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 ...  "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 catch (SdaiException e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e.printStackTrac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int id = e.getErrorId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desc = e.getErrorDescription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bject base = e.getErrorBas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 exc = e.getUnderlyingErro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D46-DFBF-4C11-9E14-36D6F800C29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dai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ning and ending an SDAI applica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Session session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Session.openSession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ssion.closeSession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closing the session object becomes invalid.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SdaiSession object at a time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Session session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Session.getSession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840" y="15840"/>
            <a:ext cx="1828800" cy="16812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tha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Session() is a static method but closeSession() n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1A60-C7D5-48CE-BA36-DB989FB223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Session -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_NAVL: Session not availab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lementation cannot open a 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_NOPN: Session is not op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to an SDAI object is possible only when the session is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_OPN : Session op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ttempt was made to open a session while a session was still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090-E403-4936-821A-3EB6D81FAE8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Session - LogWri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write out warnings, debug messages, measure time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i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va.io.PrintWriter getLogWriter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tic voi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tLogWriter(java.io.PrintWriter out);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he logWriter from an application: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println("My test messag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900-0104-4B01-9795-5D70DE39459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daiImple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s about the name, version and features of the SDAI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through SdaiSess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mplementation imp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ession.getImplementation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most information of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Implementation Conformance Statement (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DD6-775C-4D1C-8FFB-62E70CFE461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Implementation (SdaiTer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1349280"/>
            <a:ext cx="9220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:\LKSoft\current&gt;java jsdai.util.Sdai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: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: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---------- Implementation 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name: J-SDAI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evel: Version 2.0 (Build 200, 2000-01-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dai_version: { iso standard 10303 part(22) version(0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binding_version: { iso standard 10303 part(27) version(0)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implementation_class: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ransaction_level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expression_level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domain_equivalence_level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: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03D-B1FB-477C-A7E7-562F48D7A9C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152280"/>
            <a:ext cx="57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Jav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echnology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838080"/>
            <a:ext cx="8915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 Platform, Standard Edition, actual Version 1.2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Programming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Virtual Machine, Platform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 Platform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ng (Windows A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Beans (reusable software compon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2D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DBC, Database API for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, Remote Method Invocation, CORBA/ 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3D, JINI, Enterprise Java Beans (EJB)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3D2B-65EA-4979-9B5E-22207BCDD9A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vels of Trans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1 : No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2 : SDAI-Model based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el 3 : full transaction (J-SDA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1C9-84C7-4C63-A280-CCD9B884989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vels of Expression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1 : No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2 : Simple evaluation (J-SDA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3 : Complex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4 : Complete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186-D90C-4B9F-B18E-448E08308B0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vel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main equivalence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1 : No domain equiva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2 : Domain equivalenc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351-4528-40F2-A087-9CF28DC1D4E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vels not relevant for th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ava bindings to the SD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f session event recording support 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d by the Java Exception mech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of SCOPE suppo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ated in implementation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DAI, part2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9EA-85F5-4F9A-B326-B07F8B7DED7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ementation Limits -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basis for setting the tim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The Java system time which is based on the underlying host, see cl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.lang.System.currentTimeMilli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maximum number of repositories that may exist within an SDAI session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No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maximum number of SDAI-models that may exist within a repository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No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D2A-C77E-477B-8213-E6EC978395D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ementation Limits -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maximum length of EXPRESS STRING that is support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64K due to Java ser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maximum length of EXPRESS BINARY that is support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No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limit of EXPRESS REAL precision that is support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1: The Java type double has about 14 decimal digits precision, see IEEE 754-1985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2: Arbitrary precision by java.util.BigDecimal. Not implemented in current version (late binding onl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9E98-14CB-4408-A0DC-B6953402282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ementation Limits -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maximum number of elements that may appear in a variable sized aggregate instanc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No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at is the maximum number of index positions that may appear in an array instanc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No 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If domain equivalence is supported, what method for declaring it in the data dictionary is support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Direct usage of EXPRESS short for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796-2C94-4A1E-85AC-379C7610C38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Session ~&gt; SdaiTrans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either ReadOnly or ReadWrite Transac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Transaction t = se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rtTransactionReadOnlyAccess()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aiTransaction t = sessio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rtTransactionReadWriteAccess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transaction at a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ng the active transac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session.testActiveTransaction())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 = session.getActiveTransaction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940B-6E01-4F42-B212-BAFAB70EDA6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Transaction - op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ing the actual state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itch(t.getMode())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se SdaiTransaction.NO_ACCESS: 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se SdaiTransaction.READ_ONLY: 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ase SdaiTransaction.READ_WRITE: ...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rting the transac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.abort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.endTransactionAccessAbor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ting the transact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.commit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.endTransactionAccessCommi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650-B869-49DB-B337-9E9A91FD9E0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Transaction - Pending ch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ing if a modification is pending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 whole SdaiSession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session.isModified()) 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ingle SdaiRepository and all its model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repo.isModified()) 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single SdaiModel only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 (model.isModified()) { ...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D15-5529-48C5-A690-D7F0361EBBA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 and associated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1x, 2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4x, 1xx, 5x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STEP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0303-2xx, 3x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Protocols (AP) and Tests (A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3584, PLIB (Parts Libr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5926, OIL &amp;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5531, MAN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14649, NC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5CE-12FF-4C02-9538-4C166843A8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Transaction -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" y="1447920"/>
            <a:ext cx="8915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daiSession s = SdaiSession.openSession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daiTransaction t = s.startTransactionReadOnlyAcces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... read som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...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modify/create data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isModified(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.commit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.ab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 ... re-read the previ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.endTransactionAccessAbo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ssion.closeSess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B60-718C-438E-855C-CA33317C5A08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Transaction -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_EX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_NEX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does no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_NRW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not read-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_EAB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ended abnorm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_NAVL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currently not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218-9361-4405-8479-70A47C921AE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Session ~&gt; SdaiReposi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ng repositories from SdaiSessio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Repository ar = s.getKnownServer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Repository ar = s.getActiveServer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Repository r = ar.getByIndex(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pository is either open (active) or close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!r.isActive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.openRepositor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r.isActive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.closeRepositor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F850-FD07-44DE-874B-0AEE226C7D1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895480" y="4191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895480" y="2971800"/>
            <a:ext cx="213372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95480" y="5410080"/>
            <a:ext cx="2133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00760" y="32004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06040" y="4419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70000" y="556272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95480" y="762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30080" y="990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960720" y="5029200"/>
            <a:ext cx="0" cy="380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962520" y="3809520"/>
            <a:ext cx="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62520" y="1600200"/>
            <a:ext cx="0" cy="1371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90360" y="1793880"/>
            <a:ext cx="20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_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[1:*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934320" y="2895480"/>
            <a:ext cx="1523880" cy="762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34320" y="3276720"/>
            <a:ext cx="0" cy="14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458200" y="3276720"/>
            <a:ext cx="0" cy="14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934320" y="4343400"/>
            <a:ext cx="1523880" cy="762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4267080"/>
            <a:ext cx="1371600" cy="5335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57800" y="3505320"/>
            <a:ext cx="1523880" cy="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09920" y="3962520"/>
            <a:ext cx="13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8440" y="76320"/>
            <a:ext cx="847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SDAI Structure without Network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706800" y="60948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O 10303-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528-0ED5-4C7F-9EB8-1B5DC5692C12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57200" y="4191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7200" y="2971800"/>
            <a:ext cx="213372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" y="5410080"/>
            <a:ext cx="2133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32004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67400" y="4419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1360" y="556272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" y="762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3280" y="914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522440" y="5029200"/>
            <a:ext cx="0" cy="380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1523880" y="3809520"/>
            <a:ext cx="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1600200"/>
            <a:ext cx="0" cy="1371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01280" y="2057400"/>
            <a:ext cx="20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_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[1:*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91520" y="2895480"/>
            <a:ext cx="1523880" cy="762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91520" y="3276720"/>
            <a:ext cx="1440" cy="14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915400" y="3276720"/>
            <a:ext cx="1440" cy="1447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91520" y="4343400"/>
            <a:ext cx="1523880" cy="76212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467480" y="4267080"/>
            <a:ext cx="1371600" cy="5335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05720" y="3505320"/>
            <a:ext cx="609480" cy="144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467120" y="3962520"/>
            <a:ext cx="13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41600" y="95400"/>
            <a:ext cx="68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nded SDAI with Network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495680" y="4191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95680" y="2971800"/>
            <a:ext cx="2133720" cy="8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495680" y="5410080"/>
            <a:ext cx="2133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00960" y="32004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106240" y="4419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570200" y="556272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495680" y="762120"/>
            <a:ext cx="21337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2360" y="9907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560920" y="5029200"/>
            <a:ext cx="0" cy="380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5562720" y="3809520"/>
            <a:ext cx="0" cy="381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62720" y="1600200"/>
            <a:ext cx="0" cy="1371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65440" y="1143000"/>
            <a:ext cx="1828800" cy="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95120" y="1219320"/>
            <a:ext cx="15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4114800" y="761760"/>
            <a:ext cx="380880" cy="2286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4191120" y="1371600"/>
            <a:ext cx="304560" cy="2286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3657600" y="837720"/>
            <a:ext cx="838080" cy="2286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191120" y="1219320"/>
            <a:ext cx="304560" cy="22860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590920" y="762120"/>
            <a:ext cx="761760" cy="30456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590920" y="761760"/>
            <a:ext cx="380880" cy="15228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90920" y="1295280"/>
            <a:ext cx="228600" cy="15264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90920" y="3429000"/>
            <a:ext cx="1904760" cy="0"/>
          </a:xfrm>
          <a:prstGeom prst="line">
            <a:avLst/>
          </a:prstGeom>
          <a:ln w="22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1DFD-A730-4E0B-9E68-66730C2585BA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establish (firewall, ...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bi-directional Java streams, based on TCP/IP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table for SDAI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ring all entity instances take too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ring single entity instances on request is too slow (100ms delay each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transferring a whole SDAI model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loading proc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optimized arrangement, not like part21 or Java serializ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compact (not compressed) binary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references between entity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the sam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the same Repository but differ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different Reposi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references between entity instances with differ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EXPRESS sch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523880" y="0"/>
            <a:ext cx="620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ments for the Network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DD4-8AE2-4B2B-9CED-CA84DA39585F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601560" y="914400"/>
            <a:ext cx="752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DAI standard the known repositories are stati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not change while a Session is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xtended SDAI repositories become dynamic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new operations are introduc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reate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lete Reposi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ink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nlink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ositories got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SDAI operations it may happen that a Repository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known”, but not its location. So it can’t be ope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SdaiRepository 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ED60-AA2F-468C-AFF0-26EE4F2345E2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SdaiRepository 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name and location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name = r.getNam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location = r.getLocatio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ing remote/external repositor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 and implicit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 = s.linkRepository("name","location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.unlinkRepositor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d Delete repositor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 = s.createRepository("name","location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 = s.importClearTextEncoding("name"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source_location","destination_location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.deleteRepositor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1CA-DA8B-4163-A0DD-2DBE97BE455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SdaiRepository 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228600" y="1243080"/>
          <a:ext cx="86868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43080"/>
                    <a:ext cx="86868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2FE-9C87-473D-A86A-9A2C7E67692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into a temporarily local repositor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ClearTextEncoding("", "source-path", nul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he repo-name from the part21 FILE_NAM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ClearTextEncoding(null, "source-path", nul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name and location (external and remote)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Repository("MyRepo", "c:\myrepos") createRepository("MyRepo", "//guest:passwd@192.123.22.11:1050"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Repository("MyRepo", "//user:passwd@server.lksoft.de"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ing with global unique repository na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sitory is a part of a domain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Repository("//server.lksoft.de/MyRepo", user:passw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utur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Repository("//testrep.server.lksoft.de", user:passw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0920" y="30240"/>
            <a:ext cx="70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ing with simple repository na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477-6E79-4068-B328-212A1B25833D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RESS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(-1): ISO 10303-11:199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-G    Graphical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-TC1/2 Technical Corrigend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-Amend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-X Maps and Views of Ent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-2 (behaviour, active processing of data due to ev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F75-3947-4AC2-A9FF-D5EFD49309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remote repositories are available on a remote loc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string as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remoteRepositories("//user:passwd@server.lksoft.d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i = 0; i &lt; as.getMemberCount()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as.getByIndex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6AA-294C-4C95-BB2E-916DD06C40F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Repository -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OPN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NOPN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is not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DUP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du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LOCK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locked by another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NAVL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currently not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NEX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does no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_RO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sitory is read-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C_NVLD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ion inva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715-10FF-4FFD-868D-34A0959F1D9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Repository ~&gt; SchemaIn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pository stores SchemaInstanc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chemaInstance asi = r.getSchema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Instance si = asi.getByIndex(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chemaInstance is stored within a repositor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Repository r = si.getRepositor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and deletion of SchemaInstanc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d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 = r.createSchemaInstance("name", s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 = r.createSchemaInst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name", SAutomotive_design.clas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.delet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EF77-9D33-46FA-8D40-E5AB45A2CE1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chemaInstance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me is unique within the repository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name = si.getNam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.rename("NewSchemaInstanceNam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maInstance is based on a schema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d = si.getNativeSchema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chema = si.getNativeSchemaStrin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8BD-42A0-40D6-9535-008869CCBD5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SchemaInstance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 population defined by collection of mod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am = si.getAssociatedModels(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models may be in the same or in different repositori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.addSdaiModel(model1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.removeSdaiModel(model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ed models may be based on the same or on different schemas, but domain_equivalent sche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20D-7D28-445F-9267-5DFD56F3771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emaInstance - Vali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queness Valid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UniquenessRule(EUniqueness_rule rule, AEntity er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UniquenessRule(String rule, AEntity e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rule Validatio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GlobalRule(EGlobal_rule rule, AEntity er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GlobalRule(String rule, AEntity e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e Reference Do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InstanceReferenceDomain(AEntity e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Validation, updates validation inf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validateSchemaInstanc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909-3E80-419D-A687-1D0B867F238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emaInstance -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 Informa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by validateSchemaInstance()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date = si.getValidationDat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level = si.getValidationLevel();//0-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result = si.getValidationResult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actual = si.isValidationCurre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Informatio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si.testChangeDate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date = si.getChangeDate()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B9CD-0D5A-499D-9771-19A04D3419E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ionary SchemaInstance with all dictionary mod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s.testDataDictionary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Instance si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getDataDictionar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SchemaInstance with all dictionary and mapping models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s.testDataMapping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Instance si = s.getDataMapping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049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-Defined SchemaInst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3E8-587C-48BF-BE08-4F8FD692FF65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hemaInstance -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_DUP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instance dupl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must be unique within Sdai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_NEXS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instance does not exis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SI deleted or repository 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_LOCK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ma instance lock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application is going to modify the SI on a remote reposi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D4C-07A3-41FF-B7EE-8BA5E91BB38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9" name=""/>
          <p:cNvGraphicFramePr/>
          <p:nvPr/>
        </p:nvGraphicFramePr>
        <p:xfrm>
          <a:off x="0" y="457200"/>
          <a:ext cx="9144000" cy="621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9144000" cy="62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6CC-BB72-48BE-83F0-FF5A08FC383F}" type="slidenum">
              <a:t>6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modeling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define the data models of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M: Application Integrated mod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ommon integra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: Application referenc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0C8-1233-4897-AA6B-7438226CA7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Repository ~&gt; Sdai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Models are stored in repositories: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am = r.getModel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Model m = am.getByIndex(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SdaiModel is stored within a repositor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Repository r = m.getRepositor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and deletion of SdaiModel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d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r.createSdaiModel("name", s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r. createSdaiMo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name", SConfig_control_design.clas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renameSdaiModel("newName"); // critical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deleteSdaiMode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F6F2-09C3-4F28-8E88-EAAA5C563DB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_DUP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du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_NEX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does no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_NVLD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inva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_NDEQ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not domain equiva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_LOCK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locked by another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209-9D60-41AF-ABF1-D77397CF846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Header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information is always accessible from a model, no matter if RW, RO access is started or not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name = m.getNam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Repository r = m.getRepositor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chema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getUnderlyingSchema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chema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getDefinedSchema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chemaInstance as = m.getAssociatedWith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.testChangeDate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date = m.getChangeDat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ng date = m.getChangeDateLong()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m.isModified()) {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8827-59B8-4590-BC16-6174FA4A1A9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Header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ttribu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added to fully support the part21 Amend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lang = m.getDefaultLanguag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etDefaultLanguage("ger", tr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ring as = m.getContextIdentifier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putContextIdentifiers(A_string valu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al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B5F-5DC7-4283-894A-7B7F203F09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Access M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of access mod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m.getMode()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SdaiModel.NO_ACCESS: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SdaiModel.READ_ONLY: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SdaiModel.READ_WRITE: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either RO or RW acces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tartReadOnlyAccess( 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tartReadWriteAccess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access mode between RO and RW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promoteSdaiModelToRW( 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reduceSdaiModelToRO( )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transac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 access mode, take care of transaction !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endReadOnlyAccess( 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endReadWriteAccess( )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transaction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daiModel am = s. getActiveModel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9A9-5C9E-411C-BD0F-F713BF964D0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Access Mode Exce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X_NDEF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access not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X_NRW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access not read-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X_RO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access read-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X_RW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DAI-model access read-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42C-8969-40AB-AC70-FBE9355E67A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Content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ng all instances of all typ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ount = m.getInstanceCount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 ae = m.getInstance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ng all instances of a given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tity data typ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ncluding subtyp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bindi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ount = m.getInstanceCount(EXxx.clas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xx ax = (AXxx) m.getInstances(EXxx.clas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bindi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...; // xx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ount = m.getInstanceCount(e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xx ax = (AXxx) m.getInstances(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469-5794-4EEB-8D0B-A861E05BA36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 Content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ing all instances of a given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x entity data 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no subtyp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binding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ount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getExactInstanceCount(CXxx.clas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xx ax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AXxx) m.getExactInstances(CXxx.clas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Binding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...; // xx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count = m.getExactInstanceCount(e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xx ax = (AXxx) m.getExactInstances(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2B8-B411-4C6C-8A59-256A7A501E2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-&gt; EntityEx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7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Extent helps to access entity instances of a given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 Data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Only auxiliary purpo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get all or only the non-empty EntityExt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Extent  aee = m.getFolder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Extent  aee = 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PopulatedFolder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tityExtent ee = aee.getByIndex(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: definition, owner and instanc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ee.getDefinition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name = ee.getDefinitionString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Model m = ee.getOwnedB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 ae = ee.getInstances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Xxx ae = (AXxx) ee.getInstance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E62-6BA7-4DE4-8BAE-24C2D6B8DDE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~&gt; Entity Instance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ntity Instance exist only within an owning Sdai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binding crea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getEntityDefinition("product"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 p1 = m.createEntityInstance(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binding crea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Product p1  = (EProduc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createEntityInstance(CProduct.clas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wning model is always availabl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el m1 = p1.findEntityInstanceSdaiMode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also removes all references from active model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1.deleteApplicationInstan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444-5467-461E-8F92-C61CA0482BE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RESS Data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itive data type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, REAL (NUMBER), STRING, BINARY, BOOLEAN, LOG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data type and complex entity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ed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e data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constraints (expressions, functions, procedures, ru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787-EA1A-43B9-86FC-A9929DD2ED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daiModel ~&gt; Entity Instance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copy of an entity instance within the same or another model. All references remain on the original instance only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 p1 = m.copyApplicationInstance(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ng an instance to another model and/or chang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ype (late and early)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the same repo the persistent name is preserve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from active models are maintaine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 pNe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m.substituteInstance(pOl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m.substituteInstance(pOld, ed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m.substituteInstance(pOld, CXxx.clas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23C-64BD-47BC-94B5-146F91C9C46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mai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lid valid population of entity instances is defined by a SchemaInstance and its associated Sdai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operations need to know the domain where to search/access related instances. Depending on the application the domain may be defined for several SchemaInstances or only part of it. Within J-SDAI the domain is defined as an aggregate of SdaiModel (ASdaiModel)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 inverse attrib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din (late and earl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dEntityInstanceUsed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dEntityInstanceUs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ndInstanceRo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l mapping operat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7CC-B9ED-4F57-9033-D7132691761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non-persistent Aggregate and add the desired SdaiModel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domain = new ASdaiModel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ain.addByIndex(model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he domain from a single SchemaInstanc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Instance si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ain = si.getAssociatedModel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he common domain of several SchemaInstances (set)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chemaInstance asi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ain = asi.getAssociatedModel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mai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D50-4D56-4D1E-9342-9E5D5269C4B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ribute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 to access the attributes of entity instance, available in late binding and in early 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 attrib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attribute have a value or is it unse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t is set what is the type - important for select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 attrib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s the actual value, either simple, entity instance or aggre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 attrib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or simple and entity instance values. Not for aggre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e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or attributes of aggregation type. The aggregates are create in place and cannot be as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set attrib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test attribute to return unset. This is also if aggregate. You can't use set attribute for unset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E2D-5BE7-4D9F-A1C8-355032CCFF4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ing Attribute Value (lat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ng and accessing attribut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efined_type[] select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ttribute attr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Type = p.testAttribute(attr, selec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 (iType)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0:   ... // un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1: Object o = p.get_object(attr);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2:    int i = p.get_int(attr);..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3: double r = p.get_double(attr);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inverse attributes the domain where to search must be given.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main is local SdaiModel only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Inverse_attribute ia = ... 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domain = ... 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 inverses = get_inverse(ia, domai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056-D52F-4DC4-B7BA-C5A28EAC296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ting Explicit Attribute Values (lat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methods for double, int, Object,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set(attr1, 5.7, selec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set(attr2, 123, selec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set(attr3, "xxx", selec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set(attr4, entity, selec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es c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set, they are only created in place. Only one usage of aggregates!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ggregate a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createAggregate(attr5, selec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explicit (mandatory) attribute can be unset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unsetAttributeValue(attr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and inverse attributes are read-only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explicit attributes redeclared as der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6634-9282-4793-8813-3ECA40130EC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ttribtute name is part of the access method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parameter specifies the type of the Java Interface; this allows to solve name conflicts, alway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ull + ca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/cre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EAlpha extends EEntity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 testA1(EAlpha type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Kappa getA1(EAlpha type)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setA1(EAlpha type, EKappa value)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oid unsetA1(EAlpha type);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CAlpha implements EAlpha {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int usedinA1(EAlpha type, EKappa p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domain, AEntity result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EAttribute attributeA1(EAlpha type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ESigma extends EEntity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Iota createS0(ESigma type);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rly Binding Attribute Acces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63B-8D5E-4248-9922-550C9E95C59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that the attribute is of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ect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itional parameters are added to distinguish overloaded methods for different valu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roach is similar to the part21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lect cases are numbered.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e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thod returns the actual type (0-unset, 1-entity, 2, 3..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arameter for simple entity types (== 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ined Data 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is type is added  (select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parameter for nested selecting of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ined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elect2, select3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method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/cre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rly Binding Attribute Acces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1B6-695E-49D7-94AE-4B3697B1474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rface EEpsilon extends EEntity 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onstants and methods for SELECT attribute: e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Phi = 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Psi = 3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Chi = 4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Tau = 5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Xi = 6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sE1Pie = 7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testE1(EEpsilon type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ntity getE1(EEpsilon type) ; // case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Entity getE1(EEpsilon type, EPhi node1); // case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Entity getE1(EEpsilon type, EPsi node1); // case 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_double getE1(EEpsilon type, EChi node1); // case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getE1(EEpsilon type, ETau node1); // case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getE1(EEpsilon type, EXi node1); // case 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getE1(EEpsilon type, EPie node1); // case 7 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rly Binding Attribute Acces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633-ACF3-4D68-A480-E4C1B550D1D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verse Entity Instance Op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the EAttribute definition (dictionary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ttribute ea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getAttributeDefinition("attr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 dependent Bound of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, INTEGER, or BINARY valu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bound = p.getAttributeValueBound(ea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nce comparis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1 == p2)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comparison as defined in EXPRESS (logical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 = p1.compareValues(p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value comparison (non-recursive, shallow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1.compareValuesBoolean(p2))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87F-2E67-460D-B306-3F31A706614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RESS-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46C-DF2D-4293-A28C-553DAFDF92F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stance Identifiers / Persistent Lab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entity instance has an unchangeable persistent label which is assigned during its crea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label = p.getPersistentLabel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SDAI use part21 type instance identifiers for thi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#" + positive 63 bit number, e.g. "#1234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SDAI ensures that a persistent label is used only once within a reposi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ing an entity instance within a repository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 p = r.getSessionIdentifier("#123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tring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descr = p.getDescription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part21Line = p.toStrin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37BF-241F-492B-8B57-C34E82404C0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 Type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an entity instance contain a Entity Data Type?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.isKindOf(ed)) {...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 instanceof ECartesian_point.class){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entity instance exactly of a particular type?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.isInstanceOf(ed)) {...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.getClass()== CCartesian_point.class)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 Entity Data Typ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p.getInstanceType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 = p.getClass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named_tpes, like EXPRESS TypeOf ope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amed_type result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findInstanceDataTypes(resul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45C-CE74-4DE8-ACBA-99785EFBAA6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 Type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ntity instances of the dictionary typ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p1, p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ing if one is a subtype of the other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1.isSubtypeOf(p2)) {..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entities from different schema equivalent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p1.isDomainEquivalentWith(p2) {...}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pported by SDAI because short-form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on of new Complex Entity Data Typ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Schema_definition sd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_definition aed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Entity_definition ed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.getComplexEntityDefinition(aed,sd)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ac[] = { EBbb.class, ECcc.class }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 c = s.getComplexEntityDefinition(a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E50-AC7E-4F09-9041-73CA2FD70CF8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ing Entity Instances with App.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a model is active, it's entity instances can be associated with application specific data of any k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plication is responsible for the data, not J-SDAI. The association is lost when access ends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 o = ... ; // from Appli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setTemp(o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 o = p.getTemp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mon place to exchange entity instan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Entity ai = s. getClipboard(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can clear, add, remove in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88C-A0CF-4AF1-935A-5A9F1928CD0B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ed insta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906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referencing instances within a domai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 domain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 users = new AEntity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findEntityInstanceUsers(domain, user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referencing instances of a particular role within a domai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ttribute role = ...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findEntityInstanceUsedin(role,domain,user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ll roles by which this instance is referenced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Attribute result = ...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.findInstanceRoles(domain, resul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695A-CBCF-479A-A9C0-7C423832ADDD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tity Instance Vali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on of the attributes and rules of a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WhereRule(EWhere_rule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RequiredExplicitAttributesAssigned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ExplicitAttributesReferences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InverseAttributes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AggregatesSize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AggregatesUniqueness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ArrayNotOptional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StringWidth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RealPrecision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BinaryWidth(AAttribute nonCon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00B-4DF4-45ED-917E-58D0D75A9B3C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 Interface and Cl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its all: SET, BAG, LIST or 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implemented by all aggregate classes except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Reposito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chemaInst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daiMod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EntityEx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(A) and nested Aggregates (Aa...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ized aggregates for primitive type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binary, Aa_binary, Aaa_binar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boolean, Aa_boolean, Aaa_boolea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double, Aa_double, Aaa_dou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numeration, Aa_enumeration, Aaa_enume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integer, Aa_integer, Aaa_integ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ring, Aa_string, Aaa_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5CC-F007-467E-8A9D-6781A6D0A76F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rly Binding Aggregate cla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tity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X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as needed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x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xx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ect Data Typ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as needed) S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xtreme cases also nested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ing members of different type by overloaded methods, similar to part21 encod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e select for early binding attribute a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2D6-A2F2-45A3-8EB6-5E0B1CACF617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erating and indexing Aggreg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mbers of an aggregate can be accessed either by an iterator or by inde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 and RW access with SdaiIterator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daiIterator iter = agg.createIterato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 = agg.getCurrentMember(it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 access by index for all types, RW only for LIST and ARRAY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 = agg.getByIndex(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022-8579-473F-B11B-CB28DD218C68}" type="slidenum">
              <a:t>9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gate cre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instance attribute (late and early)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ggregate a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createAggregate(attr5, select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xx = p.createAttrib1(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Aggregat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ggregateAsCurrentMe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ggregateAf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ggregateBefo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ggregateByInde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ggregateByInde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ggregateUn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aggregat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n Persistent L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xx ax = new AXxx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daiModel am = new ASdaiMod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-SDAI Tutorial, © LKSoftWare Gmb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133-6B67-4322-89B2-1156CE307BC2}" type="slidenum">
              <a:t>9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0-01-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3T18:39:59Z</dcterms:created>
  <dc:creator>Lothar</dc:creator>
  <dc:description/>
  <dc:language>en-US</dc:language>
  <cp:lastModifiedBy>Lothar</cp:lastModifiedBy>
  <cp:lastPrinted>2000-01-21T19:33:35Z</cp:lastPrinted>
  <dcterms:modified xsi:type="dcterms:W3CDTF">2000-01-29T12:11:43Z</dcterms:modified>
  <cp:revision>80</cp:revision>
  <dc:subject/>
  <dc:title>J-SDAI the Synergy of STEP and JavaTM technology</dc:title>
</cp:coreProperties>
</file>