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54.xml.rels" ContentType="application/vnd.openxmlformats-package.relationships+xml"/>
  <Override PartName="/ppt/slides/_rels/slide13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BFB6-53E3-4854-A083-191800D19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2BA8-8A50-4C8B-A4B1-E886E7D5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6AAA-80FD-4E5E-9EA1-363B10F1D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3E33-9540-4750-9082-D0D388D09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9CE5-4647-47C0-B3AF-C0D6804B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DF60-D113-4E00-B9BA-0495D58F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D24F-D5FB-4165-82BD-2AD4B2CE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B7E1-38FB-446A-A27A-AC6DB602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B71C-CE7F-41A5-A4CB-D14D8402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F136-3A2A-4E2F-B8F7-EA94DA0E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4B05-0A94-470C-A562-8389FF9C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1CF6-28F1-4A46-B8C3-7D594A10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1891-45B1-4846-BCE6-4BEFD4804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mework for CAD/CAM/PDM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55400" y="5943600"/>
            <a:ext cx="6558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and all Java-based trademarks and logos are trademarks or registered trademarks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n Microsystems, Inc. in the United States and other countri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DAI is a trademark of LKSoftWare Gmb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560" y="4267080"/>
            <a:ext cx="340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thar Klei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KSoftWare Gmb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lksoft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jsdai_logo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3505320" cy="966960"/>
          </a:xfrm>
          <a:prstGeom prst="rect">
            <a:avLst/>
          </a:prstGeom>
          <a:ln w="0">
            <a:noFill/>
          </a:ln>
        </p:spPr>
      </p:pic>
      <p:pic>
        <p:nvPicPr>
          <p:cNvPr id="45" name="LKSoftLogo1" descr=""/>
          <p:cNvPicPr/>
          <p:nvPr/>
        </p:nvPicPr>
        <p:blipFill>
          <a:blip r:embed="rId2"/>
          <a:stretch/>
        </p:blipFill>
        <p:spPr>
          <a:xfrm>
            <a:off x="838080" y="4495680"/>
            <a:ext cx="2286000" cy="854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74840" y="3397320"/>
            <a:ext cx="844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ynergy of STEP and Jav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ech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EP Data Storage and Ex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hange by file, stream or simi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ESS-I (part12, outda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ear Text Encoding - "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hysical Fi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" - part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28 (XM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dor specific, e.g. J-SDAI binary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 access throu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onal or object oriented data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D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dor speci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F2BA-0ECE-49D0-BD1C-2FF759D5F19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ggregate Access Righ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ssion aggregates are RO. See the special operations to modify them. Exception when creates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daiRepository, ASchemaInstanc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daiModel, AEntityExtent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daiModel.getInstances(...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daiModel.getExactInstances(...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tityExtent.getInstances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data in the special "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ystemReposito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 repository containing dictionary and mapping data is read-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gregates in application data is RW if RW-transaction and RW model access is sta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n Persistent 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ggregates are always R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5A1A-5AB7-4DA5-B780-7AA3E8DD202E}" type="slidenum">
              <a:t>10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3" name=""/>
          <p:cNvGraphicFramePr/>
          <p:nvPr/>
        </p:nvGraphicFramePr>
        <p:xfrm>
          <a:off x="76320" y="1185840"/>
          <a:ext cx="8991360" cy="452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185840"/>
                    <a:ext cx="8991360" cy="45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ggregate: General and Bou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12ED-C34A-4718-A8E5-9C7AB268D9DD}" type="slidenum">
              <a:t>10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ggregate: Reading and Writing memb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7" name=""/>
          <p:cNvGraphicFramePr/>
          <p:nvPr/>
        </p:nvGraphicFramePr>
        <p:xfrm>
          <a:off x="152280" y="1092240"/>
          <a:ext cx="8991720" cy="418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92240"/>
                    <a:ext cx="8991720" cy="41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0A60-571B-47B9-98A1-ACBA929672E2}" type="slidenum">
              <a:t>10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ggregate: add, remove, create memb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152280" y="925560"/>
          <a:ext cx="8839440" cy="50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25560"/>
                    <a:ext cx="8839440" cy="50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6A18-C20B-4F65-B27B-C0C45FA583C9}" type="slidenum">
              <a:t>10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ggregate: spe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3" name=""/>
          <p:cNvGraphicFramePr/>
          <p:nvPr/>
        </p:nvGraphicFramePr>
        <p:xfrm>
          <a:off x="152280" y="1741320"/>
          <a:ext cx="8915400" cy="315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741320"/>
                    <a:ext cx="8915400" cy="31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67C5-6F57-4DA6-B781-5C2BB09B7CFC}" type="slidenum">
              <a:t>10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where to searc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SdaiReposi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SchemaInsta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SdaiMod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ASdai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: attribute.name,  {...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or: =, &lt;=, =&gt;, &lt;, &gt;, :=:, :&lt;&gt;:, IN, LIK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r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 added to AEntity, return cou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implemented in J-SDAI 2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9EB8-E9F8-48F5-98CE-9DC86A0B8597}" type="slidenum">
              <a:t>10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mport / Export of ISO 10303-21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ear Text Encoding of the Exchange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91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ical Corrigendum (TC1) fix select bug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endment extends for multiple data se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ginally part21 and SDAI are not re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mplete Java Binding defines a mapping based on SdaiRepository. A mapping to SchemaInstance would also be a good alterna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DAI is more powerful. Import is always possible but export is restricted because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schema_instance (domain, valid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s into other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1E96-656D-4E18-977F-5BDED197C5CA}" type="slidenum">
              <a:t>10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pping between part21 and SDA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52280" y="2425680"/>
            <a:ext cx="883944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r" pos="4568760"/>
                <a:tab algn="l" pos="4956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 Exchange Struct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daiReposi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_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daiRepository.nam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-Se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daiMod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nce identif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istent Lab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BEFA-E6F2-41F0-9BC9-D28AD0BA4546}" type="slidenum">
              <a:t>10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228600" y="816120"/>
            <a:ext cx="8915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8736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Y file_descrip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ion : LIST [1:?] OF STRING (256)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&gt;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_level : STRING (256)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&gt; "2.1" or "3.1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_ENTIT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Y file_na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: STRING (256)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&gt;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_stamp : STRING (256)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&gt; 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 : LIST [ 1 : ? ] OF STRING (256)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&gt; aut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ation : LIST[ 1 : ? ] OF STRING (256)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&gt;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rocessor_version : STRING (256)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&gt; preProcessor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ting_system : STRING (256)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&gt; originating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: STRING (256)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&gt; autho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_ENTIT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57200" y="763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pository / part21 attribu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80C2-82D2-411F-92A9-8E70F1FCB0F8}" type="slidenum">
              <a:t>10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pository / part21 attribu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52280" y="1066680"/>
            <a:ext cx="883944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r" pos="4568760"/>
                <a:tab algn="l" pos="4956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 getAuthorization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r" pos="4568760"/>
                <a:tab algn="l" pos="4956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Authorization(java.lang.String val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r" pos="4568760"/>
                <a:tab algn="l" pos="4956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_string getAuthor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r" pos="4568760"/>
                <a:tab algn="l" pos="4956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_string getDescriptio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r" pos="4568760"/>
                <a:tab algn="l" pos="4956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_string getOrganizatio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r" pos="4568760"/>
                <a:tab algn="l" pos="4956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 getOriginating_system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r" pos="4568760"/>
                <a:tab algn="l" pos="4956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Originating_system(java.lang.String valu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r" pos="4568760"/>
                <a:tab algn="l" pos="4956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  getPreprocessor_versio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r" pos="4568760"/>
                <a:tab algn="l" pos="4956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Preprocessor_version(java.lang.String val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r" pos="4568760"/>
                <a:tab algn="l" pos="4956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r" pos="4568760"/>
                <a:tab algn="l" pos="4956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ressShortNames(), allowShortNames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5537-E087-43BF-B259-A8E94A9F29F0}" type="slidenum">
              <a:t>1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cessing STEP Data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class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 representation does not reflect the EXPRESS structure. For data exchange information is mapped during export/import -&gt; loss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 representation fits with with the EXPRESS structure. Entity instances and aggregates are represented as objects -&gt; information is preser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 directly based on EXP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DAI conforma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DAI similar, but not conform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33A3-03EA-4A8E-BC25-E00E5D34B7B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_dictionary_schema: Princi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530280" y="990720"/>
            <a:ext cx="7686720" cy="2928600"/>
            <a:chOff x="530280" y="990720"/>
            <a:chExt cx="7686720" cy="2928600"/>
          </a:xfrm>
        </p:grpSpPr>
        <p:graphicFrame>
          <p:nvGraphicFramePr>
            <p:cNvPr id="737" name=""/>
            <p:cNvGraphicFramePr/>
            <p:nvPr/>
          </p:nvGraphicFramePr>
          <p:xfrm>
            <a:off x="1143000" y="1295280"/>
            <a:ext cx="7074000" cy="1105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43000" y="1295280"/>
                      <a:ext cx="7074000" cy="110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39" name=""/>
            <p:cNvSpPr/>
            <p:nvPr/>
          </p:nvSpPr>
          <p:spPr>
            <a:xfrm>
              <a:off x="1068120" y="2362320"/>
              <a:ext cx="61531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#10=SCHEMA_DEFINITION('test_schema',...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#20=ENTITY_DEFINITION('A', ..., #10, ...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#30=ENTITY_DEFINITION('B', ..., #10, ...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#40=ATTRIBUTE('x', ..., #30, ...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30280" y="990720"/>
              <a:ext cx="283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eta model and dat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601560" y="4038480"/>
            <a:ext cx="6027840" cy="2044800"/>
            <a:chOff x="601560" y="4038480"/>
            <a:chExt cx="6027840" cy="2044800"/>
          </a:xfrm>
        </p:grpSpPr>
        <p:graphicFrame>
          <p:nvGraphicFramePr>
            <p:cNvPr id="742" name=""/>
            <p:cNvGraphicFramePr/>
            <p:nvPr/>
          </p:nvGraphicFramePr>
          <p:xfrm>
            <a:off x="2362320" y="4343400"/>
            <a:ext cx="4267080" cy="1117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362320" y="4343400"/>
                      <a:ext cx="4267080" cy="111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4" name=""/>
            <p:cNvSpPr/>
            <p:nvPr/>
          </p:nvSpPr>
          <p:spPr>
            <a:xfrm>
              <a:off x="601560" y="4038480"/>
              <a:ext cx="542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pplication model (test_schema) and dat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144080" y="5257800"/>
              <a:ext cx="1750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#80=A( 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#90=B(#80)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4DB3-38D0-46DD-8577-1A861718675E}" type="slidenum">
              <a:t>1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_dictionary_schema: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 Meta model of the EXPRESS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ive representation of EXPRESS sche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DAI_dictionary_data itself can be represented as a population of the SDAI_dictionary_sch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a kernel part of J-SDAI in packag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sdai.diction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te Bind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ntity and attribute ac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J-SDAI  the SDAI_dictionary_schema is slightly modified for explicit support of short form sche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DAI_dictionary_schema will probably be substituted by a unified Semantic Meta Model for EXPRESS when avail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02F1-5D0A-40F1-AC04-3FF90F5F9208}" type="slidenum">
              <a:t>1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_dictionary_schema: Origi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380880" y="1219320"/>
          <a:ext cx="8534520" cy="332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19320"/>
                    <a:ext cx="8534520" cy="33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1" name=""/>
          <p:cNvSpPr/>
          <p:nvPr/>
        </p:nvSpPr>
        <p:spPr>
          <a:xfrm>
            <a:off x="289080" y="5029200"/>
            <a:ext cx="848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y_definitions cannot be explicitly interfaced into other sch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94D2-8FB0-41F8-ABD4-247F91CFA93D}" type="slidenum">
              <a:t>1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_dictionary_schema: Modifi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3" name=""/>
          <p:cNvGraphicFramePr/>
          <p:nvPr/>
        </p:nvGraphicFramePr>
        <p:xfrm>
          <a:off x="228600" y="1025640"/>
          <a:ext cx="8686800" cy="480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25640"/>
                    <a:ext cx="8686800" cy="48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4F7A-476B-4D6E-970E-FD60AD8808EB}" type="slidenum">
              <a:t>1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_dictionary_schema: Declar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6" name=""/>
          <p:cNvGraphicFramePr/>
          <p:nvPr/>
        </p:nvGraphicFramePr>
        <p:xfrm>
          <a:off x="533520" y="914400"/>
          <a:ext cx="8076960" cy="503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14400"/>
                    <a:ext cx="8076960" cy="50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E51E-984C-45F4-BEA1-C4A7AC3E86F3}" type="slidenum">
              <a:t>1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8" name=""/>
          <p:cNvGraphicFramePr/>
          <p:nvPr/>
        </p:nvGraphicFramePr>
        <p:xfrm>
          <a:off x="685800" y="101520"/>
          <a:ext cx="7953480" cy="607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1520"/>
                    <a:ext cx="7953480" cy="60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F382-8C47-4928-89D8-A3F25458F47B}" type="slidenum">
              <a:t>1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0" name=""/>
          <p:cNvGraphicFramePr/>
          <p:nvPr/>
        </p:nvGraphicFramePr>
        <p:xfrm>
          <a:off x="228600" y="380880"/>
          <a:ext cx="8763120" cy="540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80880"/>
                    <a:ext cx="8763120" cy="540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EEE2-6B6E-40F7-8B98-3BAF205357E4}" type="slidenum">
              <a:t>1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2" name=""/>
          <p:cNvGraphicFramePr/>
          <p:nvPr/>
        </p:nvGraphicFramePr>
        <p:xfrm>
          <a:off x="762120" y="304920"/>
          <a:ext cx="7619760" cy="574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04920"/>
                    <a:ext cx="7619760" cy="57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82FD-6FBB-428E-B7FD-F68C706F58DB}" type="slidenum">
              <a:t>1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4" name=""/>
          <p:cNvGraphicFramePr/>
          <p:nvPr/>
        </p:nvGraphicFramePr>
        <p:xfrm>
          <a:off x="838080" y="0"/>
          <a:ext cx="7543800" cy="613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0"/>
                    <a:ext cx="7543800" cy="61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D870-E7DA-43DE-BD5B-7C80386C176F}" type="slidenum">
              <a:t>1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6" name=""/>
          <p:cNvGraphicFramePr/>
          <p:nvPr/>
        </p:nvGraphicFramePr>
        <p:xfrm>
          <a:off x="1066680" y="987480"/>
          <a:ext cx="7239240" cy="473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987480"/>
                    <a:ext cx="7239240" cy="47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A47F-5001-42DC-83DD-5E3371B2BB10}" type="slidenum">
              <a:t>1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143000" y="1676520"/>
            <a:ext cx="1981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1676520"/>
            <a:ext cx="1981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4724280"/>
            <a:ext cx="1981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4724280"/>
            <a:ext cx="1981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68" idx="0"/>
            <a:endCxn id="66" idx="2"/>
          </p:cNvCxnSpPr>
          <p:nvPr/>
        </p:nvCxnSpPr>
        <p:spPr>
          <a:xfrm flipV="1">
            <a:off x="2133360" y="2590560"/>
            <a:ext cx="108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71" name=""/>
          <p:cNvCxnSpPr>
            <a:stCxn id="69" idx="0"/>
            <a:endCxn id="67" idx="2"/>
          </p:cNvCxnSpPr>
          <p:nvPr/>
        </p:nvCxnSpPr>
        <p:spPr>
          <a:xfrm flipV="1">
            <a:off x="6933960" y="2590560"/>
            <a:ext cx="108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72" name=""/>
          <p:cNvCxnSpPr>
            <a:stCxn id="69" idx="1"/>
            <a:endCxn id="68" idx="3"/>
          </p:cNvCxnSpPr>
          <p:nvPr/>
        </p:nvCxnSpPr>
        <p:spPr>
          <a:xfrm rot="10800000">
            <a:off x="3123360" y="5180760"/>
            <a:ext cx="2820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73" name=""/>
          <p:cNvCxnSpPr>
            <a:stCxn id="67" idx="1"/>
            <a:endCxn id="66" idx="3"/>
          </p:cNvCxnSpPr>
          <p:nvPr/>
        </p:nvCxnSpPr>
        <p:spPr>
          <a:xfrm rot="10800000">
            <a:off x="3123360" y="2133000"/>
            <a:ext cx="2820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74" name=""/>
          <p:cNvSpPr/>
          <p:nvPr/>
        </p:nvSpPr>
        <p:spPr>
          <a:xfrm>
            <a:off x="6325920" y="198108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95560" y="1781280"/>
            <a:ext cx="193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DAI_dictio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76760" y="495288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53200" y="495288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D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04000" y="480060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955040" y="525780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3640" y="1752480"/>
            <a:ext cx="9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37600" y="2209680"/>
            <a:ext cx="9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31880" y="79200"/>
            <a:ext cx="780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pendencies of the STE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cription and Implementation Meth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CEF8-283E-4713-B974-5D71B09ED4D4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_dictionary_schema: Summe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fulfills the primary needs of SDAI (late bin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ed "declaration" entities allows full short form support, needed for interoperable sch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ed sub-super type constrain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mpatible to E-Amend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lacks modeling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essions, statements, constants and variabl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ed for the body of functions and 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litting of entity data type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 entity data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types should be represented as constant instances, not as ent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E806-C487-49F5-B53F-9E01BCA0D1F4}" type="slidenum">
              <a:t>1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6097680" y="3352680"/>
            <a:ext cx="166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I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145160" y="3276720"/>
            <a:ext cx="1916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R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124080" y="3886200"/>
            <a:ext cx="25146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429000" y="3306600"/>
            <a:ext cx="16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638680" y="3048120"/>
            <a:ext cx="2514600" cy="16761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487840" y="2787480"/>
            <a:ext cx="2644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DAI, part2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838080" y="2057400"/>
            <a:ext cx="7696440" cy="3429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373400" y="1812960"/>
            <a:ext cx="65466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pping Extensions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J-SDA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691440" y="3828960"/>
            <a:ext cx="110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0" y="3808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cture of STEP Application Protoc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9463-A19A-4439-BDA1-2C7A93351946}" type="slidenum">
              <a:t>1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ping Schema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ping Operations, Histor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pping extensions of the SDAI_dictionary_schema and associated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G11/N05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DAI Mapping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G11/N05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DAI Mapping Schemas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G11/N06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 for the next version of SD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G11/N07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ping Operations for the SD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nvers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M &lt;=&gt; ARM &lt;=&gt; EPIST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M &lt;=&gt; EPIS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EF03-D480-4F45-B506-E755411D0EFC}" type="slidenum">
              <a:t>1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1143000" y="1676520"/>
            <a:ext cx="1981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943600" y="1676520"/>
            <a:ext cx="1981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143000" y="4724280"/>
            <a:ext cx="1981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943600" y="4724280"/>
            <a:ext cx="1981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6" name=""/>
          <p:cNvCxnSpPr>
            <a:stCxn id="784" idx="0"/>
            <a:endCxn id="782" idx="2"/>
          </p:cNvCxnSpPr>
          <p:nvPr/>
        </p:nvCxnSpPr>
        <p:spPr>
          <a:xfrm flipV="1">
            <a:off x="2133360" y="2590560"/>
            <a:ext cx="108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787" name=""/>
          <p:cNvCxnSpPr>
            <a:stCxn id="785" idx="0"/>
            <a:endCxn id="783" idx="2"/>
          </p:cNvCxnSpPr>
          <p:nvPr/>
        </p:nvCxnSpPr>
        <p:spPr>
          <a:xfrm flipV="1">
            <a:off x="6933960" y="2590560"/>
            <a:ext cx="108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788" name=""/>
          <p:cNvCxnSpPr>
            <a:stCxn id="785" idx="1"/>
            <a:endCxn id="784" idx="3"/>
          </p:cNvCxnSpPr>
          <p:nvPr/>
        </p:nvCxnSpPr>
        <p:spPr>
          <a:xfrm rot="10800000">
            <a:off x="3123360" y="5180760"/>
            <a:ext cx="2820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789" name=""/>
          <p:cNvCxnSpPr>
            <a:stCxn id="783" idx="1"/>
            <a:endCxn id="782" idx="3"/>
          </p:cNvCxnSpPr>
          <p:nvPr/>
        </p:nvCxnSpPr>
        <p:spPr>
          <a:xfrm rot="10800000">
            <a:off x="3123360" y="2133000"/>
            <a:ext cx="2820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790" name=""/>
          <p:cNvSpPr/>
          <p:nvPr/>
        </p:nvSpPr>
        <p:spPr>
          <a:xfrm>
            <a:off x="6325920" y="198108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195560" y="1781280"/>
            <a:ext cx="193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DAI_dictio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476760" y="495288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753200" y="495288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D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204000" y="480060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955040" y="525780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203640" y="1752480"/>
            <a:ext cx="9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737600" y="2209680"/>
            <a:ext cx="9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31880" y="79200"/>
            <a:ext cx="780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pendencies of the STE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cription and Implementation Meth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A974-7007-4FFB-ABA2-627D99CE04C3}" type="slidenum">
              <a:t>1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1143000" y="1447920"/>
            <a:ext cx="198108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943600" y="1600200"/>
            <a:ext cx="1981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143000" y="4648320"/>
            <a:ext cx="1981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943600" y="4724280"/>
            <a:ext cx="1981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3" name=""/>
          <p:cNvCxnSpPr>
            <a:stCxn id="801" idx="0"/>
            <a:endCxn id="799" idx="2"/>
          </p:cNvCxnSpPr>
          <p:nvPr/>
        </p:nvCxnSpPr>
        <p:spPr>
          <a:xfrm flipV="1">
            <a:off x="2133360" y="2819160"/>
            <a:ext cx="1080" cy="1829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804" name=""/>
          <p:cNvCxnSpPr>
            <a:stCxn id="802" idx="0"/>
            <a:endCxn id="800" idx="2"/>
          </p:cNvCxnSpPr>
          <p:nvPr/>
        </p:nvCxnSpPr>
        <p:spPr>
          <a:xfrm flipV="1">
            <a:off x="6933960" y="2666520"/>
            <a:ext cx="1080" cy="2057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805" name=""/>
          <p:cNvCxnSpPr>
            <a:stCxn id="802" idx="1"/>
            <a:endCxn id="801" idx="3"/>
          </p:cNvCxnSpPr>
          <p:nvPr/>
        </p:nvCxnSpPr>
        <p:spPr>
          <a:xfrm rot="10800000">
            <a:off x="3123360" y="5180760"/>
            <a:ext cx="2820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806" name=""/>
          <p:cNvCxnSpPr>
            <a:stCxn id="800" idx="1"/>
            <a:endCxn id="799" idx="3"/>
          </p:cNvCxnSpPr>
          <p:nvPr/>
        </p:nvCxnSpPr>
        <p:spPr>
          <a:xfrm rot="10800000">
            <a:off x="3123360" y="2133000"/>
            <a:ext cx="2820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807" name=""/>
          <p:cNvSpPr/>
          <p:nvPr/>
        </p:nvSpPr>
        <p:spPr>
          <a:xfrm>
            <a:off x="6323760" y="1752480"/>
            <a:ext cx="1308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181160" y="1447920"/>
            <a:ext cx="1965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DAI_dictio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sche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ping_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476760" y="495288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063080" y="4800600"/>
            <a:ext cx="212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DAI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ping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204000" y="480060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955040" y="525780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203640" y="1752480"/>
            <a:ext cx="9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737600" y="2209680"/>
            <a:ext cx="9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8AC8-1313-4344-BEB6-AEFB24546B57}" type="slidenum">
              <a:t>1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1143000" y="1523880"/>
            <a:ext cx="1981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943600" y="1523880"/>
            <a:ext cx="1981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143000" y="4572000"/>
            <a:ext cx="1981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943600" y="4572000"/>
            <a:ext cx="1981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9" name=""/>
          <p:cNvCxnSpPr>
            <a:stCxn id="817" idx="0"/>
            <a:endCxn id="815" idx="2"/>
          </p:cNvCxnSpPr>
          <p:nvPr/>
        </p:nvCxnSpPr>
        <p:spPr>
          <a:xfrm flipV="1">
            <a:off x="2133360" y="2437560"/>
            <a:ext cx="108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820" name=""/>
          <p:cNvCxnSpPr>
            <a:stCxn id="818" idx="0"/>
            <a:endCxn id="816" idx="2"/>
          </p:cNvCxnSpPr>
          <p:nvPr/>
        </p:nvCxnSpPr>
        <p:spPr>
          <a:xfrm flipV="1">
            <a:off x="6933960" y="2437560"/>
            <a:ext cx="108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821" name=""/>
          <p:cNvCxnSpPr>
            <a:stCxn id="818" idx="1"/>
            <a:endCxn id="817" idx="3"/>
          </p:cNvCxnSpPr>
          <p:nvPr/>
        </p:nvCxnSpPr>
        <p:spPr>
          <a:xfrm rot="10800000">
            <a:off x="3123360" y="5028480"/>
            <a:ext cx="2820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822" name=""/>
          <p:cNvCxnSpPr>
            <a:stCxn id="816" idx="1"/>
            <a:endCxn id="815" idx="3"/>
          </p:cNvCxnSpPr>
          <p:nvPr/>
        </p:nvCxnSpPr>
        <p:spPr>
          <a:xfrm rot="10800000">
            <a:off x="3123360" y="1980360"/>
            <a:ext cx="2820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823" name=""/>
          <p:cNvSpPr/>
          <p:nvPr/>
        </p:nvSpPr>
        <p:spPr>
          <a:xfrm>
            <a:off x="6039720" y="1600200"/>
            <a:ext cx="188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RESS (X,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181160" y="1628640"/>
            <a:ext cx="196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ctionary_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ping_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476760" y="480060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063080" y="4648320"/>
            <a:ext cx="212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DAI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ping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204000" y="464832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955040" y="510552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203280" y="160020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816800" y="2057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285920" y="212760"/>
            <a:ext cx="180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ping T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926840" y="152280"/>
            <a:ext cx="96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pp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SCI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8347320" y="15685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066680" y="76320"/>
            <a:ext cx="213372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 flipV="1">
            <a:off x="2742840" y="91404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2133720" y="9903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1371240" y="9144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3200040" y="53352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881440" y="105264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120400" y="1052640"/>
            <a:ext cx="57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35320" y="99072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p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7924320" y="1752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7924680" y="2209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623360" y="3048120"/>
            <a:ext cx="125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b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M + A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 Map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8384760" y="2025720"/>
            <a:ext cx="57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772400" y="2438280"/>
            <a:ext cx="3808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33200" y="3124080"/>
            <a:ext cx="143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ML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H="1">
            <a:off x="914400" y="24382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31840" y="25909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352680" y="5791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434040" y="5867280"/>
            <a:ext cx="22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M &lt;=&gt; AIM conve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352680" y="57913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352680" y="62485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342B-9CBB-417B-B829-29DB175F6310}" type="slidenum">
              <a:t>1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4" name=""/>
          <p:cNvGraphicFramePr/>
          <p:nvPr/>
        </p:nvGraphicFramePr>
        <p:xfrm>
          <a:off x="0" y="996840"/>
          <a:ext cx="9144000" cy="486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6840"/>
                    <a:ext cx="91440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1D0C-B54B-4A02-90DD-EEDE8B29E9D1}" type="slidenum">
              <a:t>1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6" name=""/>
          <p:cNvGraphicFramePr/>
          <p:nvPr/>
        </p:nvGraphicFramePr>
        <p:xfrm>
          <a:off x="609480" y="-44280"/>
          <a:ext cx="8305920" cy="631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-44280"/>
                    <a:ext cx="8305920" cy="63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459B-F73C-4C75-B4C7-D8E335DB09CD}" type="slidenum">
              <a:t>1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8" name=""/>
          <p:cNvGraphicFramePr/>
          <p:nvPr/>
        </p:nvGraphicFramePr>
        <p:xfrm>
          <a:off x="1447920" y="457200"/>
          <a:ext cx="6324480" cy="531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457200"/>
                    <a:ext cx="6324480" cy="531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D0F7-D27B-47D9-B2F1-C20DC249CE0B}" type="slidenum">
              <a:t>1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pping Operations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ow to work on AIM instances with ARM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 dictionary data for ARM, AIM and mapping data =&gt; late-bind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arly binding also possible, but many classes and co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operat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instances which fits to a given ARM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if instance fits to an ARM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ARM attrib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ARM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oper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IM instances for ARM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/unset ARM attribute values on AIM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ping methods are defined in SdaiModel and EEn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560B-D03D-4A6A-823D-766B86D86134}" type="slidenum">
              <a:t>1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ndard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a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ces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terf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SDAI, ISO 10303-2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trac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plicati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gramm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terface (API) for STEP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ming Language bindings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 10303-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 10303-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tran (canceled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 10303-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L (to be canceled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 10303-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lete Jav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O 10303-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ghtweight Jav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 10303-2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B90B-1720-43A6-941B-EC815324E11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pping Operations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care of all constraints in the reference path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can ignore the reference path colum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a higher level API on top of the lower level SD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need to know only column 1 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pplication el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2 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M el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limited to the quality of the Mapping Tab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ad-operations (AIM to ARM) fi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olutions, either 0, 1 or many. Often not only one sol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sions are needed to cover Conformance Classes and top - entities from where to start searching; e.g. product_conc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C8E1-9D6D-438F-BA3C-EA59BF673C93}" type="slidenum">
              <a:t>1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pping Operations 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610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for testing and accessing 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Attribute armAttribute = ...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daiModel dataDomain = ...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daiModel mappingDomain = ...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Attribute_mapping attAlternatives 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.testSourceAttribute(armAttribut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taDomain, mappingDomai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attAlternatives != null)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 o 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.getMappedAttribute(armAttribut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taDomain, mappingDomai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47A0-9CC7-4A28-B2AA-5FC12121BB41}" type="slidenum">
              <a:t>1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mory Limit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-SDAI stores the persistent information of repositories and models on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tents of a closed repository is stored on disk on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tents of an in-active SdaiModel (no RO/RW access) is also stored on disk on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opening a repository its models and SchemaInstances are loaded into RA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ctivating a model in RO or RW access mode its entity instances are loaded into 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6884-BF1E-460A-8BE1-7864428D7AA4}" type="slidenum">
              <a:t>1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mory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vailable RAM limits the number of available entity instances at a time. Consequences for practical wor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't make SdaiModels too big. Several of them should always fit into 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-active models when not needed (end acc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, don't keep pointers to objects you don't ne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them to null when no longer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data fields in classes - define as many fields as possible in methods (stac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71C9-5F3B-4BA3-A0E1-49E23D24C32B}" type="slidenum">
              <a:t>1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128 MByte machine can typically handle 250,000 entity instances or mor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multaneous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sufficient for many applications. The problem is more that the STEP-APs and IRs give no guidance how to use SdaiModels (devide and conqu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an A-BREP into on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mory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FCEC-F055-4AC9-ACD9-A357BBB0B2F5}" type="slidenum">
              <a:t>1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Event and -Listeners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 may want to be informed if an SDAI object is changed either through local activities or from remote 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of clas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daiEv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form on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DAI classes implementing the interfac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daiEvenSour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send out Sdai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classes implement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daiListen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receive SdaiEvents when having registered 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daiEventSour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listen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1B87-426F-447E-996B-BF4719EB0552}" type="slidenum">
              <a:t>1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Event and -Listeners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ly (J-SDAI 2.0) the interfac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daiEvenSour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implement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Ent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basis for all application and dictionary instan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daiReposi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future versions we plan to hav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daiEventSour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so implement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kind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ggreg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dai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chema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0471-C942-4E27-8244-1E2C81726054}" type="slidenum">
              <a:t>1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Event and -Listeners 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85440" y="8377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daiEv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form on these modif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RIBUTE_MODI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AL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_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EBER_REM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_DATA_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SdaiEvent types may be considered for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daiEvent and SdaiListener define an information system on pur SDAI basis - it is on persistend data. It can be a replacement for other Java APIs such as InfoBus for this specific purp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410F-DF1B-4A85-A650-398B90532481}" type="slidenum">
              <a:t>1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possible part27 implement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loading of only the needed entity instances from disk/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ling unlimited number of entity inst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 cannot know which data will be needed. Therefor entity instances are only loaded on request, e.g.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et attribu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s. This will significantly slow 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s like SdaiModel.getInstances or EntityExtent.getInstances are not useful. How to start initially (-&gt; que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very get Attribute access if is checked if this instance is already load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A99D-E5DF-416F-B6B7-45747110B5F9}" type="slidenum">
              <a:t>1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473400" y="685800"/>
            <a:ext cx="7665120" cy="55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RESS supports modular data modeling by interfacing elements from other sch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o a local one. Elements are interfaced ei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xplicit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FERENCE 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SE 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mplicit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when used by explicitly interfaced elem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in the context of a schema only locally declared entities or entities interfa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USE FROM can be individually instantiated. Instances of entities which are interfac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ither implicitly or with REFERENCE FROM are only allowed if they are referen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m locally defined or USE FROM entity instanc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day STEP consists of 66 schemas in the Integrated Resources (IR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ication Interpreted Construct (AIC). While the IR schemas interfaces elements fro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ther IRs with REFERENCE FROM the AIC do this with USE FRO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ery Application protocols (AP) have a short form and a long form schem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short form schema interfaces elements from  the integrated and interpre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hemas with USE FROM. In the long form schema all interfaced elements are resolved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e global schema. So far STEP implementations are based on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ng-form schema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P-interoperabil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f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onent based programm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bea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usage of the AP short form is essential 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50640" y="90360"/>
            <a:ext cx="759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XPRESS support for Modularization and it’s usage in STEP to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D393-6329-4EC6-BAEC-060B5F6A6A21}" type="slidenum">
              <a:t>1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Java programming language binding to the SDAI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ith Internet/Intranet exten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2286000"/>
            <a:ext cx="8153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published as 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chnical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cifications (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lit into 2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SO 10303-27: comp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O 10303-29: lightweight + EJ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60B6-2986-4E56-93B5-DAF6FC306F6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4921200" y="76320"/>
            <a:ext cx="3565440" cy="3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921200" y="685800"/>
            <a:ext cx="3565440" cy="3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921200" y="1295280"/>
            <a:ext cx="3565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21200" y="1905120"/>
            <a:ext cx="3565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921200" y="2514600"/>
            <a:ext cx="3565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921200" y="3124080"/>
            <a:ext cx="3565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921200" y="4343400"/>
            <a:ext cx="3565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921200" y="4952880"/>
            <a:ext cx="3565440" cy="366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anced_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921200" y="5867280"/>
            <a:ext cx="3581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921200" y="763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t_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47400" y="76320"/>
            <a:ext cx="27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_context_sch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997520" y="7002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921200" y="13096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t_definition_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921200" y="19051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t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921200" y="25290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t_definition_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997520" y="313848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pe_definition_re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920120" y="4343400"/>
            <a:ext cx="36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anced_brep_shape_re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921200" y="580536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tesian_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48480" y="1295280"/>
            <a:ext cx="26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t_definition_sch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54240" y="2529000"/>
            <a:ext cx="357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t_property_definition_sch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47760" y="3138480"/>
            <a:ext cx="39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t_property_representation_sch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50640" y="428148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C 5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51000" y="48006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C5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48120" y="5408640"/>
            <a:ext cx="258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ometry_sch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pology_sch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ometric_model_sch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6" name=""/>
          <p:cNvCxnSpPr>
            <a:stCxn id="882" idx="2"/>
            <a:endCxn id="883" idx="0"/>
          </p:cNvCxnSpPr>
          <p:nvPr/>
        </p:nvCxnSpPr>
        <p:spPr>
          <a:xfrm flipV="1" rot="10800000">
            <a:off x="6703200" y="471240"/>
            <a:ext cx="1080" cy="2149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lg" type="oval" w="lg"/>
          </a:ln>
        </p:spPr>
      </p:cxnSp>
      <p:cxnSp>
        <p:nvCxnSpPr>
          <p:cNvPr id="907" name=""/>
          <p:cNvCxnSpPr>
            <a:stCxn id="883" idx="2"/>
            <a:endCxn id="884" idx="0"/>
          </p:cNvCxnSpPr>
          <p:nvPr/>
        </p:nvCxnSpPr>
        <p:spPr>
          <a:xfrm flipV="1" rot="10800000">
            <a:off x="6703200" y="1080720"/>
            <a:ext cx="1080" cy="2149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lg" type="oval" w="lg"/>
          </a:ln>
        </p:spPr>
      </p:cxnSp>
      <p:cxnSp>
        <p:nvCxnSpPr>
          <p:cNvPr id="908" name=""/>
          <p:cNvCxnSpPr>
            <a:stCxn id="885" idx="0"/>
            <a:endCxn id="884" idx="2"/>
          </p:cNvCxnSpPr>
          <p:nvPr/>
        </p:nvCxnSpPr>
        <p:spPr>
          <a:xfrm flipV="1">
            <a:off x="6703560" y="16758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909" name=""/>
          <p:cNvCxnSpPr>
            <a:stCxn id="885" idx="2"/>
            <a:endCxn id="886" idx="0"/>
          </p:cNvCxnSpPr>
          <p:nvPr/>
        </p:nvCxnSpPr>
        <p:spPr>
          <a:xfrm flipV="1" rot="10800000">
            <a:off x="6703200" y="228564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lg" type="oval" w="lg"/>
          </a:ln>
        </p:spPr>
      </p:cxnSp>
      <p:cxnSp>
        <p:nvCxnSpPr>
          <p:cNvPr id="910" name=""/>
          <p:cNvCxnSpPr>
            <a:stCxn id="886" idx="2"/>
            <a:endCxn id="887" idx="0"/>
          </p:cNvCxnSpPr>
          <p:nvPr/>
        </p:nvCxnSpPr>
        <p:spPr>
          <a:xfrm flipV="1" rot="10800000">
            <a:off x="6703200" y="289512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lg" type="oval" w="lg"/>
          </a:ln>
        </p:spPr>
      </p:cxnSp>
      <p:cxnSp>
        <p:nvCxnSpPr>
          <p:cNvPr id="911" name=""/>
          <p:cNvCxnSpPr>
            <a:stCxn id="888" idx="2"/>
            <a:endCxn id="889" idx="0"/>
          </p:cNvCxnSpPr>
          <p:nvPr/>
        </p:nvCxnSpPr>
        <p:spPr>
          <a:xfrm>
            <a:off x="6703560" y="4723920"/>
            <a:ext cx="1080" cy="229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912" name=""/>
          <p:cNvCxnSpPr>
            <a:stCxn id="889" idx="2"/>
            <a:endCxn id="890" idx="0"/>
          </p:cNvCxnSpPr>
          <p:nvPr/>
        </p:nvCxnSpPr>
        <p:spPr>
          <a:xfrm flipH="1" rot="16200000">
            <a:off x="6433920" y="5589000"/>
            <a:ext cx="548280" cy="8640"/>
          </a:xfrm>
          <a:prstGeom prst="bentConnector3">
            <a:avLst>
              <a:gd name="adj1" fmla="val 49802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913" name=""/>
          <p:cNvSpPr/>
          <p:nvPr/>
        </p:nvSpPr>
        <p:spPr>
          <a:xfrm>
            <a:off x="4692600" y="76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692600" y="685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69260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69260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69260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692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692600" y="5410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1035000" y="533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1035000" y="1676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1035000" y="2895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035000" y="464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035000" y="5105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172880" y="671400"/>
            <a:ext cx="19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FERENCE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172880" y="1967040"/>
            <a:ext cx="19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FERENCE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172880" y="2881440"/>
            <a:ext cx="19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FERENCE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342080" y="4495680"/>
            <a:ext cx="118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342080" y="5105520"/>
            <a:ext cx="118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921200" y="3733920"/>
            <a:ext cx="3581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1" name=""/>
          <p:cNvCxnSpPr/>
          <p:nvPr/>
        </p:nvCxnSpPr>
        <p:spPr>
          <a:xfrm flipV="1" rot="10800000">
            <a:off x="6749280" y="350496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932" name=""/>
          <p:cNvCxnSpPr/>
          <p:nvPr/>
        </p:nvCxnSpPr>
        <p:spPr>
          <a:xfrm flipV="1" rot="10800000">
            <a:off x="6749280" y="4114440"/>
            <a:ext cx="1080" cy="229320"/>
          </a:xfrm>
          <a:prstGeom prst="bentConnector2">
            <a:avLst/>
          </a:prstGeom>
          <a:ln w="44280">
            <a:solidFill>
              <a:srgbClr val="000000"/>
            </a:solidFill>
            <a:miter/>
            <a:tailEnd len="med" type="oval" w="med"/>
          </a:ln>
        </p:spPr>
      </p:cxnSp>
      <p:sp>
        <p:nvSpPr>
          <p:cNvPr id="933" name=""/>
          <p:cNvSpPr/>
          <p:nvPr/>
        </p:nvSpPr>
        <p:spPr>
          <a:xfrm>
            <a:off x="4905360" y="3719520"/>
            <a:ext cx="359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ape_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48840" y="3754440"/>
            <a:ext cx="22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resentation-sch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69260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03500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172880" y="3473280"/>
            <a:ext cx="19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FERENCE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C92E-CF13-4417-B12D-AE70155C1A12}" type="slidenum">
              <a:t>1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667080" y="41400"/>
            <a:ext cx="56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blems with short form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41360" y="685800"/>
            <a:ext cx="816624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proposed p21 amendment allows more than one Data-Se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Data-Section in a p21 file or an SdaiModel is based on one EXPRESS schema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Data-Section /SdaiModel can contain only instances of entities defined in 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derlying schema or of interfaced entities. What to do with AP specific subtyp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clude them from AP interoper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 CONNOTATIONAL subtypes (Express V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w foreign subtypes in Data-Section / Sdai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many instances shall a Data-Section / SdaiModel contain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.g. for the application_context_schema typically only 4 instances are need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 with too few instances the overhead of having a separate Data-Section / SdaiModel is too bi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complete assembled product with all shapes can easily consists of several millions of instanc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re is a practical upper limit of less than one million instances for an SdaiModel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therwise working on repositories with billions of instances, referencing each oth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ll be hard to implement and inefficient. (Optimal less than 100,000 instances per SdaiMode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uidelines are needed for practical / typical sizes of Data Sections / SdaiMode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e Data-Sections / SdaiModel needed for every schema or only for the major on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uidelines are needed for which schemas to us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.g. AIC schemas and product_property_representation_schem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 probably not application_context_sch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3B69-049D-4647-90FE-08B20518EF70}" type="slidenum">
              <a:t>1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 hot topics from our persp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8390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based on EXPRESS short form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makes us a lot of work to get mating sets of all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ESS schemas - and we have to update the ol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s (203) for the AICs oursel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ing the possible complex entity data typ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several leaves. These are those which requi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rnal mapping in a part21 file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ay's STEP schemas allow an astronomic bi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those complexes - but only a few a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ly relevant and are supported by appl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mapping tables (clause 5.1 of APs)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ormance classes (4.1 of APs) computer read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AA36-4E84-46DD-972F-6033C965E86C}" type="slidenum">
              <a:t>1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ics: Future SDAI Dir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ects of the EXPRESS Amendment and EXPRESS-2 on SD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he EXPRESS-2 semantic Meta-model will influence the SDAI_dictionary_sche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IB 32, the Geometric Programming interface for 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SDAI may support Para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SDAI can do for the special needs of handling life cycle  information as defined in STEP-AP221, ISO 15926, EPIS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78C9-9534-4D4F-AA07-592B8FD06C70}" type="slidenum">
              <a:t>1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stallation overview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ll now only manual instal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-SDAI runs with Java 1.1, but we recommend to use Java 1.2 (Java 2 platform). In future we will move to JDK 1.3 for better complex type support (alternativ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-SDAI is an extension of the Java platform. As such its components are installed in the special "ext" directory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:\jdk1.2.2\jre\lib\ex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: When following the default installation of JDK1.2.2, two ext directories are created, one for compilation and one for usual prgram exec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the installing JDK 1.2.2 adjust the Java runtime system to "c:\jdk1.2.2\jre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AF32-56AE-4C69-8514-51D95FA8762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stallation overview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asspa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eeded ! Files to install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sdai.properti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sdai_m.ja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sdai_lib.j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sitory directo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:\sdaireposi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: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sdaix_ap203book.jar, jsdaix_look_feel.jar, jsdaix_view3d.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330E-663C-4F77-BEEB-529ADDDCFC6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ckage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4851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sdai.la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s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851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classes and interfaces for EXPR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4851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sdai.diction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ctionary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4851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sdai.mapp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ping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4851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sdai.SXx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schema x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4851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sdai.ut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daiTerm, SdaiEd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4851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sdai.be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ssion be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4851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sdaix.view3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D-viewer b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4851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sdaix.pdm_bea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DM (p41) be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4851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sdaix.look_fe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al L&amp;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4851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sdaix.ap203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203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5E43-23EE-468E-98F0-366416149C1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-SDAI implementation fa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% pure Java =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written in Java + platform neut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pointers (Java references) for fast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-directional between model and entity-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-directional for explicit attribute (implicit inverse attribu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link form application level to meta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ct and specialized binary format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istent storage in reposi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internet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aralle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te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rly-bind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ess for entity type, attributes and aggreg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1521-8418-4F25-990C-AB2822AF295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pics: Basic SDAI Functiona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representation of ent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agement class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and writing part21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ing of inverse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ole of SchemaIn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id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-Interoperability, usage of common data between several A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-binding and the SDAI_dictionary_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4ADA-4AAB-4F33-9913-19B2340A7BD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DAI Tutorial and th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-SDAI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description and implementation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ESS versus 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SDAI Function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ed SDAI Function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SDAI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D19A-2382-4C8E-BEE9-393C9049DB1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tity, Entity Instance, Comple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erm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tity-Ins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not very precis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lex Ent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even miss-lea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tity Data 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are defined in an EXPRESS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lex Entity Data 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d by an algorithm for a given EXPRESS schema (ABSTRACT, AND, ONEOF, AND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ral lea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tity Data Typ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ater one is often called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lex En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instanti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tial Complex Entity Data Typ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incomple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lex Entity Data Typ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y exist only in EXPRESS but not in SDAI or Part2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B861-CB00-4356-842E-7B38991E448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177840" y="2801880"/>
            <a:ext cx="1378080" cy="2521080"/>
            <a:chOff x="177840" y="2801880"/>
            <a:chExt cx="1378080" cy="2521080"/>
          </a:xfrm>
        </p:grpSpPr>
        <p:sp>
          <p:nvSpPr>
            <p:cNvPr id="100" name=""/>
            <p:cNvSpPr/>
            <p:nvPr/>
          </p:nvSpPr>
          <p:spPr>
            <a:xfrm>
              <a:off x="177840" y="2801880"/>
              <a:ext cx="1378080" cy="2521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5000" y="28544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7880" y="3260880"/>
              <a:ext cx="91944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5000" y="330516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016000" y="2801880"/>
            <a:ext cx="1378080" cy="2521080"/>
            <a:chOff x="2016000" y="2801880"/>
            <a:chExt cx="1378080" cy="2521080"/>
          </a:xfrm>
        </p:grpSpPr>
        <p:sp>
          <p:nvSpPr>
            <p:cNvPr id="105" name=""/>
            <p:cNvSpPr/>
            <p:nvPr/>
          </p:nvSpPr>
          <p:spPr>
            <a:xfrm>
              <a:off x="2016000" y="2801880"/>
              <a:ext cx="1378080" cy="2521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99040" y="2854440"/>
              <a:ext cx="608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&amp;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46400" y="3260880"/>
              <a:ext cx="91764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03520" y="330516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46400" y="3948120"/>
              <a:ext cx="91764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03520" y="399240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854520" y="2801880"/>
            <a:ext cx="1377720" cy="2521080"/>
            <a:chOff x="3854520" y="2801880"/>
            <a:chExt cx="1377720" cy="2521080"/>
          </a:xfrm>
        </p:grpSpPr>
        <p:sp>
          <p:nvSpPr>
            <p:cNvPr id="112" name=""/>
            <p:cNvSpPr/>
            <p:nvPr/>
          </p:nvSpPr>
          <p:spPr>
            <a:xfrm>
              <a:off x="3854520" y="2801880"/>
              <a:ext cx="1377720" cy="2521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24960" y="2854440"/>
              <a:ext cx="625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&amp;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083120" y="3260880"/>
              <a:ext cx="91908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40240" y="330516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83120" y="4635360"/>
              <a:ext cx="91908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27640" y="468000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691240" y="2801880"/>
            <a:ext cx="1379520" cy="2521080"/>
            <a:chOff x="5691240" y="2801880"/>
            <a:chExt cx="1379520" cy="2521080"/>
          </a:xfrm>
        </p:grpSpPr>
        <p:sp>
          <p:nvSpPr>
            <p:cNvPr id="119" name=""/>
            <p:cNvSpPr/>
            <p:nvPr/>
          </p:nvSpPr>
          <p:spPr>
            <a:xfrm>
              <a:off x="5691240" y="2801880"/>
              <a:ext cx="1379520" cy="2521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859000" y="2854440"/>
              <a:ext cx="1031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&amp;B&amp;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921280" y="3260880"/>
              <a:ext cx="91908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78400" y="330516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21280" y="3948120"/>
              <a:ext cx="91908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78400" y="399240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921280" y="4635360"/>
              <a:ext cx="91908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265800" y="468000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07080" y="2057400"/>
            <a:ext cx="5240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lex Entity Data Typ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7299360" y="2287440"/>
            <a:ext cx="1838160" cy="3264120"/>
            <a:chOff x="7299360" y="2287440"/>
            <a:chExt cx="1838160" cy="3264120"/>
          </a:xfrm>
        </p:grpSpPr>
        <p:sp>
          <p:nvSpPr>
            <p:cNvPr id="129" name=""/>
            <p:cNvSpPr/>
            <p:nvPr/>
          </p:nvSpPr>
          <p:spPr>
            <a:xfrm>
              <a:off x="7529400" y="2801880"/>
              <a:ext cx="1378080" cy="2521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900200" y="2854440"/>
              <a:ext cx="625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&amp;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59800" y="3948120"/>
              <a:ext cx="91908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116920" y="399240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759800" y="4635360"/>
              <a:ext cx="91908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104320" y="468000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703280" y="2287440"/>
              <a:ext cx="863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rt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7299360" y="2343240"/>
              <a:ext cx="1838160" cy="3208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99360" y="2343240"/>
              <a:ext cx="1838160" cy="3208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8" name=""/>
          <p:cNvGraphicFramePr/>
          <p:nvPr/>
        </p:nvGraphicFramePr>
        <p:xfrm>
          <a:off x="5181480" y="304920"/>
          <a:ext cx="2330640" cy="14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304920"/>
                    <a:ext cx="2330640" cy="14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232200" y="228600"/>
            <a:ext cx="36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ity Data Typ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9880" y="5477040"/>
            <a:ext cx="735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complex entity data types can be instanti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9007-D09A-4D8F-862D-FECD6392101B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lex Entity Data Typ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umber of Leave Entity Data Typ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10200" y="1565280"/>
            <a:ext cx="1450440" cy="3736440"/>
            <a:chOff x="610200" y="1565280"/>
            <a:chExt cx="1450440" cy="3736440"/>
          </a:xfrm>
        </p:grpSpPr>
        <p:sp>
          <p:nvSpPr>
            <p:cNvPr id="144" name=""/>
            <p:cNvSpPr/>
            <p:nvPr/>
          </p:nvSpPr>
          <p:spPr>
            <a:xfrm>
              <a:off x="682560" y="2209680"/>
              <a:ext cx="1378080" cy="2521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70080" y="22622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12960" y="2668680"/>
              <a:ext cx="91908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70080" y="271296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44800" y="1565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0200" y="4842000"/>
              <a:ext cx="139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#1=A(...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2439360" y="1565280"/>
            <a:ext cx="1459440" cy="3771360"/>
            <a:chOff x="2439360" y="1565280"/>
            <a:chExt cx="1459440" cy="3771360"/>
          </a:xfrm>
        </p:grpSpPr>
        <p:sp>
          <p:nvSpPr>
            <p:cNvPr id="151" name=""/>
            <p:cNvSpPr/>
            <p:nvPr/>
          </p:nvSpPr>
          <p:spPr>
            <a:xfrm>
              <a:off x="2521080" y="2209680"/>
              <a:ext cx="1377720" cy="2521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903760" y="2262240"/>
              <a:ext cx="608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&amp;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51120" y="2668680"/>
              <a:ext cx="91764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08240" y="271296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51120" y="3355920"/>
              <a:ext cx="91764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08240" y="340056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49920" y="1565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39360" y="4876920"/>
              <a:ext cx="129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#2=B(...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267440" y="1600200"/>
            <a:ext cx="1469880" cy="3736440"/>
            <a:chOff x="4267440" y="1600200"/>
            <a:chExt cx="1469880" cy="3736440"/>
          </a:xfrm>
        </p:grpSpPr>
        <p:sp>
          <p:nvSpPr>
            <p:cNvPr id="160" name=""/>
            <p:cNvSpPr/>
            <p:nvPr/>
          </p:nvSpPr>
          <p:spPr>
            <a:xfrm>
              <a:off x="4359240" y="2209680"/>
              <a:ext cx="1378080" cy="2521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29680" y="2262240"/>
              <a:ext cx="625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&amp;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87840" y="2668680"/>
              <a:ext cx="91908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44960" y="271296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87840" y="4043520"/>
              <a:ext cx="91908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32360" y="408780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70520" y="1600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67440" y="4876920"/>
              <a:ext cx="137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#3=C(...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095880" y="1600200"/>
            <a:ext cx="2870640" cy="3736440"/>
            <a:chOff x="6095880" y="1600200"/>
            <a:chExt cx="2870640" cy="3736440"/>
          </a:xfrm>
        </p:grpSpPr>
        <p:sp>
          <p:nvSpPr>
            <p:cNvPr id="169" name=""/>
            <p:cNvSpPr/>
            <p:nvPr/>
          </p:nvSpPr>
          <p:spPr>
            <a:xfrm>
              <a:off x="6195960" y="2209680"/>
              <a:ext cx="1379520" cy="2521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63720" y="2262240"/>
              <a:ext cx="1031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&amp;B&amp;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26360" y="2668680"/>
              <a:ext cx="91908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783480" y="271296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26360" y="3355920"/>
              <a:ext cx="91908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83480" y="340056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26360" y="4043520"/>
              <a:ext cx="91908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770520" y="408780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707520" y="1600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95880" y="4876920"/>
              <a:ext cx="287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#4=(A(...)B(...)C(...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1FB7-2024-46C3-9DC6-ADC7F37AD4C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tity Mapping to Java (early bindi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85040" y="3727440"/>
            <a:ext cx="1379520" cy="25210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64040" y="3780000"/>
            <a:ext cx="84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B&amp;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48320" y="3727440"/>
            <a:ext cx="1377720" cy="25210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72840" y="3780000"/>
            <a:ext cx="43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09800" y="3727440"/>
            <a:ext cx="1378080" cy="25210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00840" y="3780000"/>
            <a:ext cx="42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71640" y="3727440"/>
            <a:ext cx="1377720" cy="25210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72040" y="3780000"/>
            <a:ext cx="42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01680" y="4186080"/>
            <a:ext cx="91908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88960" y="4230720"/>
            <a:ext cx="406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0200" y="4186080"/>
            <a:ext cx="91728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43320" y="4230720"/>
            <a:ext cx="406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0200" y="4873680"/>
            <a:ext cx="91728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43320" y="4917960"/>
            <a:ext cx="406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76920" y="4186080"/>
            <a:ext cx="91908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72120" y="4230720"/>
            <a:ext cx="406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76920" y="5560920"/>
            <a:ext cx="91908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72480" y="5605560"/>
            <a:ext cx="42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5080" y="4186080"/>
            <a:ext cx="91908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00920" y="4230720"/>
            <a:ext cx="406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15080" y="4873680"/>
            <a:ext cx="91908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00920" y="4917960"/>
            <a:ext cx="406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15080" y="5560920"/>
            <a:ext cx="91908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001280" y="5605560"/>
            <a:ext cx="42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762120"/>
            <a:ext cx="830124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tity Data Types are represent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Jav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terfa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efix "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, e.g. "EXxx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mplex Entity Data Types are represented b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Jav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ass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efix "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, e.g. "CXxx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leave entity data types are separated by "&amp;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gregates of Entity Data Types are represented b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Jav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ass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efix "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, e.g. "AXxx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DD43-D637-4BF3-B049-C786BE40993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tity Mapping to Java (late bindi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4360" y="1066680"/>
            <a:ext cx="82310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838080"/>
            <a:ext cx="85345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tity Data Typ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lex Entity Data Typ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represented by the Java Interfac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En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ggrega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tity Data Typ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represented by the Java clas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En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ing of early and late binding is realized by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Entity is directly or indirectly extended by every early binding Entity Interfac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erface EXxx extends EEntity {...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erface EYyy extends EXxx {..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Entity is directly interfaced by every early binding Aggregate Clas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AXxx extends AEntity {..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A6A7-9764-4EA0-828A-E204C65B2D6A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gical and Enumer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 and early binding enumer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final class ELogical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unset =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final int FALSE = 1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final int TRUE = 2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final int UNKNOWN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final String values[] = {"FALSE", "TRUE"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UNKNOWN"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ate ELogical( );   // no instances are allow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int toInt(String st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String toString(int value)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3CAE-56F6-4555-BCB4-A17756A7091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581280" y="1751040"/>
            <a:ext cx="2286000" cy="304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024800" y="2708280"/>
            <a:ext cx="1485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-SD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1751040"/>
            <a:ext cx="19940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rt fo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RESS sch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320" y="3122640"/>
            <a:ext cx="1321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rt n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3963960"/>
            <a:ext cx="19940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ng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RESS sch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550920" y="2208240"/>
            <a:ext cx="215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va package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faces and 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542280" y="3506760"/>
            <a:ext cx="21664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ctionary dat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based on th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DAI_dictionary_schem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1677960"/>
            <a:ext cx="2286000" cy="914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3886200"/>
            <a:ext cx="2286000" cy="914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2894040"/>
            <a:ext cx="2286000" cy="763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77120" y="2057400"/>
            <a:ext cx="2286000" cy="9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77120" y="3278160"/>
            <a:ext cx="2286000" cy="1444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867280" y="2514600"/>
            <a:ext cx="60984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67280" y="3963960"/>
            <a:ext cx="60984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2135160"/>
            <a:ext cx="68580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95480" y="3278160"/>
            <a:ext cx="68580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95480" y="4343400"/>
            <a:ext cx="68580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03A2-7627-4C95-BE73-74397A8F3A9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-SDAI Liba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sdai_lib.j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~8.5 MBy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-schemas: 4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C-schemas: 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IB schemas: 2 (soon mo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-AIM schemas: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-ARM schemas: 3 (210, 212, 21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ping Information: 2 (210, 21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special "schema" for cross-mix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 Entity Data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test and meta-sch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B451-4553-4C3B-B27E-FB4E134DCCA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in Management Obj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daiSess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ot from which every SDAI activity starts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daiReposi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 storage space for SchemaInstances and Sdai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aIns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 grouping of models to define a valid population of an express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daiMod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ing of entity instances based on one express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E082-1581-4DD1-BEF7-78735570740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uxiliary Management Obj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runtime information of the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daiTransaction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s simultaneous updating of chang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ents multiple clients from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ityExtent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xiliary, easy accessing entity inst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daiException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wn in case of error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4DE2-BE1F-4C56-9150-903D279AF0B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va 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95/96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1.0 released. It is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lacement for C+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97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jor upgrade Java 1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98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 is approved to submit Java as a Publicl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ailable Specification (PAS) at ISO JTC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98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ng -&gt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ava 2 Platfo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JDK 1.2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lmost complete OS-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99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 moves the standardization to ECMA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later it cancels this activi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0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DK 1.3, Split into several platform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Enterprise (Enterprise JavaBea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M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Standar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ic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682E-5AED-4260-85D4-F08A6AA838B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1066680" y="228600"/>
            <a:ext cx="3198960" cy="5919840"/>
            <a:chOff x="1066680" y="228600"/>
            <a:chExt cx="3198960" cy="5919840"/>
          </a:xfrm>
        </p:grpSpPr>
        <p:sp>
          <p:nvSpPr>
            <p:cNvPr id="234" name=""/>
            <p:cNvSpPr/>
            <p:nvPr/>
          </p:nvSpPr>
          <p:spPr>
            <a:xfrm>
              <a:off x="1066680" y="228600"/>
              <a:ext cx="3197160" cy="1279440"/>
            </a:xfrm>
            <a:custGeom>
              <a:avLst/>
              <a:gdLst/>
              <a:ahLst/>
              <a:rect l="l" t="t" r="r" b="b"/>
              <a:pathLst>
                <a:path w="2014" h="806">
                  <a:moveTo>
                    <a:pt x="0" y="403"/>
                  </a:moveTo>
                  <a:lnTo>
                    <a:pt x="5" y="361"/>
                  </a:lnTo>
                  <a:lnTo>
                    <a:pt x="22" y="319"/>
                  </a:lnTo>
                  <a:lnTo>
                    <a:pt x="50" y="277"/>
                  </a:lnTo>
                  <a:lnTo>
                    <a:pt x="86" y="238"/>
                  </a:lnTo>
                  <a:lnTo>
                    <a:pt x="134" y="202"/>
                  </a:lnTo>
                  <a:lnTo>
                    <a:pt x="193" y="165"/>
                  </a:lnTo>
                  <a:lnTo>
                    <a:pt x="257" y="132"/>
                  </a:lnTo>
                  <a:lnTo>
                    <a:pt x="333" y="104"/>
                  </a:lnTo>
                  <a:lnTo>
                    <a:pt x="414" y="76"/>
                  </a:lnTo>
                  <a:lnTo>
                    <a:pt x="503" y="53"/>
                  </a:lnTo>
                  <a:lnTo>
                    <a:pt x="598" y="34"/>
                  </a:lnTo>
                  <a:lnTo>
                    <a:pt x="696" y="20"/>
                  </a:lnTo>
                  <a:lnTo>
                    <a:pt x="797" y="9"/>
                  </a:lnTo>
                  <a:lnTo>
                    <a:pt x="900" y="0"/>
                  </a:lnTo>
                  <a:lnTo>
                    <a:pt x="1007" y="0"/>
                  </a:lnTo>
                  <a:lnTo>
                    <a:pt x="1113" y="0"/>
                  </a:lnTo>
                  <a:lnTo>
                    <a:pt x="1217" y="9"/>
                  </a:lnTo>
                  <a:lnTo>
                    <a:pt x="1317" y="20"/>
                  </a:lnTo>
                  <a:lnTo>
                    <a:pt x="1415" y="34"/>
                  </a:lnTo>
                  <a:lnTo>
                    <a:pt x="1510" y="53"/>
                  </a:lnTo>
                  <a:lnTo>
                    <a:pt x="1600" y="76"/>
                  </a:lnTo>
                  <a:lnTo>
                    <a:pt x="1681" y="104"/>
                  </a:lnTo>
                  <a:lnTo>
                    <a:pt x="1757" y="132"/>
                  </a:lnTo>
                  <a:lnTo>
                    <a:pt x="1821" y="165"/>
                  </a:lnTo>
                  <a:lnTo>
                    <a:pt x="1880" y="202"/>
                  </a:lnTo>
                  <a:lnTo>
                    <a:pt x="1927" y="238"/>
                  </a:lnTo>
                  <a:lnTo>
                    <a:pt x="1964" y="277"/>
                  </a:lnTo>
                  <a:lnTo>
                    <a:pt x="1992" y="319"/>
                  </a:lnTo>
                  <a:lnTo>
                    <a:pt x="2008" y="361"/>
                  </a:lnTo>
                  <a:lnTo>
                    <a:pt x="2014" y="403"/>
                  </a:lnTo>
                  <a:lnTo>
                    <a:pt x="2008" y="445"/>
                  </a:lnTo>
                  <a:lnTo>
                    <a:pt x="1992" y="487"/>
                  </a:lnTo>
                  <a:lnTo>
                    <a:pt x="1964" y="526"/>
                  </a:lnTo>
                  <a:lnTo>
                    <a:pt x="1927" y="566"/>
                  </a:lnTo>
                  <a:lnTo>
                    <a:pt x="1880" y="605"/>
                  </a:lnTo>
                  <a:lnTo>
                    <a:pt x="1821" y="638"/>
                  </a:lnTo>
                  <a:lnTo>
                    <a:pt x="1757" y="672"/>
                  </a:lnTo>
                  <a:lnTo>
                    <a:pt x="1681" y="703"/>
                  </a:lnTo>
                  <a:lnTo>
                    <a:pt x="1600" y="728"/>
                  </a:lnTo>
                  <a:lnTo>
                    <a:pt x="1510" y="750"/>
                  </a:lnTo>
                  <a:lnTo>
                    <a:pt x="1415" y="770"/>
                  </a:lnTo>
                  <a:lnTo>
                    <a:pt x="1317" y="787"/>
                  </a:lnTo>
                  <a:lnTo>
                    <a:pt x="1217" y="795"/>
                  </a:lnTo>
                  <a:lnTo>
                    <a:pt x="1113" y="804"/>
                  </a:lnTo>
                  <a:lnTo>
                    <a:pt x="1007" y="806"/>
                  </a:lnTo>
                  <a:lnTo>
                    <a:pt x="900" y="804"/>
                  </a:lnTo>
                  <a:lnTo>
                    <a:pt x="797" y="795"/>
                  </a:lnTo>
                  <a:lnTo>
                    <a:pt x="696" y="787"/>
                  </a:lnTo>
                  <a:lnTo>
                    <a:pt x="598" y="770"/>
                  </a:lnTo>
                  <a:lnTo>
                    <a:pt x="503" y="750"/>
                  </a:lnTo>
                  <a:lnTo>
                    <a:pt x="414" y="728"/>
                  </a:lnTo>
                  <a:lnTo>
                    <a:pt x="333" y="703"/>
                  </a:lnTo>
                  <a:lnTo>
                    <a:pt x="257" y="672"/>
                  </a:lnTo>
                  <a:lnTo>
                    <a:pt x="193" y="638"/>
                  </a:lnTo>
                  <a:lnTo>
                    <a:pt x="134" y="605"/>
                  </a:lnTo>
                  <a:lnTo>
                    <a:pt x="86" y="566"/>
                  </a:lnTo>
                  <a:lnTo>
                    <a:pt x="50" y="526"/>
                  </a:lnTo>
                  <a:lnTo>
                    <a:pt x="22" y="487"/>
                  </a:lnTo>
                  <a:lnTo>
                    <a:pt x="5" y="445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959120" y="606240"/>
              <a:ext cx="143784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"/>
                </a:rPr>
                <a:t>Repo A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066680" y="5508360"/>
              <a:ext cx="3197160" cy="640080"/>
            </a:xfrm>
            <a:custGeom>
              <a:avLst/>
              <a:gdLst/>
              <a:ahLst/>
              <a:rect l="l" t="t" r="r" b="b"/>
              <a:pathLst>
                <a:path w="2014" h="403">
                  <a:moveTo>
                    <a:pt x="0" y="0"/>
                  </a:moveTo>
                  <a:lnTo>
                    <a:pt x="5" y="42"/>
                  </a:lnTo>
                  <a:lnTo>
                    <a:pt x="22" y="84"/>
                  </a:lnTo>
                  <a:lnTo>
                    <a:pt x="50" y="123"/>
                  </a:lnTo>
                  <a:lnTo>
                    <a:pt x="86" y="162"/>
                  </a:lnTo>
                  <a:lnTo>
                    <a:pt x="134" y="201"/>
                  </a:lnTo>
                  <a:lnTo>
                    <a:pt x="193" y="235"/>
                  </a:lnTo>
                  <a:lnTo>
                    <a:pt x="257" y="268"/>
                  </a:lnTo>
                  <a:lnTo>
                    <a:pt x="333" y="299"/>
                  </a:lnTo>
                  <a:lnTo>
                    <a:pt x="414" y="324"/>
                  </a:lnTo>
                  <a:lnTo>
                    <a:pt x="503" y="347"/>
                  </a:lnTo>
                  <a:lnTo>
                    <a:pt x="598" y="366"/>
                  </a:lnTo>
                  <a:lnTo>
                    <a:pt x="696" y="383"/>
                  </a:lnTo>
                  <a:lnTo>
                    <a:pt x="797" y="391"/>
                  </a:lnTo>
                  <a:lnTo>
                    <a:pt x="900" y="400"/>
                  </a:lnTo>
                  <a:lnTo>
                    <a:pt x="1007" y="403"/>
                  </a:lnTo>
                  <a:lnTo>
                    <a:pt x="1113" y="400"/>
                  </a:lnTo>
                  <a:lnTo>
                    <a:pt x="1217" y="391"/>
                  </a:lnTo>
                  <a:lnTo>
                    <a:pt x="1317" y="383"/>
                  </a:lnTo>
                  <a:lnTo>
                    <a:pt x="1415" y="366"/>
                  </a:lnTo>
                  <a:lnTo>
                    <a:pt x="1510" y="347"/>
                  </a:lnTo>
                  <a:lnTo>
                    <a:pt x="1600" y="324"/>
                  </a:lnTo>
                  <a:lnTo>
                    <a:pt x="1681" y="299"/>
                  </a:lnTo>
                  <a:lnTo>
                    <a:pt x="1757" y="268"/>
                  </a:lnTo>
                  <a:lnTo>
                    <a:pt x="1821" y="235"/>
                  </a:lnTo>
                  <a:lnTo>
                    <a:pt x="1880" y="201"/>
                  </a:lnTo>
                  <a:lnTo>
                    <a:pt x="1927" y="162"/>
                  </a:lnTo>
                  <a:lnTo>
                    <a:pt x="1964" y="123"/>
                  </a:lnTo>
                  <a:lnTo>
                    <a:pt x="1992" y="84"/>
                  </a:lnTo>
                  <a:lnTo>
                    <a:pt x="2008" y="42"/>
                  </a:lnTo>
                  <a:lnTo>
                    <a:pt x="2014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066680" y="868320"/>
              <a:ext cx="1800" cy="4640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263840" y="868320"/>
              <a:ext cx="1800" cy="4640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4700520" y="312840"/>
            <a:ext cx="3198960" cy="5919840"/>
            <a:chOff x="4700520" y="312840"/>
            <a:chExt cx="3198960" cy="5919840"/>
          </a:xfrm>
        </p:grpSpPr>
        <p:sp>
          <p:nvSpPr>
            <p:cNvPr id="240" name=""/>
            <p:cNvSpPr/>
            <p:nvPr/>
          </p:nvSpPr>
          <p:spPr>
            <a:xfrm>
              <a:off x="4700520" y="312840"/>
              <a:ext cx="3197160" cy="1279440"/>
            </a:xfrm>
            <a:custGeom>
              <a:avLst/>
              <a:gdLst/>
              <a:ahLst/>
              <a:rect l="l" t="t" r="r" b="b"/>
              <a:pathLst>
                <a:path w="2014" h="806">
                  <a:moveTo>
                    <a:pt x="0" y="403"/>
                  </a:moveTo>
                  <a:lnTo>
                    <a:pt x="6" y="361"/>
                  </a:lnTo>
                  <a:lnTo>
                    <a:pt x="22" y="319"/>
                  </a:lnTo>
                  <a:lnTo>
                    <a:pt x="50" y="277"/>
                  </a:lnTo>
                  <a:lnTo>
                    <a:pt x="87" y="238"/>
                  </a:lnTo>
                  <a:lnTo>
                    <a:pt x="134" y="202"/>
                  </a:lnTo>
                  <a:lnTo>
                    <a:pt x="193" y="165"/>
                  </a:lnTo>
                  <a:lnTo>
                    <a:pt x="257" y="132"/>
                  </a:lnTo>
                  <a:lnTo>
                    <a:pt x="333" y="104"/>
                  </a:lnTo>
                  <a:lnTo>
                    <a:pt x="414" y="76"/>
                  </a:lnTo>
                  <a:lnTo>
                    <a:pt x="504" y="53"/>
                  </a:lnTo>
                  <a:lnTo>
                    <a:pt x="599" y="34"/>
                  </a:lnTo>
                  <a:lnTo>
                    <a:pt x="697" y="20"/>
                  </a:lnTo>
                  <a:lnTo>
                    <a:pt x="797" y="9"/>
                  </a:lnTo>
                  <a:lnTo>
                    <a:pt x="901" y="0"/>
                  </a:lnTo>
                  <a:lnTo>
                    <a:pt x="1007" y="0"/>
                  </a:lnTo>
                  <a:lnTo>
                    <a:pt x="1114" y="0"/>
                  </a:lnTo>
                  <a:lnTo>
                    <a:pt x="1217" y="9"/>
                  </a:lnTo>
                  <a:lnTo>
                    <a:pt x="1318" y="20"/>
                  </a:lnTo>
                  <a:lnTo>
                    <a:pt x="1416" y="34"/>
                  </a:lnTo>
                  <a:lnTo>
                    <a:pt x="1511" y="53"/>
                  </a:lnTo>
                  <a:lnTo>
                    <a:pt x="1600" y="76"/>
                  </a:lnTo>
                  <a:lnTo>
                    <a:pt x="1681" y="104"/>
                  </a:lnTo>
                  <a:lnTo>
                    <a:pt x="1757" y="132"/>
                  </a:lnTo>
                  <a:lnTo>
                    <a:pt x="1821" y="165"/>
                  </a:lnTo>
                  <a:lnTo>
                    <a:pt x="1880" y="202"/>
                  </a:lnTo>
                  <a:lnTo>
                    <a:pt x="1928" y="238"/>
                  </a:lnTo>
                  <a:lnTo>
                    <a:pt x="1964" y="277"/>
                  </a:lnTo>
                  <a:lnTo>
                    <a:pt x="1992" y="319"/>
                  </a:lnTo>
                  <a:lnTo>
                    <a:pt x="2009" y="361"/>
                  </a:lnTo>
                  <a:lnTo>
                    <a:pt x="2014" y="403"/>
                  </a:lnTo>
                  <a:lnTo>
                    <a:pt x="2009" y="445"/>
                  </a:lnTo>
                  <a:lnTo>
                    <a:pt x="1992" y="487"/>
                  </a:lnTo>
                  <a:lnTo>
                    <a:pt x="1964" y="526"/>
                  </a:lnTo>
                  <a:lnTo>
                    <a:pt x="1928" y="566"/>
                  </a:lnTo>
                  <a:lnTo>
                    <a:pt x="1880" y="605"/>
                  </a:lnTo>
                  <a:lnTo>
                    <a:pt x="1821" y="638"/>
                  </a:lnTo>
                  <a:lnTo>
                    <a:pt x="1757" y="672"/>
                  </a:lnTo>
                  <a:lnTo>
                    <a:pt x="1681" y="703"/>
                  </a:lnTo>
                  <a:lnTo>
                    <a:pt x="1600" y="728"/>
                  </a:lnTo>
                  <a:lnTo>
                    <a:pt x="1511" y="750"/>
                  </a:lnTo>
                  <a:lnTo>
                    <a:pt x="1416" y="770"/>
                  </a:lnTo>
                  <a:lnTo>
                    <a:pt x="1318" y="787"/>
                  </a:lnTo>
                  <a:lnTo>
                    <a:pt x="1217" y="795"/>
                  </a:lnTo>
                  <a:lnTo>
                    <a:pt x="1114" y="804"/>
                  </a:lnTo>
                  <a:lnTo>
                    <a:pt x="1007" y="806"/>
                  </a:lnTo>
                  <a:lnTo>
                    <a:pt x="901" y="804"/>
                  </a:lnTo>
                  <a:lnTo>
                    <a:pt x="797" y="795"/>
                  </a:lnTo>
                  <a:lnTo>
                    <a:pt x="697" y="787"/>
                  </a:lnTo>
                  <a:lnTo>
                    <a:pt x="599" y="770"/>
                  </a:lnTo>
                  <a:lnTo>
                    <a:pt x="504" y="750"/>
                  </a:lnTo>
                  <a:lnTo>
                    <a:pt x="414" y="728"/>
                  </a:lnTo>
                  <a:lnTo>
                    <a:pt x="333" y="703"/>
                  </a:lnTo>
                  <a:lnTo>
                    <a:pt x="257" y="672"/>
                  </a:lnTo>
                  <a:lnTo>
                    <a:pt x="193" y="638"/>
                  </a:lnTo>
                  <a:lnTo>
                    <a:pt x="134" y="605"/>
                  </a:lnTo>
                  <a:lnTo>
                    <a:pt x="87" y="566"/>
                  </a:lnTo>
                  <a:lnTo>
                    <a:pt x="50" y="526"/>
                  </a:lnTo>
                  <a:lnTo>
                    <a:pt x="22" y="487"/>
                  </a:lnTo>
                  <a:lnTo>
                    <a:pt x="6" y="445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592960" y="690480"/>
              <a:ext cx="143784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"/>
                </a:rPr>
                <a:t>Repo B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00520" y="5592600"/>
              <a:ext cx="3197160" cy="640080"/>
            </a:xfrm>
            <a:custGeom>
              <a:avLst/>
              <a:gdLst/>
              <a:ahLst/>
              <a:rect l="l" t="t" r="r" b="b"/>
              <a:pathLst>
                <a:path w="2014" h="403">
                  <a:moveTo>
                    <a:pt x="0" y="0"/>
                  </a:moveTo>
                  <a:lnTo>
                    <a:pt x="6" y="42"/>
                  </a:lnTo>
                  <a:lnTo>
                    <a:pt x="22" y="84"/>
                  </a:lnTo>
                  <a:lnTo>
                    <a:pt x="50" y="123"/>
                  </a:lnTo>
                  <a:lnTo>
                    <a:pt x="87" y="162"/>
                  </a:lnTo>
                  <a:lnTo>
                    <a:pt x="134" y="201"/>
                  </a:lnTo>
                  <a:lnTo>
                    <a:pt x="193" y="235"/>
                  </a:lnTo>
                  <a:lnTo>
                    <a:pt x="257" y="268"/>
                  </a:lnTo>
                  <a:lnTo>
                    <a:pt x="333" y="299"/>
                  </a:lnTo>
                  <a:lnTo>
                    <a:pt x="414" y="324"/>
                  </a:lnTo>
                  <a:lnTo>
                    <a:pt x="504" y="347"/>
                  </a:lnTo>
                  <a:lnTo>
                    <a:pt x="599" y="366"/>
                  </a:lnTo>
                  <a:lnTo>
                    <a:pt x="697" y="383"/>
                  </a:lnTo>
                  <a:lnTo>
                    <a:pt x="797" y="391"/>
                  </a:lnTo>
                  <a:lnTo>
                    <a:pt x="901" y="400"/>
                  </a:lnTo>
                  <a:lnTo>
                    <a:pt x="1007" y="403"/>
                  </a:lnTo>
                  <a:lnTo>
                    <a:pt x="1114" y="400"/>
                  </a:lnTo>
                  <a:lnTo>
                    <a:pt x="1217" y="391"/>
                  </a:lnTo>
                  <a:lnTo>
                    <a:pt x="1318" y="383"/>
                  </a:lnTo>
                  <a:lnTo>
                    <a:pt x="1416" y="366"/>
                  </a:lnTo>
                  <a:lnTo>
                    <a:pt x="1511" y="347"/>
                  </a:lnTo>
                  <a:lnTo>
                    <a:pt x="1600" y="324"/>
                  </a:lnTo>
                  <a:lnTo>
                    <a:pt x="1681" y="299"/>
                  </a:lnTo>
                  <a:lnTo>
                    <a:pt x="1757" y="268"/>
                  </a:lnTo>
                  <a:lnTo>
                    <a:pt x="1821" y="235"/>
                  </a:lnTo>
                  <a:lnTo>
                    <a:pt x="1880" y="201"/>
                  </a:lnTo>
                  <a:lnTo>
                    <a:pt x="1928" y="162"/>
                  </a:lnTo>
                  <a:lnTo>
                    <a:pt x="1964" y="123"/>
                  </a:lnTo>
                  <a:lnTo>
                    <a:pt x="1992" y="84"/>
                  </a:lnTo>
                  <a:lnTo>
                    <a:pt x="2009" y="42"/>
                  </a:lnTo>
                  <a:lnTo>
                    <a:pt x="2014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700520" y="952560"/>
              <a:ext cx="1800" cy="4640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897680" y="952560"/>
              <a:ext cx="1800" cy="4640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182600" y="2631960"/>
            <a:ext cx="2879640" cy="1839960"/>
            <a:chOff x="1182600" y="2631960"/>
            <a:chExt cx="2879640" cy="1839960"/>
          </a:xfrm>
        </p:grpSpPr>
        <p:sp>
          <p:nvSpPr>
            <p:cNvPr id="246" name=""/>
            <p:cNvSpPr/>
            <p:nvPr/>
          </p:nvSpPr>
          <p:spPr>
            <a:xfrm>
              <a:off x="1182600" y="2631960"/>
              <a:ext cx="2878200" cy="1116000"/>
            </a:xfrm>
            <a:custGeom>
              <a:avLst/>
              <a:gdLst/>
              <a:ahLst/>
              <a:rect l="l" t="t" r="r" b="b"/>
              <a:pathLst>
                <a:path w="1813" h="703">
                  <a:moveTo>
                    <a:pt x="0" y="353"/>
                  </a:moveTo>
                  <a:lnTo>
                    <a:pt x="6" y="314"/>
                  </a:lnTo>
                  <a:lnTo>
                    <a:pt x="23" y="277"/>
                  </a:lnTo>
                  <a:lnTo>
                    <a:pt x="48" y="238"/>
                  </a:lnTo>
                  <a:lnTo>
                    <a:pt x="84" y="205"/>
                  </a:lnTo>
                  <a:lnTo>
                    <a:pt x="129" y="171"/>
                  </a:lnTo>
                  <a:lnTo>
                    <a:pt x="185" y="137"/>
                  </a:lnTo>
                  <a:lnTo>
                    <a:pt x="249" y="109"/>
                  </a:lnTo>
                  <a:lnTo>
                    <a:pt x="319" y="84"/>
                  </a:lnTo>
                  <a:lnTo>
                    <a:pt x="398" y="59"/>
                  </a:lnTo>
                  <a:lnTo>
                    <a:pt x="482" y="40"/>
                  </a:lnTo>
                  <a:lnTo>
                    <a:pt x="571" y="26"/>
                  </a:lnTo>
                  <a:lnTo>
                    <a:pt x="663" y="12"/>
                  </a:lnTo>
                  <a:lnTo>
                    <a:pt x="761" y="3"/>
                  </a:lnTo>
                  <a:lnTo>
                    <a:pt x="856" y="0"/>
                  </a:lnTo>
                  <a:lnTo>
                    <a:pt x="957" y="0"/>
                  </a:lnTo>
                  <a:lnTo>
                    <a:pt x="1052" y="3"/>
                  </a:lnTo>
                  <a:lnTo>
                    <a:pt x="1150" y="12"/>
                  </a:lnTo>
                  <a:lnTo>
                    <a:pt x="1242" y="26"/>
                  </a:lnTo>
                  <a:lnTo>
                    <a:pt x="1332" y="40"/>
                  </a:lnTo>
                  <a:lnTo>
                    <a:pt x="1416" y="59"/>
                  </a:lnTo>
                  <a:lnTo>
                    <a:pt x="1494" y="84"/>
                  </a:lnTo>
                  <a:lnTo>
                    <a:pt x="1564" y="109"/>
                  </a:lnTo>
                  <a:lnTo>
                    <a:pt x="1629" y="137"/>
                  </a:lnTo>
                  <a:lnTo>
                    <a:pt x="1685" y="171"/>
                  </a:lnTo>
                  <a:lnTo>
                    <a:pt x="1729" y="205"/>
                  </a:lnTo>
                  <a:lnTo>
                    <a:pt x="1766" y="238"/>
                  </a:lnTo>
                  <a:lnTo>
                    <a:pt x="1791" y="277"/>
                  </a:lnTo>
                  <a:lnTo>
                    <a:pt x="1808" y="314"/>
                  </a:lnTo>
                  <a:lnTo>
                    <a:pt x="1813" y="353"/>
                  </a:lnTo>
                  <a:lnTo>
                    <a:pt x="1808" y="389"/>
                  </a:lnTo>
                  <a:lnTo>
                    <a:pt x="1791" y="429"/>
                  </a:lnTo>
                  <a:lnTo>
                    <a:pt x="1766" y="465"/>
                  </a:lnTo>
                  <a:lnTo>
                    <a:pt x="1729" y="501"/>
                  </a:lnTo>
                  <a:lnTo>
                    <a:pt x="1685" y="535"/>
                  </a:lnTo>
                  <a:lnTo>
                    <a:pt x="1629" y="566"/>
                  </a:lnTo>
                  <a:lnTo>
                    <a:pt x="1564" y="594"/>
                  </a:lnTo>
                  <a:lnTo>
                    <a:pt x="1494" y="622"/>
                  </a:lnTo>
                  <a:lnTo>
                    <a:pt x="1416" y="644"/>
                  </a:lnTo>
                  <a:lnTo>
                    <a:pt x="1332" y="664"/>
                  </a:lnTo>
                  <a:lnTo>
                    <a:pt x="1242" y="681"/>
                  </a:lnTo>
                  <a:lnTo>
                    <a:pt x="1150" y="692"/>
                  </a:lnTo>
                  <a:lnTo>
                    <a:pt x="1052" y="700"/>
                  </a:lnTo>
                  <a:lnTo>
                    <a:pt x="957" y="703"/>
                  </a:lnTo>
                  <a:lnTo>
                    <a:pt x="856" y="703"/>
                  </a:lnTo>
                  <a:lnTo>
                    <a:pt x="761" y="700"/>
                  </a:lnTo>
                  <a:lnTo>
                    <a:pt x="663" y="692"/>
                  </a:lnTo>
                  <a:lnTo>
                    <a:pt x="571" y="681"/>
                  </a:lnTo>
                  <a:lnTo>
                    <a:pt x="482" y="664"/>
                  </a:lnTo>
                  <a:lnTo>
                    <a:pt x="398" y="644"/>
                  </a:lnTo>
                  <a:lnTo>
                    <a:pt x="319" y="622"/>
                  </a:lnTo>
                  <a:lnTo>
                    <a:pt x="249" y="594"/>
                  </a:lnTo>
                  <a:lnTo>
                    <a:pt x="185" y="566"/>
                  </a:lnTo>
                  <a:lnTo>
                    <a:pt x="129" y="535"/>
                  </a:lnTo>
                  <a:lnTo>
                    <a:pt x="84" y="501"/>
                  </a:lnTo>
                  <a:lnTo>
                    <a:pt x="48" y="465"/>
                  </a:lnTo>
                  <a:lnTo>
                    <a:pt x="23" y="429"/>
                  </a:lnTo>
                  <a:lnTo>
                    <a:pt x="6" y="389"/>
                  </a:lnTo>
                  <a:lnTo>
                    <a:pt x="0" y="35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905840" y="2805120"/>
              <a:ext cx="14302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Model A1,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88560" y="3187800"/>
              <a:ext cx="14652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Schema X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182600" y="3832200"/>
              <a:ext cx="2878200" cy="639720"/>
            </a:xfrm>
            <a:custGeom>
              <a:avLst/>
              <a:gdLst/>
              <a:ahLst/>
              <a:rect l="l" t="t" r="r" b="b"/>
              <a:pathLst>
                <a:path w="1813" h="403">
                  <a:moveTo>
                    <a:pt x="0" y="0"/>
                  </a:moveTo>
                  <a:lnTo>
                    <a:pt x="6" y="42"/>
                  </a:lnTo>
                  <a:lnTo>
                    <a:pt x="20" y="84"/>
                  </a:lnTo>
                  <a:lnTo>
                    <a:pt x="45" y="123"/>
                  </a:lnTo>
                  <a:lnTo>
                    <a:pt x="79" y="162"/>
                  </a:lnTo>
                  <a:lnTo>
                    <a:pt x="121" y="202"/>
                  </a:lnTo>
                  <a:lnTo>
                    <a:pt x="174" y="235"/>
                  </a:lnTo>
                  <a:lnTo>
                    <a:pt x="233" y="269"/>
                  </a:lnTo>
                  <a:lnTo>
                    <a:pt x="300" y="300"/>
                  </a:lnTo>
                  <a:lnTo>
                    <a:pt x="375" y="325"/>
                  </a:lnTo>
                  <a:lnTo>
                    <a:pt x="454" y="347"/>
                  </a:lnTo>
                  <a:lnTo>
                    <a:pt x="537" y="367"/>
                  </a:lnTo>
                  <a:lnTo>
                    <a:pt x="627" y="384"/>
                  </a:lnTo>
                  <a:lnTo>
                    <a:pt x="719" y="392"/>
                  </a:lnTo>
                  <a:lnTo>
                    <a:pt x="812" y="400"/>
                  </a:lnTo>
                  <a:lnTo>
                    <a:pt x="907" y="403"/>
                  </a:lnTo>
                  <a:lnTo>
                    <a:pt x="1002" y="400"/>
                  </a:lnTo>
                  <a:lnTo>
                    <a:pt x="1094" y="392"/>
                  </a:lnTo>
                  <a:lnTo>
                    <a:pt x="1187" y="384"/>
                  </a:lnTo>
                  <a:lnTo>
                    <a:pt x="1276" y="367"/>
                  </a:lnTo>
                  <a:lnTo>
                    <a:pt x="1360" y="347"/>
                  </a:lnTo>
                  <a:lnTo>
                    <a:pt x="1438" y="325"/>
                  </a:lnTo>
                  <a:lnTo>
                    <a:pt x="1514" y="300"/>
                  </a:lnTo>
                  <a:lnTo>
                    <a:pt x="1581" y="269"/>
                  </a:lnTo>
                  <a:lnTo>
                    <a:pt x="1640" y="235"/>
                  </a:lnTo>
                  <a:lnTo>
                    <a:pt x="1693" y="202"/>
                  </a:lnTo>
                  <a:lnTo>
                    <a:pt x="1735" y="162"/>
                  </a:lnTo>
                  <a:lnTo>
                    <a:pt x="1768" y="123"/>
                  </a:lnTo>
                  <a:lnTo>
                    <a:pt x="1794" y="84"/>
                  </a:lnTo>
                  <a:lnTo>
                    <a:pt x="1808" y="42"/>
                  </a:lnTo>
                  <a:lnTo>
                    <a:pt x="1813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182600" y="3192480"/>
              <a:ext cx="1800" cy="639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60800" y="3192480"/>
              <a:ext cx="1440" cy="639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62120" y="3992400"/>
              <a:ext cx="160200" cy="155880"/>
            </a:xfrm>
            <a:custGeom>
              <a:avLst/>
              <a:gdLst/>
              <a:ahLst/>
              <a:rect l="l" t="t" r="r" b="b"/>
              <a:pathLst>
                <a:path w="101" h="98">
                  <a:moveTo>
                    <a:pt x="0" y="50"/>
                  </a:moveTo>
                  <a:lnTo>
                    <a:pt x="6" y="28"/>
                  </a:lnTo>
                  <a:lnTo>
                    <a:pt x="20" y="11"/>
                  </a:lnTo>
                  <a:lnTo>
                    <a:pt x="40" y="0"/>
                  </a:lnTo>
                  <a:lnTo>
                    <a:pt x="62" y="0"/>
                  </a:lnTo>
                  <a:lnTo>
                    <a:pt x="82" y="11"/>
                  </a:lnTo>
                  <a:lnTo>
                    <a:pt x="96" y="28"/>
                  </a:lnTo>
                  <a:lnTo>
                    <a:pt x="101" y="50"/>
                  </a:lnTo>
                  <a:lnTo>
                    <a:pt x="96" y="70"/>
                  </a:lnTo>
                  <a:lnTo>
                    <a:pt x="82" y="89"/>
                  </a:lnTo>
                  <a:lnTo>
                    <a:pt x="62" y="98"/>
                  </a:lnTo>
                  <a:lnTo>
                    <a:pt x="40" y="98"/>
                  </a:lnTo>
                  <a:lnTo>
                    <a:pt x="20" y="89"/>
                  </a:lnTo>
                  <a:lnTo>
                    <a:pt x="6" y="7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01840" y="3992400"/>
              <a:ext cx="160200" cy="155880"/>
            </a:xfrm>
            <a:custGeom>
              <a:avLst/>
              <a:gdLst/>
              <a:ahLst/>
              <a:rect l="l" t="t" r="r" b="b"/>
              <a:pathLst>
                <a:path w="101" h="98">
                  <a:moveTo>
                    <a:pt x="0" y="50"/>
                  </a:moveTo>
                  <a:lnTo>
                    <a:pt x="6" y="28"/>
                  </a:lnTo>
                  <a:lnTo>
                    <a:pt x="20" y="11"/>
                  </a:lnTo>
                  <a:lnTo>
                    <a:pt x="40" y="0"/>
                  </a:lnTo>
                  <a:lnTo>
                    <a:pt x="62" y="0"/>
                  </a:lnTo>
                  <a:lnTo>
                    <a:pt x="81" y="11"/>
                  </a:lnTo>
                  <a:lnTo>
                    <a:pt x="95" y="28"/>
                  </a:lnTo>
                  <a:lnTo>
                    <a:pt x="101" y="50"/>
                  </a:lnTo>
                  <a:lnTo>
                    <a:pt x="95" y="70"/>
                  </a:lnTo>
                  <a:lnTo>
                    <a:pt x="81" y="89"/>
                  </a:lnTo>
                  <a:lnTo>
                    <a:pt x="62" y="98"/>
                  </a:lnTo>
                  <a:lnTo>
                    <a:pt x="40" y="98"/>
                  </a:lnTo>
                  <a:lnTo>
                    <a:pt x="20" y="89"/>
                  </a:lnTo>
                  <a:lnTo>
                    <a:pt x="6" y="7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781360" y="3832200"/>
              <a:ext cx="160200" cy="155520"/>
            </a:xfrm>
            <a:custGeom>
              <a:avLst/>
              <a:gdLst/>
              <a:ahLst/>
              <a:rect l="l" t="t" r="r" b="b"/>
              <a:pathLst>
                <a:path w="101" h="98">
                  <a:moveTo>
                    <a:pt x="0" y="50"/>
                  </a:moveTo>
                  <a:lnTo>
                    <a:pt x="6" y="28"/>
                  </a:lnTo>
                  <a:lnTo>
                    <a:pt x="20" y="11"/>
                  </a:lnTo>
                  <a:lnTo>
                    <a:pt x="40" y="0"/>
                  </a:lnTo>
                  <a:lnTo>
                    <a:pt x="62" y="0"/>
                  </a:lnTo>
                  <a:lnTo>
                    <a:pt x="82" y="11"/>
                  </a:lnTo>
                  <a:lnTo>
                    <a:pt x="96" y="28"/>
                  </a:lnTo>
                  <a:lnTo>
                    <a:pt x="101" y="50"/>
                  </a:lnTo>
                  <a:lnTo>
                    <a:pt x="96" y="70"/>
                  </a:lnTo>
                  <a:lnTo>
                    <a:pt x="82" y="90"/>
                  </a:lnTo>
                  <a:lnTo>
                    <a:pt x="62" y="98"/>
                  </a:lnTo>
                  <a:lnTo>
                    <a:pt x="40" y="98"/>
                  </a:lnTo>
                  <a:lnTo>
                    <a:pt x="20" y="90"/>
                  </a:lnTo>
                  <a:lnTo>
                    <a:pt x="6" y="7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81280" y="3832200"/>
              <a:ext cx="160560" cy="155520"/>
            </a:xfrm>
            <a:custGeom>
              <a:avLst/>
              <a:gdLst/>
              <a:ahLst/>
              <a:rect l="l" t="t" r="r" b="b"/>
              <a:pathLst>
                <a:path w="101" h="98">
                  <a:moveTo>
                    <a:pt x="0" y="50"/>
                  </a:moveTo>
                  <a:lnTo>
                    <a:pt x="6" y="28"/>
                  </a:lnTo>
                  <a:lnTo>
                    <a:pt x="20" y="11"/>
                  </a:lnTo>
                  <a:lnTo>
                    <a:pt x="39" y="0"/>
                  </a:lnTo>
                  <a:lnTo>
                    <a:pt x="62" y="0"/>
                  </a:lnTo>
                  <a:lnTo>
                    <a:pt x="81" y="11"/>
                  </a:lnTo>
                  <a:lnTo>
                    <a:pt x="95" y="28"/>
                  </a:lnTo>
                  <a:lnTo>
                    <a:pt x="101" y="50"/>
                  </a:lnTo>
                  <a:lnTo>
                    <a:pt x="95" y="70"/>
                  </a:lnTo>
                  <a:lnTo>
                    <a:pt x="81" y="90"/>
                  </a:lnTo>
                  <a:lnTo>
                    <a:pt x="62" y="98"/>
                  </a:lnTo>
                  <a:lnTo>
                    <a:pt x="39" y="98"/>
                  </a:lnTo>
                  <a:lnTo>
                    <a:pt x="20" y="90"/>
                  </a:lnTo>
                  <a:lnTo>
                    <a:pt x="6" y="7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62240" y="4032360"/>
              <a:ext cx="81000" cy="75960"/>
            </a:xfrm>
            <a:custGeom>
              <a:avLst/>
              <a:gdLst/>
              <a:ahLst/>
              <a:rect l="l" t="t" r="r" b="b"/>
              <a:pathLst>
                <a:path w="51" h="48">
                  <a:moveTo>
                    <a:pt x="0" y="25"/>
                  </a:moveTo>
                  <a:lnTo>
                    <a:pt x="6" y="39"/>
                  </a:lnTo>
                  <a:lnTo>
                    <a:pt x="17" y="48"/>
                  </a:lnTo>
                  <a:lnTo>
                    <a:pt x="34" y="48"/>
                  </a:lnTo>
                  <a:lnTo>
                    <a:pt x="45" y="39"/>
                  </a:lnTo>
                  <a:lnTo>
                    <a:pt x="51" y="25"/>
                  </a:lnTo>
                  <a:lnTo>
                    <a:pt x="45" y="8"/>
                  </a:lnTo>
                  <a:lnTo>
                    <a:pt x="34" y="0"/>
                  </a:lnTo>
                  <a:lnTo>
                    <a:pt x="17" y="0"/>
                  </a:lnTo>
                  <a:lnTo>
                    <a:pt x="6" y="8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1822320" y="3911760"/>
              <a:ext cx="1758960" cy="161640"/>
              <a:chOff x="1822320" y="3911760"/>
              <a:chExt cx="1758960" cy="161640"/>
            </a:xfrm>
          </p:grpSpPr>
          <p:sp>
            <p:nvSpPr>
              <p:cNvPr id="258" name=""/>
              <p:cNvSpPr/>
              <p:nvPr/>
            </p:nvSpPr>
            <p:spPr>
              <a:xfrm>
                <a:off x="1822320" y="4071960"/>
                <a:ext cx="47952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941560" y="3911760"/>
                <a:ext cx="63972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3541680" y="3871800"/>
              <a:ext cx="79560" cy="7632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0" y="25"/>
                  </a:moveTo>
                  <a:lnTo>
                    <a:pt x="5" y="39"/>
                  </a:lnTo>
                  <a:lnTo>
                    <a:pt x="17" y="48"/>
                  </a:lnTo>
                  <a:lnTo>
                    <a:pt x="33" y="48"/>
                  </a:lnTo>
                  <a:lnTo>
                    <a:pt x="45" y="39"/>
                  </a:lnTo>
                  <a:lnTo>
                    <a:pt x="50" y="25"/>
                  </a:lnTo>
                  <a:lnTo>
                    <a:pt x="45" y="9"/>
                  </a:lnTo>
                  <a:lnTo>
                    <a:pt x="33" y="0"/>
                  </a:lnTo>
                  <a:lnTo>
                    <a:pt x="17" y="0"/>
                  </a:lnTo>
                  <a:lnTo>
                    <a:pt x="5" y="9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3741480" y="2631960"/>
            <a:ext cx="3999240" cy="1839960"/>
            <a:chOff x="3741480" y="2631960"/>
            <a:chExt cx="3999240" cy="1839960"/>
          </a:xfrm>
        </p:grpSpPr>
        <p:sp>
          <p:nvSpPr>
            <p:cNvPr id="262" name=""/>
            <p:cNvSpPr/>
            <p:nvPr/>
          </p:nvSpPr>
          <p:spPr>
            <a:xfrm>
              <a:off x="4861080" y="2631960"/>
              <a:ext cx="2877840" cy="1116000"/>
            </a:xfrm>
            <a:custGeom>
              <a:avLst/>
              <a:gdLst/>
              <a:ahLst/>
              <a:rect l="l" t="t" r="r" b="b"/>
              <a:pathLst>
                <a:path w="1813" h="703">
                  <a:moveTo>
                    <a:pt x="0" y="353"/>
                  </a:moveTo>
                  <a:lnTo>
                    <a:pt x="5" y="314"/>
                  </a:lnTo>
                  <a:lnTo>
                    <a:pt x="22" y="277"/>
                  </a:lnTo>
                  <a:lnTo>
                    <a:pt x="47" y="238"/>
                  </a:lnTo>
                  <a:lnTo>
                    <a:pt x="84" y="205"/>
                  </a:lnTo>
                  <a:lnTo>
                    <a:pt x="128" y="171"/>
                  </a:lnTo>
                  <a:lnTo>
                    <a:pt x="184" y="137"/>
                  </a:lnTo>
                  <a:lnTo>
                    <a:pt x="249" y="109"/>
                  </a:lnTo>
                  <a:lnTo>
                    <a:pt x="319" y="84"/>
                  </a:lnTo>
                  <a:lnTo>
                    <a:pt x="397" y="59"/>
                  </a:lnTo>
                  <a:lnTo>
                    <a:pt x="481" y="40"/>
                  </a:lnTo>
                  <a:lnTo>
                    <a:pt x="571" y="26"/>
                  </a:lnTo>
                  <a:lnTo>
                    <a:pt x="663" y="12"/>
                  </a:lnTo>
                  <a:lnTo>
                    <a:pt x="761" y="3"/>
                  </a:lnTo>
                  <a:lnTo>
                    <a:pt x="856" y="0"/>
                  </a:lnTo>
                  <a:lnTo>
                    <a:pt x="957" y="0"/>
                  </a:lnTo>
                  <a:lnTo>
                    <a:pt x="1052" y="3"/>
                  </a:lnTo>
                  <a:lnTo>
                    <a:pt x="1150" y="12"/>
                  </a:lnTo>
                  <a:lnTo>
                    <a:pt x="1242" y="26"/>
                  </a:lnTo>
                  <a:lnTo>
                    <a:pt x="1331" y="40"/>
                  </a:lnTo>
                  <a:lnTo>
                    <a:pt x="1415" y="59"/>
                  </a:lnTo>
                  <a:lnTo>
                    <a:pt x="1494" y="84"/>
                  </a:lnTo>
                  <a:lnTo>
                    <a:pt x="1564" y="109"/>
                  </a:lnTo>
                  <a:lnTo>
                    <a:pt x="1628" y="137"/>
                  </a:lnTo>
                  <a:lnTo>
                    <a:pt x="1684" y="171"/>
                  </a:lnTo>
                  <a:lnTo>
                    <a:pt x="1729" y="205"/>
                  </a:lnTo>
                  <a:lnTo>
                    <a:pt x="1765" y="238"/>
                  </a:lnTo>
                  <a:lnTo>
                    <a:pt x="1790" y="277"/>
                  </a:lnTo>
                  <a:lnTo>
                    <a:pt x="1807" y="314"/>
                  </a:lnTo>
                  <a:lnTo>
                    <a:pt x="1813" y="353"/>
                  </a:lnTo>
                  <a:lnTo>
                    <a:pt x="1807" y="389"/>
                  </a:lnTo>
                  <a:lnTo>
                    <a:pt x="1790" y="429"/>
                  </a:lnTo>
                  <a:lnTo>
                    <a:pt x="1765" y="465"/>
                  </a:lnTo>
                  <a:lnTo>
                    <a:pt x="1729" y="501"/>
                  </a:lnTo>
                  <a:lnTo>
                    <a:pt x="1684" y="535"/>
                  </a:lnTo>
                  <a:lnTo>
                    <a:pt x="1628" y="566"/>
                  </a:lnTo>
                  <a:lnTo>
                    <a:pt x="1564" y="594"/>
                  </a:lnTo>
                  <a:lnTo>
                    <a:pt x="1494" y="622"/>
                  </a:lnTo>
                  <a:lnTo>
                    <a:pt x="1415" y="644"/>
                  </a:lnTo>
                  <a:lnTo>
                    <a:pt x="1331" y="664"/>
                  </a:lnTo>
                  <a:lnTo>
                    <a:pt x="1242" y="681"/>
                  </a:lnTo>
                  <a:lnTo>
                    <a:pt x="1150" y="692"/>
                  </a:lnTo>
                  <a:lnTo>
                    <a:pt x="1052" y="700"/>
                  </a:lnTo>
                  <a:lnTo>
                    <a:pt x="957" y="703"/>
                  </a:lnTo>
                  <a:lnTo>
                    <a:pt x="856" y="703"/>
                  </a:lnTo>
                  <a:lnTo>
                    <a:pt x="761" y="700"/>
                  </a:lnTo>
                  <a:lnTo>
                    <a:pt x="663" y="692"/>
                  </a:lnTo>
                  <a:lnTo>
                    <a:pt x="571" y="681"/>
                  </a:lnTo>
                  <a:lnTo>
                    <a:pt x="481" y="664"/>
                  </a:lnTo>
                  <a:lnTo>
                    <a:pt x="397" y="644"/>
                  </a:lnTo>
                  <a:lnTo>
                    <a:pt x="319" y="622"/>
                  </a:lnTo>
                  <a:lnTo>
                    <a:pt x="249" y="594"/>
                  </a:lnTo>
                  <a:lnTo>
                    <a:pt x="184" y="566"/>
                  </a:lnTo>
                  <a:lnTo>
                    <a:pt x="128" y="535"/>
                  </a:lnTo>
                  <a:lnTo>
                    <a:pt x="84" y="501"/>
                  </a:lnTo>
                  <a:lnTo>
                    <a:pt x="47" y="465"/>
                  </a:lnTo>
                  <a:lnTo>
                    <a:pt x="22" y="429"/>
                  </a:lnTo>
                  <a:lnTo>
                    <a:pt x="5" y="389"/>
                  </a:lnTo>
                  <a:lnTo>
                    <a:pt x="0" y="35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83960" y="2805120"/>
              <a:ext cx="14302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Model B1,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66680" y="3187800"/>
              <a:ext cx="14652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Schema X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861080" y="3832200"/>
              <a:ext cx="2877840" cy="639720"/>
            </a:xfrm>
            <a:custGeom>
              <a:avLst/>
              <a:gdLst/>
              <a:ahLst/>
              <a:rect l="l" t="t" r="r" b="b"/>
              <a:pathLst>
                <a:path w="1813" h="403">
                  <a:moveTo>
                    <a:pt x="0" y="0"/>
                  </a:moveTo>
                  <a:lnTo>
                    <a:pt x="5" y="42"/>
                  </a:lnTo>
                  <a:lnTo>
                    <a:pt x="19" y="84"/>
                  </a:lnTo>
                  <a:lnTo>
                    <a:pt x="45" y="123"/>
                  </a:lnTo>
                  <a:lnTo>
                    <a:pt x="78" y="162"/>
                  </a:lnTo>
                  <a:lnTo>
                    <a:pt x="120" y="202"/>
                  </a:lnTo>
                  <a:lnTo>
                    <a:pt x="173" y="235"/>
                  </a:lnTo>
                  <a:lnTo>
                    <a:pt x="232" y="269"/>
                  </a:lnTo>
                  <a:lnTo>
                    <a:pt x="299" y="300"/>
                  </a:lnTo>
                  <a:lnTo>
                    <a:pt x="375" y="325"/>
                  </a:lnTo>
                  <a:lnTo>
                    <a:pt x="453" y="347"/>
                  </a:lnTo>
                  <a:lnTo>
                    <a:pt x="537" y="367"/>
                  </a:lnTo>
                  <a:lnTo>
                    <a:pt x="626" y="384"/>
                  </a:lnTo>
                  <a:lnTo>
                    <a:pt x="719" y="392"/>
                  </a:lnTo>
                  <a:lnTo>
                    <a:pt x="811" y="400"/>
                  </a:lnTo>
                  <a:lnTo>
                    <a:pt x="906" y="403"/>
                  </a:lnTo>
                  <a:lnTo>
                    <a:pt x="1001" y="400"/>
                  </a:lnTo>
                  <a:lnTo>
                    <a:pt x="1094" y="392"/>
                  </a:lnTo>
                  <a:lnTo>
                    <a:pt x="1186" y="384"/>
                  </a:lnTo>
                  <a:lnTo>
                    <a:pt x="1276" y="367"/>
                  </a:lnTo>
                  <a:lnTo>
                    <a:pt x="1359" y="347"/>
                  </a:lnTo>
                  <a:lnTo>
                    <a:pt x="1438" y="325"/>
                  </a:lnTo>
                  <a:lnTo>
                    <a:pt x="1513" y="300"/>
                  </a:lnTo>
                  <a:lnTo>
                    <a:pt x="1580" y="269"/>
                  </a:lnTo>
                  <a:lnTo>
                    <a:pt x="1639" y="235"/>
                  </a:lnTo>
                  <a:lnTo>
                    <a:pt x="1692" y="202"/>
                  </a:lnTo>
                  <a:lnTo>
                    <a:pt x="1734" y="162"/>
                  </a:lnTo>
                  <a:lnTo>
                    <a:pt x="1768" y="123"/>
                  </a:lnTo>
                  <a:lnTo>
                    <a:pt x="1793" y="84"/>
                  </a:lnTo>
                  <a:lnTo>
                    <a:pt x="1807" y="42"/>
                  </a:lnTo>
                  <a:lnTo>
                    <a:pt x="1813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61080" y="3192480"/>
              <a:ext cx="1440" cy="639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738920" y="3192480"/>
              <a:ext cx="1800" cy="639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80040" y="3832200"/>
              <a:ext cx="160200" cy="155520"/>
            </a:xfrm>
            <a:custGeom>
              <a:avLst/>
              <a:gdLst/>
              <a:ahLst/>
              <a:rect l="l" t="t" r="r" b="b"/>
              <a:pathLst>
                <a:path w="101" h="98">
                  <a:moveTo>
                    <a:pt x="0" y="50"/>
                  </a:moveTo>
                  <a:lnTo>
                    <a:pt x="6" y="28"/>
                  </a:lnTo>
                  <a:lnTo>
                    <a:pt x="20" y="11"/>
                  </a:lnTo>
                  <a:lnTo>
                    <a:pt x="39" y="0"/>
                  </a:lnTo>
                  <a:lnTo>
                    <a:pt x="62" y="0"/>
                  </a:lnTo>
                  <a:lnTo>
                    <a:pt x="81" y="11"/>
                  </a:lnTo>
                  <a:lnTo>
                    <a:pt x="95" y="28"/>
                  </a:lnTo>
                  <a:lnTo>
                    <a:pt x="101" y="50"/>
                  </a:lnTo>
                  <a:lnTo>
                    <a:pt x="95" y="70"/>
                  </a:lnTo>
                  <a:lnTo>
                    <a:pt x="81" y="90"/>
                  </a:lnTo>
                  <a:lnTo>
                    <a:pt x="62" y="98"/>
                  </a:lnTo>
                  <a:lnTo>
                    <a:pt x="39" y="98"/>
                  </a:lnTo>
                  <a:lnTo>
                    <a:pt x="20" y="90"/>
                  </a:lnTo>
                  <a:lnTo>
                    <a:pt x="6" y="7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259760" y="3832200"/>
              <a:ext cx="158760" cy="15552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0" y="50"/>
                  </a:moveTo>
                  <a:lnTo>
                    <a:pt x="5" y="28"/>
                  </a:lnTo>
                  <a:lnTo>
                    <a:pt x="19" y="11"/>
                  </a:lnTo>
                  <a:lnTo>
                    <a:pt x="39" y="0"/>
                  </a:lnTo>
                  <a:lnTo>
                    <a:pt x="61" y="0"/>
                  </a:lnTo>
                  <a:lnTo>
                    <a:pt x="81" y="11"/>
                  </a:lnTo>
                  <a:lnTo>
                    <a:pt x="95" y="28"/>
                  </a:lnTo>
                  <a:lnTo>
                    <a:pt x="100" y="50"/>
                  </a:lnTo>
                  <a:lnTo>
                    <a:pt x="95" y="70"/>
                  </a:lnTo>
                  <a:lnTo>
                    <a:pt x="81" y="90"/>
                  </a:lnTo>
                  <a:lnTo>
                    <a:pt x="61" y="98"/>
                  </a:lnTo>
                  <a:lnTo>
                    <a:pt x="39" y="98"/>
                  </a:lnTo>
                  <a:lnTo>
                    <a:pt x="19" y="90"/>
                  </a:lnTo>
                  <a:lnTo>
                    <a:pt x="5" y="7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459480" y="3992400"/>
              <a:ext cx="160560" cy="155880"/>
            </a:xfrm>
            <a:custGeom>
              <a:avLst/>
              <a:gdLst/>
              <a:ahLst/>
              <a:rect l="l" t="t" r="r" b="b"/>
              <a:pathLst>
                <a:path w="101" h="98">
                  <a:moveTo>
                    <a:pt x="0" y="50"/>
                  </a:moveTo>
                  <a:lnTo>
                    <a:pt x="6" y="28"/>
                  </a:lnTo>
                  <a:lnTo>
                    <a:pt x="20" y="11"/>
                  </a:lnTo>
                  <a:lnTo>
                    <a:pt x="39" y="0"/>
                  </a:lnTo>
                  <a:lnTo>
                    <a:pt x="61" y="0"/>
                  </a:lnTo>
                  <a:lnTo>
                    <a:pt x="81" y="11"/>
                  </a:lnTo>
                  <a:lnTo>
                    <a:pt x="95" y="28"/>
                  </a:lnTo>
                  <a:lnTo>
                    <a:pt x="101" y="50"/>
                  </a:lnTo>
                  <a:lnTo>
                    <a:pt x="95" y="70"/>
                  </a:lnTo>
                  <a:lnTo>
                    <a:pt x="81" y="89"/>
                  </a:lnTo>
                  <a:lnTo>
                    <a:pt x="61" y="98"/>
                  </a:lnTo>
                  <a:lnTo>
                    <a:pt x="39" y="98"/>
                  </a:lnTo>
                  <a:lnTo>
                    <a:pt x="20" y="89"/>
                  </a:lnTo>
                  <a:lnTo>
                    <a:pt x="6" y="7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500800" y="3992400"/>
              <a:ext cx="158760" cy="15588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0" y="50"/>
                  </a:moveTo>
                  <a:lnTo>
                    <a:pt x="5" y="28"/>
                  </a:lnTo>
                  <a:lnTo>
                    <a:pt x="19" y="11"/>
                  </a:lnTo>
                  <a:lnTo>
                    <a:pt x="39" y="0"/>
                  </a:lnTo>
                  <a:lnTo>
                    <a:pt x="61" y="0"/>
                  </a:lnTo>
                  <a:lnTo>
                    <a:pt x="81" y="11"/>
                  </a:lnTo>
                  <a:lnTo>
                    <a:pt x="95" y="28"/>
                  </a:lnTo>
                  <a:lnTo>
                    <a:pt x="100" y="50"/>
                  </a:lnTo>
                  <a:lnTo>
                    <a:pt x="95" y="70"/>
                  </a:lnTo>
                  <a:lnTo>
                    <a:pt x="81" y="89"/>
                  </a:lnTo>
                  <a:lnTo>
                    <a:pt x="61" y="98"/>
                  </a:lnTo>
                  <a:lnTo>
                    <a:pt x="39" y="98"/>
                  </a:lnTo>
                  <a:lnTo>
                    <a:pt x="19" y="89"/>
                  </a:lnTo>
                  <a:lnTo>
                    <a:pt x="5" y="7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3741480" y="3911760"/>
              <a:ext cx="1438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140440" y="3871800"/>
              <a:ext cx="79200" cy="7632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0" y="25"/>
                  </a:moveTo>
                  <a:lnTo>
                    <a:pt x="6" y="39"/>
                  </a:lnTo>
                  <a:lnTo>
                    <a:pt x="17" y="48"/>
                  </a:lnTo>
                  <a:lnTo>
                    <a:pt x="34" y="48"/>
                  </a:lnTo>
                  <a:lnTo>
                    <a:pt x="45" y="39"/>
                  </a:lnTo>
                  <a:lnTo>
                    <a:pt x="50" y="25"/>
                  </a:lnTo>
                  <a:lnTo>
                    <a:pt x="45" y="9"/>
                  </a:lnTo>
                  <a:lnTo>
                    <a:pt x="34" y="0"/>
                  </a:lnTo>
                  <a:lnTo>
                    <a:pt x="17" y="0"/>
                  </a:lnTo>
                  <a:lnTo>
                    <a:pt x="6" y="9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863280" y="1913040"/>
            <a:ext cx="3197520" cy="2936880"/>
            <a:chOff x="863280" y="1913040"/>
            <a:chExt cx="3197520" cy="2936880"/>
          </a:xfrm>
        </p:grpSpPr>
        <p:sp>
          <p:nvSpPr>
            <p:cNvPr id="275" name=""/>
            <p:cNvSpPr/>
            <p:nvPr/>
          </p:nvSpPr>
          <p:spPr>
            <a:xfrm>
              <a:off x="1004760" y="4730760"/>
              <a:ext cx="177840" cy="119160"/>
            </a:xfrm>
            <a:custGeom>
              <a:avLst/>
              <a:gdLst/>
              <a:ahLst/>
              <a:rect l="l" t="t" r="r" b="b"/>
              <a:pathLst>
                <a:path w="112" h="75">
                  <a:moveTo>
                    <a:pt x="0" y="0"/>
                  </a:moveTo>
                  <a:lnTo>
                    <a:pt x="112" y="39"/>
                  </a:lnTo>
                  <a:lnTo>
                    <a:pt x="0" y="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863280" y="3192480"/>
              <a:ext cx="16020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182600" y="1913040"/>
              <a:ext cx="2878200" cy="47916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396440" y="1957320"/>
              <a:ext cx="2454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SI AX, Schema X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63640" y="2152800"/>
              <a:ext cx="318960" cy="1039680"/>
            </a:xfrm>
            <a:custGeom>
              <a:avLst/>
              <a:gdLst/>
              <a:ahLst/>
              <a:rect l="l" t="t" r="r" b="b"/>
              <a:pathLst>
                <a:path w="201" h="655">
                  <a:moveTo>
                    <a:pt x="201" y="0"/>
                  </a:moveTo>
                  <a:lnTo>
                    <a:pt x="0" y="0"/>
                  </a:lnTo>
                  <a:lnTo>
                    <a:pt x="0" y="655"/>
                  </a:lnTo>
                </a:path>
              </a:pathLst>
            </a:cu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63640" y="3192480"/>
              <a:ext cx="160200" cy="1600200"/>
            </a:xfrm>
            <a:custGeom>
              <a:avLst/>
              <a:gdLst/>
              <a:ahLst/>
              <a:rect l="l" t="t" r="r" b="b"/>
              <a:pathLst>
                <a:path w="101" h="1008">
                  <a:moveTo>
                    <a:pt x="101" y="1008"/>
                  </a:moveTo>
                  <a:lnTo>
                    <a:pt x="0" y="1008"/>
                  </a:lnTo>
                  <a:lnTo>
                    <a:pt x="0" y="0"/>
                  </a:lnTo>
                </a:path>
              </a:pathLst>
            </a:cu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04760" y="3130560"/>
              <a:ext cx="177840" cy="119160"/>
            </a:xfrm>
            <a:custGeom>
              <a:avLst/>
              <a:gdLst/>
              <a:ahLst/>
              <a:rect l="l" t="t" r="r" b="b"/>
              <a:pathLst>
                <a:path w="112" h="75">
                  <a:moveTo>
                    <a:pt x="0" y="0"/>
                  </a:moveTo>
                  <a:lnTo>
                    <a:pt x="112" y="39"/>
                  </a:lnTo>
                  <a:lnTo>
                    <a:pt x="0" y="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060800" y="1592280"/>
            <a:ext cx="3678120" cy="1657440"/>
            <a:chOff x="4060800" y="1592280"/>
            <a:chExt cx="3678120" cy="1657440"/>
          </a:xfrm>
        </p:grpSpPr>
        <p:sp>
          <p:nvSpPr>
            <p:cNvPr id="283" name=""/>
            <p:cNvSpPr/>
            <p:nvPr/>
          </p:nvSpPr>
          <p:spPr>
            <a:xfrm>
              <a:off x="4060800" y="3130560"/>
              <a:ext cx="177840" cy="119160"/>
            </a:xfrm>
            <a:custGeom>
              <a:avLst/>
              <a:gdLst/>
              <a:ahLst/>
              <a:rect l="l" t="t" r="r" b="b"/>
              <a:pathLst>
                <a:path w="112" h="75">
                  <a:moveTo>
                    <a:pt x="112" y="75"/>
                  </a:moveTo>
                  <a:lnTo>
                    <a:pt x="0" y="39"/>
                  </a:lnTo>
                  <a:lnTo>
                    <a:pt x="112" y="0"/>
                  </a:lnTo>
                  <a:lnTo>
                    <a:pt x="112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861080" y="1592280"/>
              <a:ext cx="2877840" cy="48096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072760" y="1636560"/>
              <a:ext cx="2454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SI BX, Schema X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60760" y="1832040"/>
              <a:ext cx="400320" cy="1360440"/>
            </a:xfrm>
            <a:custGeom>
              <a:avLst/>
              <a:gdLst/>
              <a:ahLst/>
              <a:rect l="l" t="t" r="r" b="b"/>
              <a:pathLst>
                <a:path w="252" h="857">
                  <a:moveTo>
                    <a:pt x="252" y="0"/>
                  </a:moveTo>
                  <a:lnTo>
                    <a:pt x="0" y="0"/>
                  </a:lnTo>
                  <a:lnTo>
                    <a:pt x="0" y="857"/>
                  </a:lnTo>
                </a:path>
              </a:pathLst>
            </a:cu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221000" y="3192480"/>
              <a:ext cx="23976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500360" y="3192480"/>
              <a:ext cx="19980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83240" y="3130560"/>
              <a:ext cx="177840" cy="119160"/>
            </a:xfrm>
            <a:custGeom>
              <a:avLst/>
              <a:gdLst/>
              <a:ahLst/>
              <a:rect l="l" t="t" r="r" b="b"/>
              <a:pathLst>
                <a:path w="112" h="75">
                  <a:moveTo>
                    <a:pt x="0" y="0"/>
                  </a:moveTo>
                  <a:lnTo>
                    <a:pt x="112" y="39"/>
                  </a:lnTo>
                  <a:lnTo>
                    <a:pt x="0" y="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861080" y="2232000"/>
            <a:ext cx="3197160" cy="2617920"/>
            <a:chOff x="4861080" y="2232000"/>
            <a:chExt cx="3197160" cy="2617920"/>
          </a:xfrm>
        </p:grpSpPr>
        <p:sp>
          <p:nvSpPr>
            <p:cNvPr id="291" name=""/>
            <p:cNvSpPr/>
            <p:nvPr/>
          </p:nvSpPr>
          <p:spPr>
            <a:xfrm>
              <a:off x="7738920" y="4730760"/>
              <a:ext cx="177840" cy="119160"/>
            </a:xfrm>
            <a:custGeom>
              <a:avLst/>
              <a:gdLst/>
              <a:ahLst/>
              <a:rect l="l" t="t" r="r" b="b"/>
              <a:pathLst>
                <a:path w="112" h="75">
                  <a:moveTo>
                    <a:pt x="112" y="75"/>
                  </a:moveTo>
                  <a:lnTo>
                    <a:pt x="0" y="39"/>
                  </a:lnTo>
                  <a:lnTo>
                    <a:pt x="112" y="0"/>
                  </a:lnTo>
                  <a:lnTo>
                    <a:pt x="112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61080" y="2232000"/>
              <a:ext cx="2877840" cy="48096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072760" y="2276640"/>
              <a:ext cx="2454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SI BY, Schema Y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738920" y="2473200"/>
              <a:ext cx="319320" cy="719280"/>
            </a:xfrm>
            <a:custGeom>
              <a:avLst/>
              <a:gdLst/>
              <a:ahLst/>
              <a:rect l="l" t="t" r="r" b="b"/>
              <a:pathLst>
                <a:path w="201" h="453">
                  <a:moveTo>
                    <a:pt x="0" y="0"/>
                  </a:moveTo>
                  <a:lnTo>
                    <a:pt x="201" y="0"/>
                  </a:lnTo>
                  <a:lnTo>
                    <a:pt x="201" y="453"/>
                  </a:lnTo>
                </a:path>
              </a:pathLst>
            </a:cu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897680" y="3192480"/>
              <a:ext cx="160560" cy="1600200"/>
            </a:xfrm>
            <a:custGeom>
              <a:avLst/>
              <a:gdLst/>
              <a:ahLst/>
              <a:rect l="l" t="t" r="r" b="b"/>
              <a:pathLst>
                <a:path w="101" h="1008">
                  <a:moveTo>
                    <a:pt x="0" y="1008"/>
                  </a:moveTo>
                  <a:lnTo>
                    <a:pt x="101" y="1008"/>
                  </a:lnTo>
                  <a:lnTo>
                    <a:pt x="101" y="0"/>
                  </a:lnTo>
                </a:path>
              </a:pathLst>
            </a:cu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897680" y="3192480"/>
              <a:ext cx="16056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738920" y="3130560"/>
              <a:ext cx="177840" cy="119160"/>
            </a:xfrm>
            <a:custGeom>
              <a:avLst/>
              <a:gdLst/>
              <a:ahLst/>
              <a:rect l="l" t="t" r="r" b="b"/>
              <a:pathLst>
                <a:path w="112" h="75">
                  <a:moveTo>
                    <a:pt x="112" y="75"/>
                  </a:moveTo>
                  <a:lnTo>
                    <a:pt x="0" y="39"/>
                  </a:lnTo>
                  <a:lnTo>
                    <a:pt x="112" y="0"/>
                  </a:lnTo>
                  <a:lnTo>
                    <a:pt x="112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1182600" y="4152960"/>
            <a:ext cx="2879640" cy="1919160"/>
            <a:chOff x="1182600" y="4152960"/>
            <a:chExt cx="2879640" cy="1919160"/>
          </a:xfrm>
        </p:grpSpPr>
        <p:sp>
          <p:nvSpPr>
            <p:cNvPr id="299" name=""/>
            <p:cNvSpPr/>
            <p:nvPr/>
          </p:nvSpPr>
          <p:spPr>
            <a:xfrm>
              <a:off x="3062160" y="5472000"/>
              <a:ext cx="79560" cy="7632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0" y="25"/>
                  </a:moveTo>
                  <a:lnTo>
                    <a:pt x="5" y="39"/>
                  </a:lnTo>
                  <a:lnTo>
                    <a:pt x="17" y="48"/>
                  </a:lnTo>
                  <a:lnTo>
                    <a:pt x="33" y="48"/>
                  </a:lnTo>
                  <a:lnTo>
                    <a:pt x="45" y="39"/>
                  </a:lnTo>
                  <a:lnTo>
                    <a:pt x="50" y="25"/>
                  </a:lnTo>
                  <a:lnTo>
                    <a:pt x="45" y="8"/>
                  </a:lnTo>
                  <a:lnTo>
                    <a:pt x="33" y="0"/>
                  </a:lnTo>
                  <a:lnTo>
                    <a:pt x="17" y="0"/>
                  </a:lnTo>
                  <a:lnTo>
                    <a:pt x="5" y="8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82600" y="4232160"/>
              <a:ext cx="2878200" cy="1116000"/>
            </a:xfrm>
            <a:custGeom>
              <a:avLst/>
              <a:gdLst/>
              <a:ahLst/>
              <a:rect l="l" t="t" r="r" b="b"/>
              <a:pathLst>
                <a:path w="1813" h="703">
                  <a:moveTo>
                    <a:pt x="0" y="353"/>
                  </a:moveTo>
                  <a:lnTo>
                    <a:pt x="6" y="314"/>
                  </a:lnTo>
                  <a:lnTo>
                    <a:pt x="23" y="277"/>
                  </a:lnTo>
                  <a:lnTo>
                    <a:pt x="48" y="238"/>
                  </a:lnTo>
                  <a:lnTo>
                    <a:pt x="84" y="204"/>
                  </a:lnTo>
                  <a:lnTo>
                    <a:pt x="129" y="171"/>
                  </a:lnTo>
                  <a:lnTo>
                    <a:pt x="185" y="137"/>
                  </a:lnTo>
                  <a:lnTo>
                    <a:pt x="249" y="109"/>
                  </a:lnTo>
                  <a:lnTo>
                    <a:pt x="319" y="84"/>
                  </a:lnTo>
                  <a:lnTo>
                    <a:pt x="398" y="59"/>
                  </a:lnTo>
                  <a:lnTo>
                    <a:pt x="482" y="39"/>
                  </a:lnTo>
                  <a:lnTo>
                    <a:pt x="571" y="25"/>
                  </a:lnTo>
                  <a:lnTo>
                    <a:pt x="663" y="11"/>
                  </a:lnTo>
                  <a:lnTo>
                    <a:pt x="761" y="3"/>
                  </a:lnTo>
                  <a:lnTo>
                    <a:pt x="856" y="0"/>
                  </a:lnTo>
                  <a:lnTo>
                    <a:pt x="957" y="0"/>
                  </a:lnTo>
                  <a:lnTo>
                    <a:pt x="1052" y="3"/>
                  </a:lnTo>
                  <a:lnTo>
                    <a:pt x="1150" y="11"/>
                  </a:lnTo>
                  <a:lnTo>
                    <a:pt x="1242" y="25"/>
                  </a:lnTo>
                  <a:lnTo>
                    <a:pt x="1332" y="39"/>
                  </a:lnTo>
                  <a:lnTo>
                    <a:pt x="1416" y="59"/>
                  </a:lnTo>
                  <a:lnTo>
                    <a:pt x="1494" y="84"/>
                  </a:lnTo>
                  <a:lnTo>
                    <a:pt x="1564" y="109"/>
                  </a:lnTo>
                  <a:lnTo>
                    <a:pt x="1629" y="137"/>
                  </a:lnTo>
                  <a:lnTo>
                    <a:pt x="1685" y="171"/>
                  </a:lnTo>
                  <a:lnTo>
                    <a:pt x="1729" y="204"/>
                  </a:lnTo>
                  <a:lnTo>
                    <a:pt x="1766" y="238"/>
                  </a:lnTo>
                  <a:lnTo>
                    <a:pt x="1791" y="277"/>
                  </a:lnTo>
                  <a:lnTo>
                    <a:pt x="1808" y="314"/>
                  </a:lnTo>
                  <a:lnTo>
                    <a:pt x="1813" y="353"/>
                  </a:lnTo>
                  <a:lnTo>
                    <a:pt x="1808" y="389"/>
                  </a:lnTo>
                  <a:lnTo>
                    <a:pt x="1791" y="428"/>
                  </a:lnTo>
                  <a:lnTo>
                    <a:pt x="1766" y="465"/>
                  </a:lnTo>
                  <a:lnTo>
                    <a:pt x="1729" y="501"/>
                  </a:lnTo>
                  <a:lnTo>
                    <a:pt x="1685" y="535"/>
                  </a:lnTo>
                  <a:lnTo>
                    <a:pt x="1629" y="565"/>
                  </a:lnTo>
                  <a:lnTo>
                    <a:pt x="1564" y="593"/>
                  </a:lnTo>
                  <a:lnTo>
                    <a:pt x="1494" y="621"/>
                  </a:lnTo>
                  <a:lnTo>
                    <a:pt x="1416" y="644"/>
                  </a:lnTo>
                  <a:lnTo>
                    <a:pt x="1332" y="663"/>
                  </a:lnTo>
                  <a:lnTo>
                    <a:pt x="1242" y="680"/>
                  </a:lnTo>
                  <a:lnTo>
                    <a:pt x="1150" y="691"/>
                  </a:lnTo>
                  <a:lnTo>
                    <a:pt x="1052" y="700"/>
                  </a:lnTo>
                  <a:lnTo>
                    <a:pt x="957" y="703"/>
                  </a:lnTo>
                  <a:lnTo>
                    <a:pt x="856" y="703"/>
                  </a:lnTo>
                  <a:lnTo>
                    <a:pt x="761" y="700"/>
                  </a:lnTo>
                  <a:lnTo>
                    <a:pt x="663" y="691"/>
                  </a:lnTo>
                  <a:lnTo>
                    <a:pt x="571" y="680"/>
                  </a:lnTo>
                  <a:lnTo>
                    <a:pt x="482" y="663"/>
                  </a:lnTo>
                  <a:lnTo>
                    <a:pt x="398" y="644"/>
                  </a:lnTo>
                  <a:lnTo>
                    <a:pt x="319" y="621"/>
                  </a:lnTo>
                  <a:lnTo>
                    <a:pt x="249" y="593"/>
                  </a:lnTo>
                  <a:lnTo>
                    <a:pt x="185" y="565"/>
                  </a:lnTo>
                  <a:lnTo>
                    <a:pt x="129" y="535"/>
                  </a:lnTo>
                  <a:lnTo>
                    <a:pt x="84" y="501"/>
                  </a:lnTo>
                  <a:lnTo>
                    <a:pt x="48" y="465"/>
                  </a:lnTo>
                  <a:lnTo>
                    <a:pt x="23" y="428"/>
                  </a:lnTo>
                  <a:lnTo>
                    <a:pt x="6" y="389"/>
                  </a:lnTo>
                  <a:lnTo>
                    <a:pt x="0" y="35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05840" y="4405320"/>
              <a:ext cx="14302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Model A2,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888560" y="4788000"/>
              <a:ext cx="14652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Schema X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82600" y="5432400"/>
              <a:ext cx="2878200" cy="639720"/>
            </a:xfrm>
            <a:custGeom>
              <a:avLst/>
              <a:gdLst/>
              <a:ahLst/>
              <a:rect l="l" t="t" r="r" b="b"/>
              <a:pathLst>
                <a:path w="1813" h="403">
                  <a:moveTo>
                    <a:pt x="0" y="0"/>
                  </a:moveTo>
                  <a:lnTo>
                    <a:pt x="6" y="42"/>
                  </a:lnTo>
                  <a:lnTo>
                    <a:pt x="20" y="84"/>
                  </a:lnTo>
                  <a:lnTo>
                    <a:pt x="45" y="123"/>
                  </a:lnTo>
                  <a:lnTo>
                    <a:pt x="79" y="162"/>
                  </a:lnTo>
                  <a:lnTo>
                    <a:pt x="121" y="201"/>
                  </a:lnTo>
                  <a:lnTo>
                    <a:pt x="174" y="235"/>
                  </a:lnTo>
                  <a:lnTo>
                    <a:pt x="233" y="268"/>
                  </a:lnTo>
                  <a:lnTo>
                    <a:pt x="300" y="299"/>
                  </a:lnTo>
                  <a:lnTo>
                    <a:pt x="375" y="324"/>
                  </a:lnTo>
                  <a:lnTo>
                    <a:pt x="454" y="347"/>
                  </a:lnTo>
                  <a:lnTo>
                    <a:pt x="537" y="366"/>
                  </a:lnTo>
                  <a:lnTo>
                    <a:pt x="627" y="383"/>
                  </a:lnTo>
                  <a:lnTo>
                    <a:pt x="719" y="392"/>
                  </a:lnTo>
                  <a:lnTo>
                    <a:pt x="812" y="400"/>
                  </a:lnTo>
                  <a:lnTo>
                    <a:pt x="907" y="403"/>
                  </a:lnTo>
                  <a:lnTo>
                    <a:pt x="1002" y="400"/>
                  </a:lnTo>
                  <a:lnTo>
                    <a:pt x="1094" y="392"/>
                  </a:lnTo>
                  <a:lnTo>
                    <a:pt x="1187" y="383"/>
                  </a:lnTo>
                  <a:lnTo>
                    <a:pt x="1276" y="366"/>
                  </a:lnTo>
                  <a:lnTo>
                    <a:pt x="1360" y="347"/>
                  </a:lnTo>
                  <a:lnTo>
                    <a:pt x="1438" y="324"/>
                  </a:lnTo>
                  <a:lnTo>
                    <a:pt x="1514" y="299"/>
                  </a:lnTo>
                  <a:lnTo>
                    <a:pt x="1581" y="268"/>
                  </a:lnTo>
                  <a:lnTo>
                    <a:pt x="1640" y="235"/>
                  </a:lnTo>
                  <a:lnTo>
                    <a:pt x="1693" y="201"/>
                  </a:lnTo>
                  <a:lnTo>
                    <a:pt x="1735" y="162"/>
                  </a:lnTo>
                  <a:lnTo>
                    <a:pt x="1768" y="123"/>
                  </a:lnTo>
                  <a:lnTo>
                    <a:pt x="1794" y="84"/>
                  </a:lnTo>
                  <a:lnTo>
                    <a:pt x="1808" y="42"/>
                  </a:lnTo>
                  <a:lnTo>
                    <a:pt x="1813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182600" y="4792680"/>
              <a:ext cx="1800" cy="639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060800" y="4792680"/>
              <a:ext cx="1440" cy="639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62120" y="5432400"/>
              <a:ext cx="160200" cy="155520"/>
            </a:xfrm>
            <a:custGeom>
              <a:avLst/>
              <a:gdLst/>
              <a:ahLst/>
              <a:rect l="l" t="t" r="r" b="b"/>
              <a:pathLst>
                <a:path w="101" h="98">
                  <a:moveTo>
                    <a:pt x="0" y="50"/>
                  </a:moveTo>
                  <a:lnTo>
                    <a:pt x="6" y="28"/>
                  </a:lnTo>
                  <a:lnTo>
                    <a:pt x="20" y="11"/>
                  </a:lnTo>
                  <a:lnTo>
                    <a:pt x="40" y="0"/>
                  </a:lnTo>
                  <a:lnTo>
                    <a:pt x="62" y="0"/>
                  </a:lnTo>
                  <a:lnTo>
                    <a:pt x="82" y="11"/>
                  </a:lnTo>
                  <a:lnTo>
                    <a:pt x="96" y="28"/>
                  </a:lnTo>
                  <a:lnTo>
                    <a:pt x="101" y="50"/>
                  </a:lnTo>
                  <a:lnTo>
                    <a:pt x="96" y="70"/>
                  </a:lnTo>
                  <a:lnTo>
                    <a:pt x="82" y="89"/>
                  </a:lnTo>
                  <a:lnTo>
                    <a:pt x="62" y="98"/>
                  </a:lnTo>
                  <a:lnTo>
                    <a:pt x="40" y="98"/>
                  </a:lnTo>
                  <a:lnTo>
                    <a:pt x="20" y="89"/>
                  </a:lnTo>
                  <a:lnTo>
                    <a:pt x="6" y="7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102120" y="5432400"/>
              <a:ext cx="160200" cy="155520"/>
            </a:xfrm>
            <a:custGeom>
              <a:avLst/>
              <a:gdLst/>
              <a:ahLst/>
              <a:rect l="l" t="t" r="r" b="b"/>
              <a:pathLst>
                <a:path w="101" h="98">
                  <a:moveTo>
                    <a:pt x="0" y="50"/>
                  </a:moveTo>
                  <a:lnTo>
                    <a:pt x="6" y="28"/>
                  </a:lnTo>
                  <a:lnTo>
                    <a:pt x="20" y="11"/>
                  </a:lnTo>
                  <a:lnTo>
                    <a:pt x="39" y="0"/>
                  </a:lnTo>
                  <a:lnTo>
                    <a:pt x="61" y="0"/>
                  </a:lnTo>
                  <a:lnTo>
                    <a:pt x="81" y="11"/>
                  </a:lnTo>
                  <a:lnTo>
                    <a:pt x="95" y="28"/>
                  </a:lnTo>
                  <a:lnTo>
                    <a:pt x="101" y="50"/>
                  </a:lnTo>
                  <a:lnTo>
                    <a:pt x="95" y="70"/>
                  </a:lnTo>
                  <a:lnTo>
                    <a:pt x="81" y="89"/>
                  </a:lnTo>
                  <a:lnTo>
                    <a:pt x="61" y="98"/>
                  </a:lnTo>
                  <a:lnTo>
                    <a:pt x="39" y="98"/>
                  </a:lnTo>
                  <a:lnTo>
                    <a:pt x="20" y="89"/>
                  </a:lnTo>
                  <a:lnTo>
                    <a:pt x="6" y="7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462040" y="5751360"/>
              <a:ext cx="160560" cy="155880"/>
            </a:xfrm>
            <a:custGeom>
              <a:avLst/>
              <a:gdLst/>
              <a:ahLst/>
              <a:rect l="l" t="t" r="r" b="b"/>
              <a:pathLst>
                <a:path w="101" h="98">
                  <a:moveTo>
                    <a:pt x="0" y="51"/>
                  </a:moveTo>
                  <a:lnTo>
                    <a:pt x="6" y="28"/>
                  </a:lnTo>
                  <a:lnTo>
                    <a:pt x="20" y="11"/>
                  </a:lnTo>
                  <a:lnTo>
                    <a:pt x="39" y="0"/>
                  </a:lnTo>
                  <a:lnTo>
                    <a:pt x="62" y="0"/>
                  </a:lnTo>
                  <a:lnTo>
                    <a:pt x="81" y="11"/>
                  </a:lnTo>
                  <a:lnTo>
                    <a:pt x="95" y="28"/>
                  </a:lnTo>
                  <a:lnTo>
                    <a:pt x="101" y="51"/>
                  </a:lnTo>
                  <a:lnTo>
                    <a:pt x="95" y="70"/>
                  </a:lnTo>
                  <a:lnTo>
                    <a:pt x="81" y="90"/>
                  </a:lnTo>
                  <a:lnTo>
                    <a:pt x="62" y="98"/>
                  </a:lnTo>
                  <a:lnTo>
                    <a:pt x="39" y="98"/>
                  </a:lnTo>
                  <a:lnTo>
                    <a:pt x="20" y="90"/>
                  </a:lnTo>
                  <a:lnTo>
                    <a:pt x="6" y="7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822320" y="5511960"/>
              <a:ext cx="12798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43120" y="4152960"/>
              <a:ext cx="1440" cy="1279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4861080" y="3992400"/>
            <a:ext cx="2879640" cy="2079720"/>
            <a:chOff x="4861080" y="3992400"/>
            <a:chExt cx="2879640" cy="2079720"/>
          </a:xfrm>
        </p:grpSpPr>
        <p:sp>
          <p:nvSpPr>
            <p:cNvPr id="312" name=""/>
            <p:cNvSpPr/>
            <p:nvPr/>
          </p:nvSpPr>
          <p:spPr>
            <a:xfrm>
              <a:off x="4861080" y="4232160"/>
              <a:ext cx="2877840" cy="1116000"/>
            </a:xfrm>
            <a:custGeom>
              <a:avLst/>
              <a:gdLst/>
              <a:ahLst/>
              <a:rect l="l" t="t" r="r" b="b"/>
              <a:pathLst>
                <a:path w="1813" h="703">
                  <a:moveTo>
                    <a:pt x="0" y="353"/>
                  </a:moveTo>
                  <a:lnTo>
                    <a:pt x="5" y="314"/>
                  </a:lnTo>
                  <a:lnTo>
                    <a:pt x="22" y="277"/>
                  </a:lnTo>
                  <a:lnTo>
                    <a:pt x="47" y="238"/>
                  </a:lnTo>
                  <a:lnTo>
                    <a:pt x="84" y="204"/>
                  </a:lnTo>
                  <a:lnTo>
                    <a:pt x="128" y="171"/>
                  </a:lnTo>
                  <a:lnTo>
                    <a:pt x="184" y="137"/>
                  </a:lnTo>
                  <a:lnTo>
                    <a:pt x="249" y="109"/>
                  </a:lnTo>
                  <a:lnTo>
                    <a:pt x="319" y="84"/>
                  </a:lnTo>
                  <a:lnTo>
                    <a:pt x="397" y="59"/>
                  </a:lnTo>
                  <a:lnTo>
                    <a:pt x="481" y="39"/>
                  </a:lnTo>
                  <a:lnTo>
                    <a:pt x="571" y="25"/>
                  </a:lnTo>
                  <a:lnTo>
                    <a:pt x="663" y="11"/>
                  </a:lnTo>
                  <a:lnTo>
                    <a:pt x="761" y="3"/>
                  </a:lnTo>
                  <a:lnTo>
                    <a:pt x="856" y="0"/>
                  </a:lnTo>
                  <a:lnTo>
                    <a:pt x="957" y="0"/>
                  </a:lnTo>
                  <a:lnTo>
                    <a:pt x="1052" y="3"/>
                  </a:lnTo>
                  <a:lnTo>
                    <a:pt x="1150" y="11"/>
                  </a:lnTo>
                  <a:lnTo>
                    <a:pt x="1242" y="25"/>
                  </a:lnTo>
                  <a:lnTo>
                    <a:pt x="1331" y="39"/>
                  </a:lnTo>
                  <a:lnTo>
                    <a:pt x="1415" y="59"/>
                  </a:lnTo>
                  <a:lnTo>
                    <a:pt x="1494" y="84"/>
                  </a:lnTo>
                  <a:lnTo>
                    <a:pt x="1564" y="109"/>
                  </a:lnTo>
                  <a:lnTo>
                    <a:pt x="1628" y="137"/>
                  </a:lnTo>
                  <a:lnTo>
                    <a:pt x="1684" y="171"/>
                  </a:lnTo>
                  <a:lnTo>
                    <a:pt x="1729" y="204"/>
                  </a:lnTo>
                  <a:lnTo>
                    <a:pt x="1765" y="238"/>
                  </a:lnTo>
                  <a:lnTo>
                    <a:pt x="1790" y="277"/>
                  </a:lnTo>
                  <a:lnTo>
                    <a:pt x="1807" y="314"/>
                  </a:lnTo>
                  <a:lnTo>
                    <a:pt x="1813" y="353"/>
                  </a:lnTo>
                  <a:lnTo>
                    <a:pt x="1807" y="389"/>
                  </a:lnTo>
                  <a:lnTo>
                    <a:pt x="1790" y="428"/>
                  </a:lnTo>
                  <a:lnTo>
                    <a:pt x="1765" y="465"/>
                  </a:lnTo>
                  <a:lnTo>
                    <a:pt x="1729" y="501"/>
                  </a:lnTo>
                  <a:lnTo>
                    <a:pt x="1684" y="535"/>
                  </a:lnTo>
                  <a:lnTo>
                    <a:pt x="1628" y="565"/>
                  </a:lnTo>
                  <a:lnTo>
                    <a:pt x="1564" y="593"/>
                  </a:lnTo>
                  <a:lnTo>
                    <a:pt x="1494" y="621"/>
                  </a:lnTo>
                  <a:lnTo>
                    <a:pt x="1415" y="644"/>
                  </a:lnTo>
                  <a:lnTo>
                    <a:pt x="1331" y="663"/>
                  </a:lnTo>
                  <a:lnTo>
                    <a:pt x="1242" y="680"/>
                  </a:lnTo>
                  <a:lnTo>
                    <a:pt x="1150" y="691"/>
                  </a:lnTo>
                  <a:lnTo>
                    <a:pt x="1052" y="700"/>
                  </a:lnTo>
                  <a:lnTo>
                    <a:pt x="957" y="703"/>
                  </a:lnTo>
                  <a:lnTo>
                    <a:pt x="856" y="703"/>
                  </a:lnTo>
                  <a:lnTo>
                    <a:pt x="761" y="700"/>
                  </a:lnTo>
                  <a:lnTo>
                    <a:pt x="663" y="691"/>
                  </a:lnTo>
                  <a:lnTo>
                    <a:pt x="571" y="680"/>
                  </a:lnTo>
                  <a:lnTo>
                    <a:pt x="481" y="663"/>
                  </a:lnTo>
                  <a:lnTo>
                    <a:pt x="397" y="644"/>
                  </a:lnTo>
                  <a:lnTo>
                    <a:pt x="319" y="621"/>
                  </a:lnTo>
                  <a:lnTo>
                    <a:pt x="249" y="593"/>
                  </a:lnTo>
                  <a:lnTo>
                    <a:pt x="184" y="565"/>
                  </a:lnTo>
                  <a:lnTo>
                    <a:pt x="128" y="535"/>
                  </a:lnTo>
                  <a:lnTo>
                    <a:pt x="84" y="501"/>
                  </a:lnTo>
                  <a:lnTo>
                    <a:pt x="47" y="465"/>
                  </a:lnTo>
                  <a:lnTo>
                    <a:pt x="22" y="428"/>
                  </a:lnTo>
                  <a:lnTo>
                    <a:pt x="5" y="389"/>
                  </a:lnTo>
                  <a:lnTo>
                    <a:pt x="0" y="35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583960" y="4405320"/>
              <a:ext cx="14302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Model B1,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66680" y="4788000"/>
              <a:ext cx="14652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Schema Y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861080" y="5432400"/>
              <a:ext cx="2877840" cy="639720"/>
            </a:xfrm>
            <a:custGeom>
              <a:avLst/>
              <a:gdLst/>
              <a:ahLst/>
              <a:rect l="l" t="t" r="r" b="b"/>
              <a:pathLst>
                <a:path w="1813" h="403">
                  <a:moveTo>
                    <a:pt x="0" y="0"/>
                  </a:moveTo>
                  <a:lnTo>
                    <a:pt x="5" y="42"/>
                  </a:lnTo>
                  <a:lnTo>
                    <a:pt x="19" y="84"/>
                  </a:lnTo>
                  <a:lnTo>
                    <a:pt x="45" y="123"/>
                  </a:lnTo>
                  <a:lnTo>
                    <a:pt x="78" y="162"/>
                  </a:lnTo>
                  <a:lnTo>
                    <a:pt x="120" y="201"/>
                  </a:lnTo>
                  <a:lnTo>
                    <a:pt x="173" y="235"/>
                  </a:lnTo>
                  <a:lnTo>
                    <a:pt x="232" y="268"/>
                  </a:lnTo>
                  <a:lnTo>
                    <a:pt x="299" y="299"/>
                  </a:lnTo>
                  <a:lnTo>
                    <a:pt x="375" y="324"/>
                  </a:lnTo>
                  <a:lnTo>
                    <a:pt x="453" y="347"/>
                  </a:lnTo>
                  <a:lnTo>
                    <a:pt x="537" y="366"/>
                  </a:lnTo>
                  <a:lnTo>
                    <a:pt x="626" y="383"/>
                  </a:lnTo>
                  <a:lnTo>
                    <a:pt x="719" y="392"/>
                  </a:lnTo>
                  <a:lnTo>
                    <a:pt x="811" y="400"/>
                  </a:lnTo>
                  <a:lnTo>
                    <a:pt x="906" y="403"/>
                  </a:lnTo>
                  <a:lnTo>
                    <a:pt x="1001" y="400"/>
                  </a:lnTo>
                  <a:lnTo>
                    <a:pt x="1094" y="392"/>
                  </a:lnTo>
                  <a:lnTo>
                    <a:pt x="1186" y="383"/>
                  </a:lnTo>
                  <a:lnTo>
                    <a:pt x="1276" y="366"/>
                  </a:lnTo>
                  <a:lnTo>
                    <a:pt x="1359" y="347"/>
                  </a:lnTo>
                  <a:lnTo>
                    <a:pt x="1438" y="324"/>
                  </a:lnTo>
                  <a:lnTo>
                    <a:pt x="1513" y="299"/>
                  </a:lnTo>
                  <a:lnTo>
                    <a:pt x="1580" y="268"/>
                  </a:lnTo>
                  <a:lnTo>
                    <a:pt x="1639" y="235"/>
                  </a:lnTo>
                  <a:lnTo>
                    <a:pt x="1692" y="201"/>
                  </a:lnTo>
                  <a:lnTo>
                    <a:pt x="1734" y="162"/>
                  </a:lnTo>
                  <a:lnTo>
                    <a:pt x="1768" y="123"/>
                  </a:lnTo>
                  <a:lnTo>
                    <a:pt x="1793" y="84"/>
                  </a:lnTo>
                  <a:lnTo>
                    <a:pt x="1807" y="42"/>
                  </a:lnTo>
                  <a:lnTo>
                    <a:pt x="1813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861080" y="4792680"/>
              <a:ext cx="1440" cy="639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738920" y="4792680"/>
              <a:ext cx="1800" cy="639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180040" y="5432400"/>
              <a:ext cx="160200" cy="155520"/>
            </a:xfrm>
            <a:custGeom>
              <a:avLst/>
              <a:gdLst/>
              <a:ahLst/>
              <a:rect l="l" t="t" r="r" b="b"/>
              <a:pathLst>
                <a:path w="101" h="98">
                  <a:moveTo>
                    <a:pt x="0" y="50"/>
                  </a:moveTo>
                  <a:lnTo>
                    <a:pt x="6" y="28"/>
                  </a:lnTo>
                  <a:lnTo>
                    <a:pt x="20" y="11"/>
                  </a:lnTo>
                  <a:lnTo>
                    <a:pt x="39" y="0"/>
                  </a:lnTo>
                  <a:lnTo>
                    <a:pt x="62" y="0"/>
                  </a:lnTo>
                  <a:lnTo>
                    <a:pt x="81" y="11"/>
                  </a:lnTo>
                  <a:lnTo>
                    <a:pt x="95" y="28"/>
                  </a:lnTo>
                  <a:lnTo>
                    <a:pt x="101" y="50"/>
                  </a:lnTo>
                  <a:lnTo>
                    <a:pt x="95" y="70"/>
                  </a:lnTo>
                  <a:lnTo>
                    <a:pt x="81" y="89"/>
                  </a:lnTo>
                  <a:lnTo>
                    <a:pt x="62" y="98"/>
                  </a:lnTo>
                  <a:lnTo>
                    <a:pt x="39" y="98"/>
                  </a:lnTo>
                  <a:lnTo>
                    <a:pt x="20" y="89"/>
                  </a:lnTo>
                  <a:lnTo>
                    <a:pt x="6" y="7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819760" y="5592600"/>
              <a:ext cx="160200" cy="155880"/>
            </a:xfrm>
            <a:custGeom>
              <a:avLst/>
              <a:gdLst/>
              <a:ahLst/>
              <a:rect l="l" t="t" r="r" b="b"/>
              <a:pathLst>
                <a:path w="101" h="98">
                  <a:moveTo>
                    <a:pt x="0" y="50"/>
                  </a:moveTo>
                  <a:lnTo>
                    <a:pt x="6" y="28"/>
                  </a:lnTo>
                  <a:lnTo>
                    <a:pt x="20" y="11"/>
                  </a:lnTo>
                  <a:lnTo>
                    <a:pt x="39" y="0"/>
                  </a:lnTo>
                  <a:lnTo>
                    <a:pt x="62" y="0"/>
                  </a:lnTo>
                  <a:lnTo>
                    <a:pt x="81" y="11"/>
                  </a:lnTo>
                  <a:lnTo>
                    <a:pt x="95" y="28"/>
                  </a:lnTo>
                  <a:lnTo>
                    <a:pt x="101" y="50"/>
                  </a:lnTo>
                  <a:lnTo>
                    <a:pt x="95" y="70"/>
                  </a:lnTo>
                  <a:lnTo>
                    <a:pt x="81" y="89"/>
                  </a:lnTo>
                  <a:lnTo>
                    <a:pt x="62" y="98"/>
                  </a:lnTo>
                  <a:lnTo>
                    <a:pt x="39" y="98"/>
                  </a:lnTo>
                  <a:lnTo>
                    <a:pt x="20" y="89"/>
                  </a:lnTo>
                  <a:lnTo>
                    <a:pt x="6" y="7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459480" y="5592600"/>
              <a:ext cx="160560" cy="155880"/>
            </a:xfrm>
            <a:custGeom>
              <a:avLst/>
              <a:gdLst/>
              <a:ahLst/>
              <a:rect l="l" t="t" r="r" b="b"/>
              <a:pathLst>
                <a:path w="101" h="98">
                  <a:moveTo>
                    <a:pt x="0" y="50"/>
                  </a:moveTo>
                  <a:lnTo>
                    <a:pt x="6" y="28"/>
                  </a:lnTo>
                  <a:lnTo>
                    <a:pt x="20" y="11"/>
                  </a:lnTo>
                  <a:lnTo>
                    <a:pt x="39" y="0"/>
                  </a:lnTo>
                  <a:lnTo>
                    <a:pt x="61" y="0"/>
                  </a:lnTo>
                  <a:lnTo>
                    <a:pt x="81" y="11"/>
                  </a:lnTo>
                  <a:lnTo>
                    <a:pt x="95" y="28"/>
                  </a:lnTo>
                  <a:lnTo>
                    <a:pt x="101" y="50"/>
                  </a:lnTo>
                  <a:lnTo>
                    <a:pt x="95" y="70"/>
                  </a:lnTo>
                  <a:lnTo>
                    <a:pt x="81" y="89"/>
                  </a:lnTo>
                  <a:lnTo>
                    <a:pt x="61" y="98"/>
                  </a:lnTo>
                  <a:lnTo>
                    <a:pt x="39" y="98"/>
                  </a:lnTo>
                  <a:lnTo>
                    <a:pt x="20" y="89"/>
                  </a:lnTo>
                  <a:lnTo>
                    <a:pt x="6" y="7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259760" y="5432400"/>
              <a:ext cx="158760" cy="15552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0" y="50"/>
                  </a:moveTo>
                  <a:lnTo>
                    <a:pt x="5" y="28"/>
                  </a:lnTo>
                  <a:lnTo>
                    <a:pt x="19" y="11"/>
                  </a:lnTo>
                  <a:lnTo>
                    <a:pt x="39" y="0"/>
                  </a:lnTo>
                  <a:lnTo>
                    <a:pt x="61" y="0"/>
                  </a:lnTo>
                  <a:lnTo>
                    <a:pt x="81" y="11"/>
                  </a:lnTo>
                  <a:lnTo>
                    <a:pt x="95" y="28"/>
                  </a:lnTo>
                  <a:lnTo>
                    <a:pt x="100" y="50"/>
                  </a:lnTo>
                  <a:lnTo>
                    <a:pt x="95" y="70"/>
                  </a:lnTo>
                  <a:lnTo>
                    <a:pt x="81" y="89"/>
                  </a:lnTo>
                  <a:lnTo>
                    <a:pt x="61" y="98"/>
                  </a:lnTo>
                  <a:lnTo>
                    <a:pt x="39" y="98"/>
                  </a:lnTo>
                  <a:lnTo>
                    <a:pt x="19" y="89"/>
                  </a:lnTo>
                  <a:lnTo>
                    <a:pt x="5" y="7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338960" y="3992400"/>
              <a:ext cx="1800" cy="1440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AABF-092E-4A1B-AEE2-5D3FE07693C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"/>
          <p:cNvGrpSpPr/>
          <p:nvPr/>
        </p:nvGrpSpPr>
        <p:grpSpPr>
          <a:xfrm>
            <a:off x="2763720" y="2530440"/>
            <a:ext cx="4834440" cy="351000"/>
            <a:chOff x="2763720" y="2530440"/>
            <a:chExt cx="4834440" cy="351000"/>
          </a:xfrm>
        </p:grpSpPr>
        <p:sp>
          <p:nvSpPr>
            <p:cNvPr id="324" name=""/>
            <p:cNvSpPr/>
            <p:nvPr/>
          </p:nvSpPr>
          <p:spPr>
            <a:xfrm>
              <a:off x="2763720" y="2530440"/>
              <a:ext cx="2103480" cy="35100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908080" y="2563920"/>
              <a:ext cx="187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DAI (Part 22+27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228800" y="2563920"/>
              <a:ext cx="36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67200" y="2530440"/>
              <a:ext cx="1403280" cy="35100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047200" y="2563920"/>
              <a:ext cx="1116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763720" y="2881440"/>
            <a:ext cx="5494680" cy="3421080"/>
            <a:chOff x="2763720" y="2881440"/>
            <a:chExt cx="5494680" cy="3421080"/>
          </a:xfrm>
        </p:grpSpPr>
        <p:sp>
          <p:nvSpPr>
            <p:cNvPr id="330" name=""/>
            <p:cNvSpPr/>
            <p:nvPr/>
          </p:nvSpPr>
          <p:spPr>
            <a:xfrm>
              <a:off x="2763720" y="2881440"/>
              <a:ext cx="3506760" cy="342108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938320" y="4459320"/>
              <a:ext cx="1403640" cy="701640"/>
            </a:xfrm>
            <a:custGeom>
              <a:avLst/>
              <a:gdLst/>
              <a:ahLst/>
              <a:rect l="l" t="t" r="r" b="b"/>
              <a:pathLst>
                <a:path w="884" h="442">
                  <a:moveTo>
                    <a:pt x="0" y="221"/>
                  </a:moveTo>
                  <a:lnTo>
                    <a:pt x="6" y="185"/>
                  </a:lnTo>
                  <a:lnTo>
                    <a:pt x="25" y="151"/>
                  </a:lnTo>
                  <a:lnTo>
                    <a:pt x="52" y="117"/>
                  </a:lnTo>
                  <a:lnTo>
                    <a:pt x="92" y="86"/>
                  </a:lnTo>
                  <a:lnTo>
                    <a:pt x="141" y="59"/>
                  </a:lnTo>
                  <a:lnTo>
                    <a:pt x="200" y="37"/>
                  </a:lnTo>
                  <a:lnTo>
                    <a:pt x="264" y="19"/>
                  </a:lnTo>
                  <a:lnTo>
                    <a:pt x="335" y="6"/>
                  </a:lnTo>
                  <a:lnTo>
                    <a:pt x="405" y="0"/>
                  </a:lnTo>
                  <a:lnTo>
                    <a:pt x="479" y="0"/>
                  </a:lnTo>
                  <a:lnTo>
                    <a:pt x="549" y="6"/>
                  </a:lnTo>
                  <a:lnTo>
                    <a:pt x="620" y="19"/>
                  </a:lnTo>
                  <a:lnTo>
                    <a:pt x="684" y="37"/>
                  </a:lnTo>
                  <a:lnTo>
                    <a:pt x="740" y="59"/>
                  </a:lnTo>
                  <a:lnTo>
                    <a:pt x="792" y="86"/>
                  </a:lnTo>
                  <a:lnTo>
                    <a:pt x="832" y="117"/>
                  </a:lnTo>
                  <a:lnTo>
                    <a:pt x="859" y="151"/>
                  </a:lnTo>
                  <a:lnTo>
                    <a:pt x="878" y="185"/>
                  </a:lnTo>
                  <a:lnTo>
                    <a:pt x="884" y="221"/>
                  </a:lnTo>
                  <a:lnTo>
                    <a:pt x="878" y="258"/>
                  </a:lnTo>
                  <a:lnTo>
                    <a:pt x="859" y="292"/>
                  </a:lnTo>
                  <a:lnTo>
                    <a:pt x="832" y="326"/>
                  </a:lnTo>
                  <a:lnTo>
                    <a:pt x="792" y="356"/>
                  </a:lnTo>
                  <a:lnTo>
                    <a:pt x="740" y="384"/>
                  </a:lnTo>
                  <a:lnTo>
                    <a:pt x="684" y="406"/>
                  </a:lnTo>
                  <a:lnTo>
                    <a:pt x="620" y="424"/>
                  </a:lnTo>
                  <a:lnTo>
                    <a:pt x="549" y="436"/>
                  </a:lnTo>
                  <a:lnTo>
                    <a:pt x="479" y="442"/>
                  </a:lnTo>
                  <a:lnTo>
                    <a:pt x="405" y="442"/>
                  </a:lnTo>
                  <a:lnTo>
                    <a:pt x="335" y="436"/>
                  </a:lnTo>
                  <a:lnTo>
                    <a:pt x="264" y="424"/>
                  </a:lnTo>
                  <a:lnTo>
                    <a:pt x="200" y="406"/>
                  </a:lnTo>
                  <a:lnTo>
                    <a:pt x="141" y="384"/>
                  </a:lnTo>
                  <a:lnTo>
                    <a:pt x="92" y="356"/>
                  </a:lnTo>
                  <a:lnTo>
                    <a:pt x="52" y="326"/>
                  </a:lnTo>
                  <a:lnTo>
                    <a:pt x="25" y="292"/>
                  </a:lnTo>
                  <a:lnTo>
                    <a:pt x="6" y="258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114720" y="4635360"/>
              <a:ext cx="1401840" cy="701640"/>
            </a:xfrm>
            <a:custGeom>
              <a:avLst/>
              <a:gdLst/>
              <a:ahLst/>
              <a:rect l="l" t="t" r="r" b="b"/>
              <a:pathLst>
                <a:path w="883" h="442">
                  <a:moveTo>
                    <a:pt x="0" y="221"/>
                  </a:moveTo>
                  <a:lnTo>
                    <a:pt x="6" y="184"/>
                  </a:lnTo>
                  <a:lnTo>
                    <a:pt x="24" y="150"/>
                  </a:lnTo>
                  <a:lnTo>
                    <a:pt x="52" y="116"/>
                  </a:lnTo>
                  <a:lnTo>
                    <a:pt x="92" y="86"/>
                  </a:lnTo>
                  <a:lnTo>
                    <a:pt x="141" y="58"/>
                  </a:lnTo>
                  <a:lnTo>
                    <a:pt x="199" y="37"/>
                  </a:lnTo>
                  <a:lnTo>
                    <a:pt x="263" y="18"/>
                  </a:lnTo>
                  <a:lnTo>
                    <a:pt x="334" y="6"/>
                  </a:lnTo>
                  <a:lnTo>
                    <a:pt x="405" y="0"/>
                  </a:lnTo>
                  <a:lnTo>
                    <a:pt x="478" y="0"/>
                  </a:lnTo>
                  <a:lnTo>
                    <a:pt x="549" y="6"/>
                  </a:lnTo>
                  <a:lnTo>
                    <a:pt x="619" y="18"/>
                  </a:lnTo>
                  <a:lnTo>
                    <a:pt x="684" y="37"/>
                  </a:lnTo>
                  <a:lnTo>
                    <a:pt x="739" y="58"/>
                  </a:lnTo>
                  <a:lnTo>
                    <a:pt x="791" y="86"/>
                  </a:lnTo>
                  <a:lnTo>
                    <a:pt x="831" y="116"/>
                  </a:lnTo>
                  <a:lnTo>
                    <a:pt x="859" y="150"/>
                  </a:lnTo>
                  <a:lnTo>
                    <a:pt x="877" y="184"/>
                  </a:lnTo>
                  <a:lnTo>
                    <a:pt x="883" y="221"/>
                  </a:lnTo>
                  <a:lnTo>
                    <a:pt x="877" y="258"/>
                  </a:lnTo>
                  <a:lnTo>
                    <a:pt x="859" y="291"/>
                  </a:lnTo>
                  <a:lnTo>
                    <a:pt x="831" y="325"/>
                  </a:lnTo>
                  <a:lnTo>
                    <a:pt x="791" y="356"/>
                  </a:lnTo>
                  <a:lnTo>
                    <a:pt x="739" y="384"/>
                  </a:lnTo>
                  <a:lnTo>
                    <a:pt x="684" y="405"/>
                  </a:lnTo>
                  <a:lnTo>
                    <a:pt x="619" y="423"/>
                  </a:lnTo>
                  <a:lnTo>
                    <a:pt x="549" y="436"/>
                  </a:lnTo>
                  <a:lnTo>
                    <a:pt x="478" y="442"/>
                  </a:lnTo>
                  <a:lnTo>
                    <a:pt x="405" y="442"/>
                  </a:lnTo>
                  <a:lnTo>
                    <a:pt x="334" y="436"/>
                  </a:lnTo>
                  <a:lnTo>
                    <a:pt x="263" y="423"/>
                  </a:lnTo>
                  <a:lnTo>
                    <a:pt x="199" y="405"/>
                  </a:lnTo>
                  <a:lnTo>
                    <a:pt x="141" y="384"/>
                  </a:lnTo>
                  <a:lnTo>
                    <a:pt x="92" y="356"/>
                  </a:lnTo>
                  <a:lnTo>
                    <a:pt x="52" y="325"/>
                  </a:lnTo>
                  <a:lnTo>
                    <a:pt x="24" y="291"/>
                  </a:lnTo>
                  <a:lnTo>
                    <a:pt x="6" y="258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08040" y="4703760"/>
              <a:ext cx="1089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637080" y="498636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114720" y="5862600"/>
              <a:ext cx="1401840" cy="352440"/>
            </a:xfrm>
            <a:custGeom>
              <a:avLst/>
              <a:gdLst/>
              <a:ahLst/>
              <a:rect l="l" t="t" r="r" b="b"/>
              <a:pathLst>
                <a:path w="883" h="222">
                  <a:moveTo>
                    <a:pt x="0" y="0"/>
                  </a:moveTo>
                  <a:lnTo>
                    <a:pt x="6" y="34"/>
                  </a:lnTo>
                  <a:lnTo>
                    <a:pt x="21" y="68"/>
                  </a:lnTo>
                  <a:lnTo>
                    <a:pt x="49" y="102"/>
                  </a:lnTo>
                  <a:lnTo>
                    <a:pt x="82" y="129"/>
                  </a:lnTo>
                  <a:lnTo>
                    <a:pt x="128" y="157"/>
                  </a:lnTo>
                  <a:lnTo>
                    <a:pt x="181" y="179"/>
                  </a:lnTo>
                  <a:lnTo>
                    <a:pt x="242" y="197"/>
                  </a:lnTo>
                  <a:lnTo>
                    <a:pt x="303" y="209"/>
                  </a:lnTo>
                  <a:lnTo>
                    <a:pt x="371" y="218"/>
                  </a:lnTo>
                  <a:lnTo>
                    <a:pt x="441" y="222"/>
                  </a:lnTo>
                  <a:lnTo>
                    <a:pt x="509" y="218"/>
                  </a:lnTo>
                  <a:lnTo>
                    <a:pt x="576" y="209"/>
                  </a:lnTo>
                  <a:lnTo>
                    <a:pt x="641" y="197"/>
                  </a:lnTo>
                  <a:lnTo>
                    <a:pt x="702" y="179"/>
                  </a:lnTo>
                  <a:lnTo>
                    <a:pt x="754" y="157"/>
                  </a:lnTo>
                  <a:lnTo>
                    <a:pt x="797" y="129"/>
                  </a:lnTo>
                  <a:lnTo>
                    <a:pt x="834" y="102"/>
                  </a:lnTo>
                  <a:lnTo>
                    <a:pt x="862" y="68"/>
                  </a:lnTo>
                  <a:lnTo>
                    <a:pt x="877" y="34"/>
                  </a:lnTo>
                  <a:lnTo>
                    <a:pt x="883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114720" y="4986360"/>
              <a:ext cx="1440" cy="876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516560" y="4986360"/>
              <a:ext cx="1440" cy="876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938320" y="5688000"/>
              <a:ext cx="176400" cy="174600"/>
            </a:xfrm>
            <a:custGeom>
              <a:avLst/>
              <a:gdLst/>
              <a:ahLst/>
              <a:rect l="l" t="t" r="r" b="b"/>
              <a:pathLst>
                <a:path w="111" h="110">
                  <a:moveTo>
                    <a:pt x="0" y="0"/>
                  </a:moveTo>
                  <a:lnTo>
                    <a:pt x="12" y="34"/>
                  </a:lnTo>
                  <a:lnTo>
                    <a:pt x="37" y="68"/>
                  </a:lnTo>
                  <a:lnTo>
                    <a:pt x="71" y="92"/>
                  </a:lnTo>
                  <a:lnTo>
                    <a:pt x="111" y="1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692600" y="4459320"/>
              <a:ext cx="1403280" cy="701640"/>
            </a:xfrm>
            <a:custGeom>
              <a:avLst/>
              <a:gdLst/>
              <a:ahLst/>
              <a:rect l="l" t="t" r="r" b="b"/>
              <a:pathLst>
                <a:path w="884" h="442">
                  <a:moveTo>
                    <a:pt x="0" y="221"/>
                  </a:moveTo>
                  <a:lnTo>
                    <a:pt x="6" y="185"/>
                  </a:lnTo>
                  <a:lnTo>
                    <a:pt x="24" y="151"/>
                  </a:lnTo>
                  <a:lnTo>
                    <a:pt x="52" y="117"/>
                  </a:lnTo>
                  <a:lnTo>
                    <a:pt x="92" y="86"/>
                  </a:lnTo>
                  <a:lnTo>
                    <a:pt x="141" y="59"/>
                  </a:lnTo>
                  <a:lnTo>
                    <a:pt x="199" y="37"/>
                  </a:lnTo>
                  <a:lnTo>
                    <a:pt x="264" y="19"/>
                  </a:lnTo>
                  <a:lnTo>
                    <a:pt x="334" y="6"/>
                  </a:lnTo>
                  <a:lnTo>
                    <a:pt x="405" y="0"/>
                  </a:lnTo>
                  <a:lnTo>
                    <a:pt x="479" y="0"/>
                  </a:lnTo>
                  <a:lnTo>
                    <a:pt x="549" y="6"/>
                  </a:lnTo>
                  <a:lnTo>
                    <a:pt x="620" y="19"/>
                  </a:lnTo>
                  <a:lnTo>
                    <a:pt x="684" y="37"/>
                  </a:lnTo>
                  <a:lnTo>
                    <a:pt x="739" y="59"/>
                  </a:lnTo>
                  <a:lnTo>
                    <a:pt x="792" y="86"/>
                  </a:lnTo>
                  <a:lnTo>
                    <a:pt x="831" y="117"/>
                  </a:lnTo>
                  <a:lnTo>
                    <a:pt x="859" y="151"/>
                  </a:lnTo>
                  <a:lnTo>
                    <a:pt x="877" y="185"/>
                  </a:lnTo>
                  <a:lnTo>
                    <a:pt x="884" y="221"/>
                  </a:lnTo>
                  <a:lnTo>
                    <a:pt x="877" y="258"/>
                  </a:lnTo>
                  <a:lnTo>
                    <a:pt x="859" y="292"/>
                  </a:lnTo>
                  <a:lnTo>
                    <a:pt x="831" y="326"/>
                  </a:lnTo>
                  <a:lnTo>
                    <a:pt x="792" y="356"/>
                  </a:lnTo>
                  <a:lnTo>
                    <a:pt x="739" y="384"/>
                  </a:lnTo>
                  <a:lnTo>
                    <a:pt x="684" y="406"/>
                  </a:lnTo>
                  <a:lnTo>
                    <a:pt x="620" y="424"/>
                  </a:lnTo>
                  <a:lnTo>
                    <a:pt x="549" y="436"/>
                  </a:lnTo>
                  <a:lnTo>
                    <a:pt x="479" y="442"/>
                  </a:lnTo>
                  <a:lnTo>
                    <a:pt x="405" y="442"/>
                  </a:lnTo>
                  <a:lnTo>
                    <a:pt x="334" y="436"/>
                  </a:lnTo>
                  <a:lnTo>
                    <a:pt x="264" y="424"/>
                  </a:lnTo>
                  <a:lnTo>
                    <a:pt x="199" y="406"/>
                  </a:lnTo>
                  <a:lnTo>
                    <a:pt x="141" y="384"/>
                  </a:lnTo>
                  <a:lnTo>
                    <a:pt x="92" y="356"/>
                  </a:lnTo>
                  <a:lnTo>
                    <a:pt x="52" y="326"/>
                  </a:lnTo>
                  <a:lnTo>
                    <a:pt x="24" y="292"/>
                  </a:lnTo>
                  <a:lnTo>
                    <a:pt x="6" y="258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950000" y="4527720"/>
              <a:ext cx="975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ctiona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885560" y="4809960"/>
              <a:ext cx="1085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map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692600" y="5688000"/>
              <a:ext cx="1403280" cy="351000"/>
            </a:xfrm>
            <a:custGeom>
              <a:avLst/>
              <a:gdLst/>
              <a:ahLst/>
              <a:rect l="l" t="t" r="r" b="b"/>
              <a:pathLst>
                <a:path w="884" h="221">
                  <a:moveTo>
                    <a:pt x="0" y="0"/>
                  </a:moveTo>
                  <a:lnTo>
                    <a:pt x="6" y="34"/>
                  </a:lnTo>
                  <a:lnTo>
                    <a:pt x="21" y="68"/>
                  </a:lnTo>
                  <a:lnTo>
                    <a:pt x="49" y="101"/>
                  </a:lnTo>
                  <a:lnTo>
                    <a:pt x="83" y="129"/>
                  </a:lnTo>
                  <a:lnTo>
                    <a:pt x="129" y="157"/>
                  </a:lnTo>
                  <a:lnTo>
                    <a:pt x="181" y="178"/>
                  </a:lnTo>
                  <a:lnTo>
                    <a:pt x="242" y="196"/>
                  </a:lnTo>
                  <a:lnTo>
                    <a:pt x="304" y="209"/>
                  </a:lnTo>
                  <a:lnTo>
                    <a:pt x="371" y="218"/>
                  </a:lnTo>
                  <a:lnTo>
                    <a:pt x="442" y="221"/>
                  </a:lnTo>
                  <a:lnTo>
                    <a:pt x="509" y="218"/>
                  </a:lnTo>
                  <a:lnTo>
                    <a:pt x="577" y="209"/>
                  </a:lnTo>
                  <a:lnTo>
                    <a:pt x="641" y="196"/>
                  </a:lnTo>
                  <a:lnTo>
                    <a:pt x="703" y="178"/>
                  </a:lnTo>
                  <a:lnTo>
                    <a:pt x="755" y="157"/>
                  </a:lnTo>
                  <a:lnTo>
                    <a:pt x="798" y="129"/>
                  </a:lnTo>
                  <a:lnTo>
                    <a:pt x="835" y="101"/>
                  </a:lnTo>
                  <a:lnTo>
                    <a:pt x="862" y="68"/>
                  </a:lnTo>
                  <a:lnTo>
                    <a:pt x="877" y="34"/>
                  </a:lnTo>
                  <a:lnTo>
                    <a:pt x="884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692600" y="4809960"/>
              <a:ext cx="1800" cy="878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095880" y="4809960"/>
              <a:ext cx="1800" cy="878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698520" y="3265560"/>
              <a:ext cx="1559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938320" y="3757680"/>
              <a:ext cx="3157560" cy="35064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916800" y="3792600"/>
              <a:ext cx="126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daiSes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516560" y="3056040"/>
              <a:ext cx="1440" cy="5270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452840" y="2881440"/>
              <a:ext cx="127080" cy="188640"/>
            </a:xfrm>
            <a:custGeom>
              <a:avLst/>
              <a:gdLst/>
              <a:ahLst/>
              <a:rect l="l" t="t" r="r" b="b"/>
              <a:pathLst>
                <a:path w="80" h="119">
                  <a:moveTo>
                    <a:pt x="0" y="119"/>
                  </a:moveTo>
                  <a:lnTo>
                    <a:pt x="40" y="0"/>
                  </a:lnTo>
                  <a:lnTo>
                    <a:pt x="80" y="119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452840" y="3562200"/>
              <a:ext cx="127080" cy="195480"/>
            </a:xfrm>
            <a:custGeom>
              <a:avLst/>
              <a:gdLst/>
              <a:ahLst/>
              <a:rect l="l" t="t" r="r" b="b"/>
              <a:pathLst>
                <a:path w="80" h="123">
                  <a:moveTo>
                    <a:pt x="80" y="0"/>
                  </a:moveTo>
                  <a:lnTo>
                    <a:pt x="40" y="123"/>
                  </a:lnTo>
                  <a:lnTo>
                    <a:pt x="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639960" y="3055680"/>
              <a:ext cx="1800" cy="122868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576600" y="4264200"/>
              <a:ext cx="127080" cy="195120"/>
            </a:xfrm>
            <a:custGeom>
              <a:avLst/>
              <a:gdLst/>
              <a:ahLst/>
              <a:rect l="l" t="t" r="r" b="b"/>
              <a:pathLst>
                <a:path w="80" h="123">
                  <a:moveTo>
                    <a:pt x="80" y="0"/>
                  </a:moveTo>
                  <a:lnTo>
                    <a:pt x="40" y="123"/>
                  </a:lnTo>
                  <a:lnTo>
                    <a:pt x="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76600" y="2881440"/>
              <a:ext cx="127080" cy="188640"/>
            </a:xfrm>
            <a:custGeom>
              <a:avLst/>
              <a:gdLst/>
              <a:ahLst/>
              <a:rect l="l" t="t" r="r" b="b"/>
              <a:pathLst>
                <a:path w="80" h="119">
                  <a:moveTo>
                    <a:pt x="0" y="119"/>
                  </a:moveTo>
                  <a:lnTo>
                    <a:pt x="40" y="0"/>
                  </a:lnTo>
                  <a:lnTo>
                    <a:pt x="80" y="119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5394240" y="3056040"/>
              <a:ext cx="1800" cy="140328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330880" y="2881440"/>
              <a:ext cx="127080" cy="188640"/>
            </a:xfrm>
            <a:custGeom>
              <a:avLst/>
              <a:gdLst/>
              <a:ahLst/>
              <a:rect l="l" t="t" r="r" b="b"/>
              <a:pathLst>
                <a:path w="80" h="119">
                  <a:moveTo>
                    <a:pt x="0" y="119"/>
                  </a:moveTo>
                  <a:lnTo>
                    <a:pt x="40" y="0"/>
                  </a:lnTo>
                  <a:lnTo>
                    <a:pt x="80" y="119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80360" y="318780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796920" y="318780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702320" y="304632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633560" y="33289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p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938320" y="4809960"/>
              <a:ext cx="1800" cy="878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395280" y="3757680"/>
            <a:ext cx="2543040" cy="2368440"/>
            <a:chOff x="395280" y="3757680"/>
            <a:chExt cx="2543040" cy="2368440"/>
          </a:xfrm>
        </p:grpSpPr>
        <p:sp>
          <p:nvSpPr>
            <p:cNvPr id="362" name=""/>
            <p:cNvSpPr/>
            <p:nvPr/>
          </p:nvSpPr>
          <p:spPr>
            <a:xfrm>
              <a:off x="395280" y="4108320"/>
              <a:ext cx="1577880" cy="201780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82760" y="4459320"/>
              <a:ext cx="1403280" cy="701640"/>
            </a:xfrm>
            <a:custGeom>
              <a:avLst/>
              <a:gdLst/>
              <a:ahLst/>
              <a:rect l="l" t="t" r="r" b="b"/>
              <a:pathLst>
                <a:path w="884" h="442">
                  <a:moveTo>
                    <a:pt x="0" y="221"/>
                  </a:moveTo>
                  <a:lnTo>
                    <a:pt x="7" y="185"/>
                  </a:lnTo>
                  <a:lnTo>
                    <a:pt x="25" y="151"/>
                  </a:lnTo>
                  <a:lnTo>
                    <a:pt x="53" y="117"/>
                  </a:lnTo>
                  <a:lnTo>
                    <a:pt x="93" y="86"/>
                  </a:lnTo>
                  <a:lnTo>
                    <a:pt x="142" y="59"/>
                  </a:lnTo>
                  <a:lnTo>
                    <a:pt x="200" y="37"/>
                  </a:lnTo>
                  <a:lnTo>
                    <a:pt x="264" y="19"/>
                  </a:lnTo>
                  <a:lnTo>
                    <a:pt x="335" y="6"/>
                  </a:lnTo>
                  <a:lnTo>
                    <a:pt x="406" y="0"/>
                  </a:lnTo>
                  <a:lnTo>
                    <a:pt x="479" y="0"/>
                  </a:lnTo>
                  <a:lnTo>
                    <a:pt x="550" y="6"/>
                  </a:lnTo>
                  <a:lnTo>
                    <a:pt x="620" y="19"/>
                  </a:lnTo>
                  <a:lnTo>
                    <a:pt x="685" y="37"/>
                  </a:lnTo>
                  <a:lnTo>
                    <a:pt x="740" y="59"/>
                  </a:lnTo>
                  <a:lnTo>
                    <a:pt x="792" y="86"/>
                  </a:lnTo>
                  <a:lnTo>
                    <a:pt x="832" y="117"/>
                  </a:lnTo>
                  <a:lnTo>
                    <a:pt x="860" y="151"/>
                  </a:lnTo>
                  <a:lnTo>
                    <a:pt x="878" y="185"/>
                  </a:lnTo>
                  <a:lnTo>
                    <a:pt x="884" y="221"/>
                  </a:lnTo>
                  <a:lnTo>
                    <a:pt x="878" y="258"/>
                  </a:lnTo>
                  <a:lnTo>
                    <a:pt x="860" y="292"/>
                  </a:lnTo>
                  <a:lnTo>
                    <a:pt x="832" y="326"/>
                  </a:lnTo>
                  <a:lnTo>
                    <a:pt x="792" y="356"/>
                  </a:lnTo>
                  <a:lnTo>
                    <a:pt x="740" y="384"/>
                  </a:lnTo>
                  <a:lnTo>
                    <a:pt x="685" y="406"/>
                  </a:lnTo>
                  <a:lnTo>
                    <a:pt x="620" y="424"/>
                  </a:lnTo>
                  <a:lnTo>
                    <a:pt x="550" y="436"/>
                  </a:lnTo>
                  <a:lnTo>
                    <a:pt x="479" y="442"/>
                  </a:lnTo>
                  <a:lnTo>
                    <a:pt x="406" y="442"/>
                  </a:lnTo>
                  <a:lnTo>
                    <a:pt x="335" y="436"/>
                  </a:lnTo>
                  <a:lnTo>
                    <a:pt x="264" y="424"/>
                  </a:lnTo>
                  <a:lnTo>
                    <a:pt x="200" y="406"/>
                  </a:lnTo>
                  <a:lnTo>
                    <a:pt x="142" y="384"/>
                  </a:lnTo>
                  <a:lnTo>
                    <a:pt x="93" y="356"/>
                  </a:lnTo>
                  <a:lnTo>
                    <a:pt x="53" y="326"/>
                  </a:lnTo>
                  <a:lnTo>
                    <a:pt x="25" y="292"/>
                  </a:lnTo>
                  <a:lnTo>
                    <a:pt x="7" y="258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65720" y="4527720"/>
              <a:ext cx="81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946440" y="4809960"/>
              <a:ext cx="45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p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82760" y="5688000"/>
              <a:ext cx="1403280" cy="351000"/>
            </a:xfrm>
            <a:custGeom>
              <a:avLst/>
              <a:gdLst/>
              <a:ahLst/>
              <a:rect l="l" t="t" r="r" b="b"/>
              <a:pathLst>
                <a:path w="884" h="221">
                  <a:moveTo>
                    <a:pt x="0" y="0"/>
                  </a:moveTo>
                  <a:lnTo>
                    <a:pt x="7" y="34"/>
                  </a:lnTo>
                  <a:lnTo>
                    <a:pt x="22" y="68"/>
                  </a:lnTo>
                  <a:lnTo>
                    <a:pt x="50" y="101"/>
                  </a:lnTo>
                  <a:lnTo>
                    <a:pt x="83" y="129"/>
                  </a:lnTo>
                  <a:lnTo>
                    <a:pt x="129" y="157"/>
                  </a:lnTo>
                  <a:lnTo>
                    <a:pt x="181" y="178"/>
                  </a:lnTo>
                  <a:lnTo>
                    <a:pt x="243" y="196"/>
                  </a:lnTo>
                  <a:lnTo>
                    <a:pt x="304" y="209"/>
                  </a:lnTo>
                  <a:lnTo>
                    <a:pt x="372" y="218"/>
                  </a:lnTo>
                  <a:lnTo>
                    <a:pt x="442" y="221"/>
                  </a:lnTo>
                  <a:lnTo>
                    <a:pt x="510" y="218"/>
                  </a:lnTo>
                  <a:lnTo>
                    <a:pt x="577" y="209"/>
                  </a:lnTo>
                  <a:lnTo>
                    <a:pt x="642" y="196"/>
                  </a:lnTo>
                  <a:lnTo>
                    <a:pt x="703" y="178"/>
                  </a:lnTo>
                  <a:lnTo>
                    <a:pt x="755" y="157"/>
                  </a:lnTo>
                  <a:lnTo>
                    <a:pt x="798" y="129"/>
                  </a:lnTo>
                  <a:lnTo>
                    <a:pt x="835" y="101"/>
                  </a:lnTo>
                  <a:lnTo>
                    <a:pt x="863" y="68"/>
                  </a:lnTo>
                  <a:lnTo>
                    <a:pt x="878" y="34"/>
                  </a:lnTo>
                  <a:lnTo>
                    <a:pt x="884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82760" y="4809960"/>
              <a:ext cx="1440" cy="878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886040" y="4809960"/>
              <a:ext cx="1440" cy="878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95280" y="3757680"/>
              <a:ext cx="1577880" cy="35064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42160" y="3792600"/>
              <a:ext cx="1242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Sdai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149560" y="3933720"/>
              <a:ext cx="614160" cy="18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973160" y="3870360"/>
              <a:ext cx="190440" cy="127080"/>
            </a:xfrm>
            <a:custGeom>
              <a:avLst/>
              <a:gdLst/>
              <a:ahLst/>
              <a:rect l="l" t="t" r="r" b="b"/>
              <a:pathLst>
                <a:path w="120" h="80">
                  <a:moveTo>
                    <a:pt x="120" y="80"/>
                  </a:moveTo>
                  <a:lnTo>
                    <a:pt x="0" y="40"/>
                  </a:lnTo>
                  <a:lnTo>
                    <a:pt x="120" y="0"/>
                  </a:lnTo>
                  <a:lnTo>
                    <a:pt x="12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743200" y="3870360"/>
              <a:ext cx="195120" cy="127080"/>
            </a:xfrm>
            <a:custGeom>
              <a:avLst/>
              <a:gdLst/>
              <a:ahLst/>
              <a:rect l="l" t="t" r="r" b="b"/>
              <a:pathLst>
                <a:path w="123" h="80">
                  <a:moveTo>
                    <a:pt x="0" y="0"/>
                  </a:moveTo>
                  <a:lnTo>
                    <a:pt x="123" y="40"/>
                  </a:lnTo>
                  <a:lnTo>
                    <a:pt x="0" y="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184400" y="4108320"/>
              <a:ext cx="1440" cy="1764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120680" y="4264200"/>
              <a:ext cx="127080" cy="195120"/>
            </a:xfrm>
            <a:custGeom>
              <a:avLst/>
              <a:gdLst/>
              <a:ahLst/>
              <a:rect l="l" t="t" r="r" b="b"/>
              <a:pathLst>
                <a:path w="80" h="123">
                  <a:moveTo>
                    <a:pt x="80" y="0"/>
                  </a:moveTo>
                  <a:lnTo>
                    <a:pt x="40" y="123"/>
                  </a:lnTo>
                  <a:lnTo>
                    <a:pt x="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6095880" y="3870360"/>
            <a:ext cx="2281320" cy="2168640"/>
            <a:chOff x="6095880" y="3870360"/>
            <a:chExt cx="2281320" cy="2168640"/>
          </a:xfrm>
        </p:grpSpPr>
        <p:sp>
          <p:nvSpPr>
            <p:cNvPr id="377" name=""/>
            <p:cNvSpPr/>
            <p:nvPr/>
          </p:nvSpPr>
          <p:spPr>
            <a:xfrm>
              <a:off x="6972480" y="4459320"/>
              <a:ext cx="1403280" cy="701640"/>
            </a:xfrm>
            <a:custGeom>
              <a:avLst/>
              <a:gdLst/>
              <a:ahLst/>
              <a:rect l="l" t="t" r="r" b="b"/>
              <a:pathLst>
                <a:path w="884" h="442">
                  <a:moveTo>
                    <a:pt x="0" y="221"/>
                  </a:moveTo>
                  <a:lnTo>
                    <a:pt x="6" y="185"/>
                  </a:lnTo>
                  <a:lnTo>
                    <a:pt x="25" y="151"/>
                  </a:lnTo>
                  <a:lnTo>
                    <a:pt x="52" y="117"/>
                  </a:lnTo>
                  <a:lnTo>
                    <a:pt x="92" y="86"/>
                  </a:lnTo>
                  <a:lnTo>
                    <a:pt x="141" y="59"/>
                  </a:lnTo>
                  <a:lnTo>
                    <a:pt x="199" y="37"/>
                  </a:lnTo>
                  <a:lnTo>
                    <a:pt x="264" y="19"/>
                  </a:lnTo>
                  <a:lnTo>
                    <a:pt x="334" y="6"/>
                  </a:lnTo>
                  <a:lnTo>
                    <a:pt x="405" y="0"/>
                  </a:lnTo>
                  <a:lnTo>
                    <a:pt x="479" y="0"/>
                  </a:lnTo>
                  <a:lnTo>
                    <a:pt x="549" y="6"/>
                  </a:lnTo>
                  <a:lnTo>
                    <a:pt x="620" y="19"/>
                  </a:lnTo>
                  <a:lnTo>
                    <a:pt x="684" y="37"/>
                  </a:lnTo>
                  <a:lnTo>
                    <a:pt x="740" y="59"/>
                  </a:lnTo>
                  <a:lnTo>
                    <a:pt x="792" y="86"/>
                  </a:lnTo>
                  <a:lnTo>
                    <a:pt x="832" y="117"/>
                  </a:lnTo>
                  <a:lnTo>
                    <a:pt x="859" y="151"/>
                  </a:lnTo>
                  <a:lnTo>
                    <a:pt x="878" y="185"/>
                  </a:lnTo>
                  <a:lnTo>
                    <a:pt x="884" y="221"/>
                  </a:lnTo>
                  <a:lnTo>
                    <a:pt x="878" y="258"/>
                  </a:lnTo>
                  <a:lnTo>
                    <a:pt x="859" y="292"/>
                  </a:lnTo>
                  <a:lnTo>
                    <a:pt x="832" y="326"/>
                  </a:lnTo>
                  <a:lnTo>
                    <a:pt x="792" y="356"/>
                  </a:lnTo>
                  <a:lnTo>
                    <a:pt x="740" y="384"/>
                  </a:lnTo>
                  <a:lnTo>
                    <a:pt x="684" y="406"/>
                  </a:lnTo>
                  <a:lnTo>
                    <a:pt x="620" y="424"/>
                  </a:lnTo>
                  <a:lnTo>
                    <a:pt x="549" y="436"/>
                  </a:lnTo>
                  <a:lnTo>
                    <a:pt x="479" y="442"/>
                  </a:lnTo>
                  <a:lnTo>
                    <a:pt x="405" y="442"/>
                  </a:lnTo>
                  <a:lnTo>
                    <a:pt x="334" y="436"/>
                  </a:lnTo>
                  <a:lnTo>
                    <a:pt x="264" y="424"/>
                  </a:lnTo>
                  <a:lnTo>
                    <a:pt x="199" y="406"/>
                  </a:lnTo>
                  <a:lnTo>
                    <a:pt x="141" y="384"/>
                  </a:lnTo>
                  <a:lnTo>
                    <a:pt x="92" y="356"/>
                  </a:lnTo>
                  <a:lnTo>
                    <a:pt x="52" y="326"/>
                  </a:lnTo>
                  <a:lnTo>
                    <a:pt x="25" y="292"/>
                  </a:lnTo>
                  <a:lnTo>
                    <a:pt x="6" y="258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146000" y="4668840"/>
              <a:ext cx="1128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t21-fi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72480" y="5688000"/>
              <a:ext cx="1403280" cy="351000"/>
            </a:xfrm>
            <a:custGeom>
              <a:avLst/>
              <a:gdLst/>
              <a:ahLst/>
              <a:rect l="l" t="t" r="r" b="b"/>
              <a:pathLst>
                <a:path w="884" h="221">
                  <a:moveTo>
                    <a:pt x="0" y="0"/>
                  </a:moveTo>
                  <a:lnTo>
                    <a:pt x="6" y="34"/>
                  </a:lnTo>
                  <a:lnTo>
                    <a:pt x="21" y="68"/>
                  </a:lnTo>
                  <a:lnTo>
                    <a:pt x="49" y="101"/>
                  </a:lnTo>
                  <a:lnTo>
                    <a:pt x="83" y="129"/>
                  </a:lnTo>
                  <a:lnTo>
                    <a:pt x="129" y="157"/>
                  </a:lnTo>
                  <a:lnTo>
                    <a:pt x="181" y="178"/>
                  </a:lnTo>
                  <a:lnTo>
                    <a:pt x="242" y="196"/>
                  </a:lnTo>
                  <a:lnTo>
                    <a:pt x="304" y="209"/>
                  </a:lnTo>
                  <a:lnTo>
                    <a:pt x="371" y="218"/>
                  </a:lnTo>
                  <a:lnTo>
                    <a:pt x="442" y="221"/>
                  </a:lnTo>
                  <a:lnTo>
                    <a:pt x="509" y="218"/>
                  </a:lnTo>
                  <a:lnTo>
                    <a:pt x="577" y="209"/>
                  </a:lnTo>
                  <a:lnTo>
                    <a:pt x="641" y="196"/>
                  </a:lnTo>
                  <a:lnTo>
                    <a:pt x="703" y="178"/>
                  </a:lnTo>
                  <a:lnTo>
                    <a:pt x="755" y="157"/>
                  </a:lnTo>
                  <a:lnTo>
                    <a:pt x="798" y="129"/>
                  </a:lnTo>
                  <a:lnTo>
                    <a:pt x="835" y="101"/>
                  </a:lnTo>
                  <a:lnTo>
                    <a:pt x="862" y="68"/>
                  </a:lnTo>
                  <a:lnTo>
                    <a:pt x="878" y="34"/>
                  </a:lnTo>
                  <a:lnTo>
                    <a:pt x="884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972480" y="4809960"/>
              <a:ext cx="1440" cy="878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375760" y="4809960"/>
              <a:ext cx="1440" cy="878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270480" y="3933720"/>
              <a:ext cx="1403640" cy="18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95880" y="3870360"/>
              <a:ext cx="189000" cy="127080"/>
            </a:xfrm>
            <a:custGeom>
              <a:avLst/>
              <a:gdLst/>
              <a:ahLst/>
              <a:rect l="l" t="t" r="r" b="b"/>
              <a:pathLst>
                <a:path w="119" h="80">
                  <a:moveTo>
                    <a:pt x="119" y="80"/>
                  </a:moveTo>
                  <a:lnTo>
                    <a:pt x="0" y="40"/>
                  </a:lnTo>
                  <a:lnTo>
                    <a:pt x="119" y="0"/>
                  </a:lnTo>
                  <a:lnTo>
                    <a:pt x="119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7674120" y="3933360"/>
              <a:ext cx="1440" cy="3510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610400" y="4264200"/>
              <a:ext cx="127080" cy="195120"/>
            </a:xfrm>
            <a:custGeom>
              <a:avLst/>
              <a:gdLst/>
              <a:ahLst/>
              <a:rect l="l" t="t" r="r" b="b"/>
              <a:pathLst>
                <a:path w="80" h="123">
                  <a:moveTo>
                    <a:pt x="80" y="0"/>
                  </a:moveTo>
                  <a:lnTo>
                    <a:pt x="40" y="123"/>
                  </a:lnTo>
                  <a:lnTo>
                    <a:pt x="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2763720" y="73080"/>
            <a:ext cx="5174640" cy="2457360"/>
            <a:chOff x="2763720" y="73080"/>
            <a:chExt cx="5174640" cy="2457360"/>
          </a:xfrm>
        </p:grpSpPr>
        <p:sp>
          <p:nvSpPr>
            <p:cNvPr id="387" name=""/>
            <p:cNvSpPr/>
            <p:nvPr/>
          </p:nvSpPr>
          <p:spPr>
            <a:xfrm>
              <a:off x="6709320" y="380880"/>
              <a:ext cx="1229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63720" y="73080"/>
              <a:ext cx="1227240" cy="70164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072960" y="141120"/>
              <a:ext cx="68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2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159720" y="42372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o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990960" y="73080"/>
              <a:ext cx="2279520" cy="70164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083560" y="282600"/>
              <a:ext cx="19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990960" y="950760"/>
              <a:ext cx="1440" cy="1746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927600" y="774720"/>
              <a:ext cx="126720" cy="190440"/>
            </a:xfrm>
            <a:custGeom>
              <a:avLst/>
              <a:gdLst/>
              <a:ahLst/>
              <a:rect l="l" t="t" r="r" b="b"/>
              <a:pathLst>
                <a:path w="80" h="120">
                  <a:moveTo>
                    <a:pt x="0" y="120"/>
                  </a:moveTo>
                  <a:lnTo>
                    <a:pt x="40" y="0"/>
                  </a:lnTo>
                  <a:lnTo>
                    <a:pt x="8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927600" y="1106640"/>
              <a:ext cx="126720" cy="195120"/>
            </a:xfrm>
            <a:custGeom>
              <a:avLst/>
              <a:gdLst/>
              <a:ahLst/>
              <a:rect l="l" t="t" r="r" b="b"/>
              <a:pathLst>
                <a:path w="80" h="123">
                  <a:moveTo>
                    <a:pt x="80" y="0"/>
                  </a:moveTo>
                  <a:lnTo>
                    <a:pt x="40" y="123"/>
                  </a:lnTo>
                  <a:lnTo>
                    <a:pt x="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68840" y="950760"/>
              <a:ext cx="1800" cy="14036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05480" y="774720"/>
              <a:ext cx="127080" cy="190440"/>
            </a:xfrm>
            <a:custGeom>
              <a:avLst/>
              <a:gdLst/>
              <a:ahLst/>
              <a:rect l="l" t="t" r="r" b="b"/>
              <a:pathLst>
                <a:path w="80" h="120">
                  <a:moveTo>
                    <a:pt x="0" y="120"/>
                  </a:moveTo>
                  <a:lnTo>
                    <a:pt x="40" y="0"/>
                  </a:lnTo>
                  <a:lnTo>
                    <a:pt x="8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05480" y="2335320"/>
              <a:ext cx="127080" cy="195120"/>
            </a:xfrm>
            <a:custGeom>
              <a:avLst/>
              <a:gdLst/>
              <a:ahLst/>
              <a:rect l="l" t="t" r="r" b="b"/>
              <a:pathLst>
                <a:path w="80" h="123">
                  <a:moveTo>
                    <a:pt x="80" y="0"/>
                  </a:moveTo>
                  <a:lnTo>
                    <a:pt x="40" y="123"/>
                  </a:lnTo>
                  <a:lnTo>
                    <a:pt x="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2763720" y="1170000"/>
            <a:ext cx="5221800" cy="1360440"/>
            <a:chOff x="2763720" y="1170000"/>
            <a:chExt cx="5221800" cy="1360440"/>
          </a:xfrm>
        </p:grpSpPr>
        <p:sp>
          <p:nvSpPr>
            <p:cNvPr id="400" name=""/>
            <p:cNvSpPr/>
            <p:nvPr/>
          </p:nvSpPr>
          <p:spPr>
            <a:xfrm>
              <a:off x="2763720" y="1301760"/>
              <a:ext cx="789120" cy="70164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019680" y="1370160"/>
              <a:ext cx="36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D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852280" y="1652760"/>
              <a:ext cx="697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ie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52840" y="1301760"/>
              <a:ext cx="701640" cy="70164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95400" y="1370160"/>
              <a:ext cx="508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D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678840" y="1652760"/>
              <a:ext cx="53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254480" y="1301760"/>
              <a:ext cx="701640" cy="70164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556520" y="1511280"/>
              <a:ext cx="19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916680" y="1170000"/>
              <a:ext cx="962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us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954840" y="1447920"/>
              <a:ext cx="90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806880" y="1730520"/>
              <a:ext cx="1178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9480" y="2013120"/>
              <a:ext cx="799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Bean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990960" y="2178000"/>
              <a:ext cx="1440" cy="1764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927600" y="2003400"/>
              <a:ext cx="126720" cy="190440"/>
            </a:xfrm>
            <a:custGeom>
              <a:avLst/>
              <a:gdLst/>
              <a:ahLst/>
              <a:rect l="l" t="t" r="r" b="b"/>
              <a:pathLst>
                <a:path w="80" h="120">
                  <a:moveTo>
                    <a:pt x="0" y="120"/>
                  </a:moveTo>
                  <a:lnTo>
                    <a:pt x="40" y="0"/>
                  </a:lnTo>
                  <a:lnTo>
                    <a:pt x="8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27600" y="2335320"/>
              <a:ext cx="126720" cy="195120"/>
            </a:xfrm>
            <a:custGeom>
              <a:avLst/>
              <a:gdLst/>
              <a:ahLst/>
              <a:rect l="l" t="t" r="r" b="b"/>
              <a:pathLst>
                <a:path w="80" h="123">
                  <a:moveTo>
                    <a:pt x="80" y="0"/>
                  </a:moveTo>
                  <a:lnTo>
                    <a:pt x="40" y="123"/>
                  </a:lnTo>
                  <a:lnTo>
                    <a:pt x="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024360" y="1371600"/>
              <a:ext cx="36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D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4DCA-394E-431D-9BFC-6CF5119B6FA0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457200" y="152280"/>
            <a:ext cx="8434440" cy="61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479760" y="5014800"/>
            <a:ext cx="4218120" cy="959040"/>
          </a:xfrm>
          <a:prstGeom prst="rect">
            <a:avLst/>
          </a:prstGeom>
          <a:solidFill>
            <a:srgbClr val="ccec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479760" y="289080"/>
            <a:ext cx="4218120" cy="4725720"/>
          </a:xfrm>
          <a:prstGeom prst="rect">
            <a:avLst/>
          </a:prstGeom>
          <a:solidFill>
            <a:srgbClr val="ffffcc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98320" y="1727280"/>
            <a:ext cx="2740320" cy="4246560"/>
          </a:xfrm>
          <a:prstGeom prst="rect">
            <a:avLst/>
          </a:prstGeom>
          <a:solidFill>
            <a:srgbClr val="99ffcc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518080" y="563400"/>
            <a:ext cx="1546200" cy="54792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518080" y="1454040"/>
            <a:ext cx="1546200" cy="54792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518080" y="3029040"/>
            <a:ext cx="1546200" cy="54756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518080" y="4194000"/>
            <a:ext cx="1546200" cy="54792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518080" y="631800"/>
            <a:ext cx="13352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650200" y="684360"/>
            <a:ext cx="1105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dai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518080" y="1522440"/>
            <a:ext cx="1687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628960" y="1574640"/>
            <a:ext cx="1411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dai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18080" y="3097080"/>
            <a:ext cx="14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44880" y="3149640"/>
            <a:ext cx="100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dai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518080" y="4262400"/>
            <a:ext cx="15462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780160" y="4314960"/>
            <a:ext cx="70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6238800" y="1111320"/>
            <a:ext cx="104760" cy="393480"/>
            <a:chOff x="6238800" y="1111320"/>
            <a:chExt cx="104760" cy="393480"/>
          </a:xfrm>
        </p:grpSpPr>
        <p:sp>
          <p:nvSpPr>
            <p:cNvPr id="433" name=""/>
            <p:cNvSpPr/>
            <p:nvPr/>
          </p:nvSpPr>
          <p:spPr>
            <a:xfrm>
              <a:off x="6291360" y="1111320"/>
              <a:ext cx="1440" cy="342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238800" y="1401840"/>
              <a:ext cx="104760" cy="1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6238800" y="1951200"/>
            <a:ext cx="104760" cy="1077840"/>
            <a:chOff x="6238800" y="1951200"/>
            <a:chExt cx="104760" cy="1077840"/>
          </a:xfrm>
        </p:grpSpPr>
        <p:sp>
          <p:nvSpPr>
            <p:cNvPr id="436" name=""/>
            <p:cNvSpPr/>
            <p:nvPr/>
          </p:nvSpPr>
          <p:spPr>
            <a:xfrm>
              <a:off x="6291360" y="200196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238800" y="1951200"/>
              <a:ext cx="104760" cy="101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6238800" y="3525840"/>
            <a:ext cx="104760" cy="668160"/>
            <a:chOff x="6238800" y="3525840"/>
            <a:chExt cx="104760" cy="668160"/>
          </a:xfrm>
        </p:grpSpPr>
        <p:sp>
          <p:nvSpPr>
            <p:cNvPr id="439" name=""/>
            <p:cNvSpPr/>
            <p:nvPr/>
          </p:nvSpPr>
          <p:spPr>
            <a:xfrm>
              <a:off x="6291360" y="3576600"/>
              <a:ext cx="1440" cy="617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238800" y="3525840"/>
              <a:ext cx="104760" cy="103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6291360" y="3800520"/>
            <a:ext cx="12999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410520" y="3851280"/>
            <a:ext cx="1148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owning_mod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815000" y="3800520"/>
            <a:ext cx="13716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8120" y="3851280"/>
            <a:ext cx="1213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INV) instanc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291360" y="1111320"/>
            <a:ext cx="1212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411960" y="1162080"/>
            <a:ext cx="1056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rvers S[1:?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066680" y="4194000"/>
            <a:ext cx="1990800" cy="54792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066680" y="3097080"/>
            <a:ext cx="1990800" cy="54792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12840" y="3218040"/>
            <a:ext cx="18972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140480" y="3270240"/>
            <a:ext cx="18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chema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00320" y="4313160"/>
            <a:ext cx="17222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190880" y="4365720"/>
            <a:ext cx="1707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Entity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3005280" y="3321000"/>
            <a:ext cx="2512440" cy="101520"/>
            <a:chOff x="3005280" y="3321000"/>
            <a:chExt cx="2512440" cy="101520"/>
          </a:xfrm>
        </p:grpSpPr>
        <p:sp>
          <p:nvSpPr>
            <p:cNvPr id="454" name=""/>
            <p:cNvSpPr/>
            <p:nvPr/>
          </p:nvSpPr>
          <p:spPr>
            <a:xfrm flipH="1">
              <a:off x="3057120" y="3371760"/>
              <a:ext cx="24606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005280" y="3321000"/>
              <a:ext cx="104760" cy="101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3005280" y="4416480"/>
            <a:ext cx="2512440" cy="102960"/>
            <a:chOff x="3005280" y="4416480"/>
            <a:chExt cx="2512440" cy="102960"/>
          </a:xfrm>
        </p:grpSpPr>
        <p:sp>
          <p:nvSpPr>
            <p:cNvPr id="457" name=""/>
            <p:cNvSpPr/>
            <p:nvPr/>
          </p:nvSpPr>
          <p:spPr>
            <a:xfrm flipH="1">
              <a:off x="3057120" y="4467240"/>
              <a:ext cx="246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005280" y="4416480"/>
              <a:ext cx="104760" cy="1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2127240" y="3594240"/>
            <a:ext cx="104760" cy="599400"/>
            <a:chOff x="2127240" y="3594240"/>
            <a:chExt cx="104760" cy="599400"/>
          </a:xfrm>
        </p:grpSpPr>
        <p:sp>
          <p:nvSpPr>
            <p:cNvPr id="460" name=""/>
            <p:cNvSpPr/>
            <p:nvPr/>
          </p:nvSpPr>
          <p:spPr>
            <a:xfrm flipV="1">
              <a:off x="2179800" y="3644640"/>
              <a:ext cx="1440" cy="549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127240" y="3594240"/>
              <a:ext cx="104760" cy="1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808200" y="3800520"/>
            <a:ext cx="13017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931320" y="3851280"/>
            <a:ext cx="114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arent_schem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619440" y="3371760"/>
            <a:ext cx="1635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732840" y="3422520"/>
            <a:ext cx="1497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underlying_schem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09760" y="357120"/>
            <a:ext cx="2935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23880" y="426960"/>
            <a:ext cx="2792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re SDAI Structu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253040" y="5153040"/>
            <a:ext cx="1690560" cy="47952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291360" y="5153040"/>
            <a:ext cx="1054080" cy="47952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200480" y="5221440"/>
            <a:ext cx="15987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85800" y="5273640"/>
            <a:ext cx="1591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Cartesian_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361200" y="5221440"/>
            <a:ext cx="8794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449400" y="5273640"/>
            <a:ext cx="85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4956120" y="4741920"/>
            <a:ext cx="1335240" cy="479520"/>
            <a:chOff x="4956120" y="4741920"/>
            <a:chExt cx="1335240" cy="479520"/>
          </a:xfrm>
        </p:grpSpPr>
        <p:sp>
          <p:nvSpPr>
            <p:cNvPr id="475" name=""/>
            <p:cNvSpPr/>
            <p:nvPr/>
          </p:nvSpPr>
          <p:spPr>
            <a:xfrm>
              <a:off x="5025960" y="4741920"/>
              <a:ext cx="1265400" cy="411120"/>
            </a:xfrm>
            <a:custGeom>
              <a:avLst/>
              <a:gdLst/>
              <a:ahLst/>
              <a:rect l="l" t="t" r="r" b="b"/>
              <a:pathLst>
                <a:path w="72" h="24">
                  <a:moveTo>
                    <a:pt x="72" y="0"/>
                  </a:moveTo>
                  <a:lnTo>
                    <a:pt x="72" y="12"/>
                  </a:lnTo>
                  <a:lnTo>
                    <a:pt x="0" y="12"/>
                  </a:lnTo>
                  <a:lnTo>
                    <a:pt x="0" y="24"/>
                  </a:lnTo>
                </a:path>
              </a:pathLst>
            </a:cu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956120" y="5084640"/>
              <a:ext cx="139680" cy="136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6291360" y="4741920"/>
            <a:ext cx="596880" cy="479520"/>
            <a:chOff x="6291360" y="4741920"/>
            <a:chExt cx="596880" cy="479520"/>
          </a:xfrm>
        </p:grpSpPr>
        <p:sp>
          <p:nvSpPr>
            <p:cNvPr id="478" name=""/>
            <p:cNvSpPr/>
            <p:nvPr/>
          </p:nvSpPr>
          <p:spPr>
            <a:xfrm>
              <a:off x="6291360" y="4741920"/>
              <a:ext cx="527040" cy="41112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0" y="0"/>
                  </a:moveTo>
                  <a:lnTo>
                    <a:pt x="0" y="12"/>
                  </a:lnTo>
                  <a:lnTo>
                    <a:pt x="30" y="12"/>
                  </a:lnTo>
                  <a:lnTo>
                    <a:pt x="30" y="24"/>
                  </a:lnTo>
                </a:path>
              </a:pathLst>
            </a:cu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748560" y="5084640"/>
              <a:ext cx="139680" cy="136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5799240" y="5084640"/>
            <a:ext cx="4222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000840" y="5153040"/>
            <a:ext cx="247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066680" y="5014800"/>
            <a:ext cx="1990800" cy="54936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371600" y="5153040"/>
            <a:ext cx="15638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756080" y="5203800"/>
            <a:ext cx="96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ttrib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2127240" y="4689360"/>
            <a:ext cx="104760" cy="325440"/>
            <a:chOff x="2127240" y="4689360"/>
            <a:chExt cx="104760" cy="325440"/>
          </a:xfrm>
        </p:grpSpPr>
        <p:sp>
          <p:nvSpPr>
            <p:cNvPr id="486" name=""/>
            <p:cNvSpPr/>
            <p:nvPr/>
          </p:nvSpPr>
          <p:spPr>
            <a:xfrm flipV="1">
              <a:off x="2179800" y="4741920"/>
              <a:ext cx="1440" cy="27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127240" y="4689360"/>
              <a:ext cx="104760" cy="103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598320" y="1797120"/>
            <a:ext cx="235440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7960" y="1847880"/>
            <a:ext cx="21099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DAI_dictionary_sch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sdai.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479760" y="289080"/>
            <a:ext cx="21081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68320" y="339840"/>
            <a:ext cx="1873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DAI_session_sch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sdai.la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837560" y="4194000"/>
            <a:ext cx="80784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980480" y="4245120"/>
            <a:ext cx="29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999200" y="4484520"/>
            <a:ext cx="62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985160" y="52372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r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999200" y="5477040"/>
            <a:ext cx="62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760920" y="2138400"/>
            <a:ext cx="1687320" cy="54756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760920" y="2206800"/>
            <a:ext cx="1687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67480" y="2259000"/>
            <a:ext cx="148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hemaIn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2127240" y="2413080"/>
            <a:ext cx="1633680" cy="736560"/>
            <a:chOff x="2127240" y="2413080"/>
            <a:chExt cx="1633680" cy="736560"/>
          </a:xfrm>
        </p:grpSpPr>
        <p:sp>
          <p:nvSpPr>
            <p:cNvPr id="501" name=""/>
            <p:cNvSpPr/>
            <p:nvPr/>
          </p:nvSpPr>
          <p:spPr>
            <a:xfrm>
              <a:off x="2179800" y="2413080"/>
              <a:ext cx="1581120" cy="684000"/>
            </a:xfrm>
            <a:custGeom>
              <a:avLst/>
              <a:gdLst/>
              <a:ahLst/>
              <a:rect l="l" t="t" r="r" b="b"/>
              <a:pathLst>
                <a:path w="996" h="431">
                  <a:moveTo>
                    <a:pt x="996" y="0"/>
                  </a:moveTo>
                  <a:lnTo>
                    <a:pt x="0" y="0"/>
                  </a:lnTo>
                  <a:lnTo>
                    <a:pt x="0" y="43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127240" y="3046320"/>
              <a:ext cx="104760" cy="103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4603680" y="1676520"/>
            <a:ext cx="966960" cy="461880"/>
            <a:chOff x="4603680" y="1676520"/>
            <a:chExt cx="966960" cy="461880"/>
          </a:xfrm>
        </p:grpSpPr>
        <p:sp>
          <p:nvSpPr>
            <p:cNvPr id="504" name=""/>
            <p:cNvSpPr/>
            <p:nvPr/>
          </p:nvSpPr>
          <p:spPr>
            <a:xfrm>
              <a:off x="4603680" y="1727280"/>
              <a:ext cx="914400" cy="411120"/>
            </a:xfrm>
            <a:custGeom>
              <a:avLst/>
              <a:gdLst/>
              <a:ahLst/>
              <a:rect l="l" t="t" r="r" b="b"/>
              <a:pathLst>
                <a:path w="576" h="259">
                  <a:moveTo>
                    <a:pt x="0" y="259"/>
                  </a:moveTo>
                  <a:lnTo>
                    <a:pt x="0" y="0"/>
                  </a:lnTo>
                  <a:lnTo>
                    <a:pt x="576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465880" y="1676520"/>
              <a:ext cx="104760" cy="1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4603680" y="2685960"/>
            <a:ext cx="966960" cy="600120"/>
            <a:chOff x="4603680" y="2685960"/>
            <a:chExt cx="966960" cy="600120"/>
          </a:xfrm>
        </p:grpSpPr>
        <p:sp>
          <p:nvSpPr>
            <p:cNvPr id="507" name=""/>
            <p:cNvSpPr/>
            <p:nvPr/>
          </p:nvSpPr>
          <p:spPr>
            <a:xfrm>
              <a:off x="4603680" y="2685960"/>
              <a:ext cx="914400" cy="549360"/>
            </a:xfrm>
            <a:custGeom>
              <a:avLst/>
              <a:gdLst/>
              <a:ahLst/>
              <a:rect l="l" t="t" r="r" b="b"/>
              <a:pathLst>
                <a:path w="576" h="346">
                  <a:moveTo>
                    <a:pt x="0" y="0"/>
                  </a:moveTo>
                  <a:lnTo>
                    <a:pt x="0" y="346"/>
                  </a:lnTo>
                  <a:lnTo>
                    <a:pt x="576" y="346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465880" y="3182760"/>
              <a:ext cx="104760" cy="103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3691080" y="2755800"/>
            <a:ext cx="20905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806280" y="2806560"/>
            <a:ext cx="194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ssociated_models S[0:?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479760" y="5632560"/>
            <a:ext cx="21081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699000" y="5683320"/>
            <a:ext cx="1861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 application sch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127240" y="2120760"/>
            <a:ext cx="12826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245680" y="2173320"/>
            <a:ext cx="1132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native_schem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50880" y="820800"/>
            <a:ext cx="1071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69320" y="871560"/>
            <a:ext cx="90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simplified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3676-C790-43E6-ADB6-950D96CDEB1D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ass SdaiException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s java.lang.Exce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own by every SDAI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ing of error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ErrorId(): IDs defined for every case, e.g: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** Repository is not open */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int RP_NOPN = xx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ErrorDescription() - some explan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ErrorBase() - the object causing this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UnderlyingError(), e.g. file I/O or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A73D-410C-4B0B-AD43-F1298D202EE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ass SdaiException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 usage: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y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... some J-SDAI oper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...  "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} catch (SdaiException e)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 e.printStackTrace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int id = e.getErrorId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String desc = e.getErrorDescription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Object base = e.getErrorBase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ception exc = e.getUnderlyingError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A4B0-D256-4055-96D2-6ED97E9F9F0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ass SdaiS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ginning and ending an SDAI application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daiSession session =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daiSession.openSession()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...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ssion.closeSession()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closing the session object becomes invalid.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one SdaiSession object at a time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daiSession session =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daiSession.getSession()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5840" y="15840"/>
            <a:ext cx="1828800" cy="16812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tha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Session() is a static method but closeSession() no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D322-CAA7-4799-916C-B0FE2377C13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Session - Excep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S_NAVL: Session not availabl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mplementation cannot open a s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S_NOPN: Session is not op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 to an SDAI object is possible only when the session is o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S_OPN : Session op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ttempt was made to open a session while a session was still o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98C9-D131-4B32-9712-EA7AEE20E1A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Session - LogWri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write out warnings, debug messages, measure times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atic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va.io.PrintWriter getLogWriter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atic voi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tLogWriter(java.io.PrintWriter out);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the logWriter from an application: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.println("My test messag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FE69-3D05-4881-9C2B-F142480C201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ass SdaiImplem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s about the name, version and features of the SDAI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 through SdaiSession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mplementation imp =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ssion.getImplementation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 most information of th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col Implementation Conformance Statement (PIC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81C4-4139-4BC6-AEF9-AD316C0E018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Implementation (SdaiTerm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1349280"/>
            <a:ext cx="92203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C:\LKSoft\current&gt;java jsdai.util.Sdai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: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: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---------- Implementation -----------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name: J-SDAI MULTI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evel: Version 2.0 (Build 200, 2000-01-2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dai_version: { iso standard 10303 part(22) version(0)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binding_version: { iso standard 10303 part(27) version(0) 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   implementation_class: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transaction_level: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expression_level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domain_equivalence_level: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: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4F1C-8CD1-4537-B001-950328DC99A2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95280" y="152280"/>
            <a:ext cx="578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Jav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echnology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838080"/>
            <a:ext cx="89154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2 Platform, Standard Edition, actual Version 1.2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Programming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Virtual Machine, Platform in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2 Platform 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ng (Windows AP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Beans (reusable software compone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2D 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DBC, Database API for 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, Remote Method Invocation, CORBA/ I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3D, JINI, Enterprise Java Beans (EJB)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C5DB-A81F-403E-9933-1D36A0EAE982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vels of Transa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 1 : No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 2 : SDAI-Model based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vel 3 : full transaction (J-SDA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6740-F9CE-49E9-9D5F-C272364CE66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vels of Expression Evalu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 1 : No e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 2 : Simple evaluation (J-SDA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 3 : Complex E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 4 : Complete E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F286-2DCA-454A-B7EF-1EE6A97969A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vel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main equivalence sup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 1 : No domain equiva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 2 : Domain equivalenc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E2F4-AB5D-471B-8C96-547EB11D449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vels not relevant for th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ava bindings to the SDA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 of session event recording support -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d by the Java Exception mecha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 of SCOPE suppor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recated in implementation method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DAI, part2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635F-B2AE-4822-8468-75812B53D54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mplementation Limits -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: What is the basis for setting the time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 The Java system time which is based on the underlying host, see cla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.lang.System.currentTimeMilli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: What is the maximum number of repositories that may exist within an SDAI session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 No 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: What is the maximum number of SDAI-models that may exist within a repository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 No 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8D6E-1C29-4D7D-BA3A-06BF58EA9E7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mplementation Limits -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maximum length of EXPRESS STRING that is supported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 64K due to Java seri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: What is the maximum length of EXPRESS BINARY that is supported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 No 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: What is the limit of EXPRESS REAL precision that is supported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1: The Java type double has about 14 decimal digits precision, see IEEE 754-1985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2: Arbitrary precision by java.util.BigDecimal. Not implemented in current version (late binding onl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657E-362C-4899-B967-3CC6ED84ECE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mplementation Limits -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: What is the maximum number of elements that may appear in a variable sized aggregate instance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 No 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: What is the maximum number of index positions that may appear in an array instance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 No 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: If domain equivalence is supported, what method for declaring it in the data dictionary is supported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 Direct usage of EXPRESS short for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E1D0-339B-411D-90C8-93D9DE3BDEB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Session ~&gt; SdaiTransa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either ReadOnly or ReadWrite Transaction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daiTransaction t = sessio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artTransactionReadOnlyAccess()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daiTransaction t = sessio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artTransactionReadWriteAccess(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one transaction at a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ing the active transaction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 (session.testActiveTransaction())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 = session.getActiveTransaction()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332F-4B01-4B08-9B37-4BB4E271EA2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Transaction - oper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ing the actual state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witch(t.getMode())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ase SdaiTransaction.NO_ACCESS: ..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ase SdaiTransaction.READ_ONLY: ..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ase SdaiTransaction.READ_WRITE: ...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rting the transaction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.abort()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.endTransactionAccessAbor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itting the transaction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.commit()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.endTransactionAccessCommi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918B-1DC3-4637-97DD-91D953F4680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Transaction - Pending chan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ing if a modification is pending 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the whole SdaiSession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 (session.isModified()) { ...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single SdaiRepository and all its model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 (repo.isModified()) { ...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single SdaiModel only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 (model.isModified()) { ...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5A62-05AC-47E2-8D77-5FDFA203929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EP and associated Standa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 10303-1x, 2x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 10303-4x, 1xx, 5xx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STEP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 10303-2xx, 3xx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 Protocols (AP) and Tests (A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 13584, PLIB (Parts Libra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 15926, OIL &amp;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 15531, MAN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 14649, NC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1D44-8F61-43CF-BBCA-C42464E1571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Transaction -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8600" y="1447920"/>
            <a:ext cx="89154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daiSession s = SdaiSession.openSession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daiTransaction t = s.startTransactionReadOnlyAccess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... read som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...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modify/create data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.isModified(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.commit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.abor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... re-read the previ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.endTransactionAccessAbor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ssion.closeSession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5656-3557-4D7F-910E-D5179BB2647C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Transaction - Excep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_EXS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 ex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_NEXS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 does not ex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_NRW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 not read-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_EAB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 ended abnorm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_NAVL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 currently not 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CF2F-469B-4D1C-B09A-DB7FEDE984C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Session ~&gt; SdaiReposit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ing repositories from SdaiSession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daiRepository ar = s.getKnownServers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daiRepository ar = s.getActiveServers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daiRepository r = ar.getByIndex(5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pository is either open (active) or close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!r.isActive())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.openRepository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r.isActive())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.closeRepository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CCB7-B72A-40D9-AC03-12261A8B7FE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2895480" y="4191120"/>
            <a:ext cx="21337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895480" y="2971800"/>
            <a:ext cx="2133720" cy="8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895480" y="5410080"/>
            <a:ext cx="21337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200760" y="32004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506040" y="4419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970000" y="5562720"/>
            <a:ext cx="20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y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895480" y="762120"/>
            <a:ext cx="21337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430080" y="9907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3960720" y="5029200"/>
            <a:ext cx="0" cy="3808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3962520" y="3809520"/>
            <a:ext cx="0" cy="3812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62520" y="1600200"/>
            <a:ext cx="0" cy="13716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90360" y="1793880"/>
            <a:ext cx="202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n_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[1:*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934320" y="2895480"/>
            <a:ext cx="1523880" cy="7621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934320" y="3276720"/>
            <a:ext cx="0" cy="1447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458200" y="3276720"/>
            <a:ext cx="0" cy="1447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934320" y="4343400"/>
            <a:ext cx="1523880" cy="7621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010280" y="4267080"/>
            <a:ext cx="1371600" cy="5335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257800" y="3505320"/>
            <a:ext cx="1523880" cy="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009920" y="3962520"/>
            <a:ext cx="13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is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98440" y="76320"/>
            <a:ext cx="847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sic SDAI Structure without Network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706800" y="609480"/>
            <a:ext cx="19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O 10303-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24CA-9665-4E31-8AB4-4DA0D67F00AF}" type="slidenum">
              <a:t>5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457200" y="4191120"/>
            <a:ext cx="21337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57200" y="2971800"/>
            <a:ext cx="2133720" cy="8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57200" y="5410080"/>
            <a:ext cx="21337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62120" y="32004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067400" y="4419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31360" y="5562720"/>
            <a:ext cx="20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y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57200" y="762120"/>
            <a:ext cx="21337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93280" y="91440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S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1522440" y="5029200"/>
            <a:ext cx="0" cy="3808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1523880" y="3809520"/>
            <a:ext cx="0" cy="3812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523880" y="1600200"/>
            <a:ext cx="0" cy="13716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601280" y="2057400"/>
            <a:ext cx="202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n_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[1:*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391520" y="2895480"/>
            <a:ext cx="1523880" cy="7621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391520" y="3276720"/>
            <a:ext cx="1440" cy="1447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915400" y="3276720"/>
            <a:ext cx="1440" cy="1447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391520" y="4343400"/>
            <a:ext cx="1523880" cy="7621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467480" y="4267080"/>
            <a:ext cx="1371600" cy="5335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705720" y="3505320"/>
            <a:ext cx="609480" cy="144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467120" y="3962520"/>
            <a:ext cx="13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is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41600" y="95400"/>
            <a:ext cx="685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tended SDAI with Network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495680" y="4191120"/>
            <a:ext cx="21337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495680" y="2971800"/>
            <a:ext cx="2133720" cy="8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495680" y="5410080"/>
            <a:ext cx="21337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800960" y="32004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106240" y="4419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570200" y="5562720"/>
            <a:ext cx="20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y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495680" y="762120"/>
            <a:ext cx="21337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572360" y="99072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 S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5560920" y="5029200"/>
            <a:ext cx="0" cy="3808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5562720" y="3809520"/>
            <a:ext cx="0" cy="3812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562720" y="1600200"/>
            <a:ext cx="0" cy="13716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665440" y="1143000"/>
            <a:ext cx="1828800" cy="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895120" y="121932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 flipV="1">
            <a:off x="4114800" y="761760"/>
            <a:ext cx="380880" cy="22860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4191120" y="1371600"/>
            <a:ext cx="304560" cy="22860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 flipV="1">
            <a:off x="3657600" y="837720"/>
            <a:ext cx="838080" cy="22860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4191120" y="1219320"/>
            <a:ext cx="304560" cy="22860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2590920" y="762120"/>
            <a:ext cx="761760" cy="30456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2590920" y="761760"/>
            <a:ext cx="380880" cy="15228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590920" y="1295280"/>
            <a:ext cx="228600" cy="15264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590920" y="3429000"/>
            <a:ext cx="1904760" cy="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6A57-B844-41C4-B44B-D9B7555E5119}" type="slidenum">
              <a:t>5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/>
          </p:nvPr>
        </p:nvSpPr>
        <p:spPr>
          <a:xfrm>
            <a:off x="304560" y="533520"/>
            <a:ext cx="88390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establish (firewall, ...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bi-directional Java streams, based on TCP/IP 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itable for SDAI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ferring all entity instances take too l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ferring single entity instances on request is too slow (100ms delay each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&gt; transferring a whole SDAI model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t loading proc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optimized arrangement, not like part21 or Java serializ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compact (not compressed) binary en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references between entity in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in the sam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in the same Repository but different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in different Reposi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references between entity instances with differ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EXPRESS sche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523880" y="0"/>
            <a:ext cx="620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quirements for the Network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B21C-8392-470C-B724-8301A2B563BE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601560" y="914400"/>
            <a:ext cx="7523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SDAI standard the known repositories are static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cannot change while a Session is op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extended SDAI repositories become dynamic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is new operations are introduc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reate Re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elete Reposito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Link Re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Unlink Re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ddition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positories got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tribut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SDAI operations it may happen that a Repository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known”, but not its location. So it can’t be open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85800" y="763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ynamic SdaiRepository 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68B6-E905-4E17-9F9F-6DC2D0DBCCC0}" type="slidenum">
              <a:t>5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ynamic SdaiRepository 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 name and location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name = r.getName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location = r.getLocation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ing remote/external repositor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icit and implicit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 = s.linkRepository("name","location"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.unlinkRepository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nd Delete repositori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 = s.createRepository("name","location"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 = s.importClearTextEncoding("name"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source_location","destination_location"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.deleteRepository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8C46-FA6E-410B-A29C-96E902E22E3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ynamic SdaiRepository  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228600" y="1243080"/>
          <a:ext cx="8686800" cy="43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43080"/>
                    <a:ext cx="8686800" cy="43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56BB-4A6E-4B49-858A-0B29BF1853A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/>
          </p:nvPr>
        </p:nvSpPr>
        <p:spPr>
          <a:xfrm>
            <a:off x="0" y="5331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 into a temporarily local repository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ClearTextEncoding("", "source-path", nul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the repo-name from the part21 FILE_NAM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ClearTextEncoding(null, "source-path", nul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y name and location (external and remote):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Repository("MyRepo", "c:\myrepos") createRepository("MyRepo", "//guest:passwd@192.123.22.11:1050"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Repository("MyRepo", "//user:passwd@server.lksoft.de"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king with global unique repository na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ository is a part of a domain: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Repository("//server.lksoft.de/MyRepo", user:passw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utur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Repository("//testrep.server.lksoft.de", user:passw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0920" y="30240"/>
            <a:ext cx="70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king with simple repository na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5203-0AC4-4E7D-8A52-5B8FF6A5612C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 Stand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RESS(-1): ISO 10303-11:199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RESS-G    Graphical re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RESS-TC1/2 Technical Corrigend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RESS-Amend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RESS-X Maps and Views of Entit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RESS-2 (behaviour, active processing of data due to even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9BCB-834B-4C4C-B03D-2CD31E5997E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ch remote repositories are available on a remote loca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_string as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remoteRepositories("//user:passwd@server.lksoft.d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(int i = 0; i &lt; as.getMemberCount(); i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.out.println(as.getByIndex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E6E5-3740-4EF3-B83A-FB543EB77B5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Repository - Excep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_OPN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sitory o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_NOPN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sitory is not o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_DUP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sitory dupl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_LOCK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sitory locked by another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_NAVL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sitory currently not 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_NEXS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sitory does not ex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_RO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sitory is read-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C_NVLD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 inval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03BF-DBF4-4E52-B320-BD26D57F8CC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Repository ~&gt; SchemaInst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pository stores SchemaInstances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chemaInstance asi = r.getSchemas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hemaInstance si = asi.getByIndex(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chemaInstance is stored within a repositor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daiRepository r = si.getRepository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ion and deletion of SchemaInstances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Schema_definition sd = ...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 = r.createSchemaInstance("name", sd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 = r.createSchemaInstan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"name", SAutomotive_design.class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.delet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242E-E5BC-42B4-840A-3202AD2A241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ass SchemaInstance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ame is unique within the repository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name = si.getName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.rename("NewSchemaInstanceNam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maInstance is based on a schema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Schema_definition sd = si.getNativeSchema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schema = si.getNativeSchemaString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1F43-FFC7-410A-8535-4CBFCB8B5C0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ass SchemaInstance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id population defined by collection of model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daiModel am = si.getAssociatedModels(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ed models may be in the same or in different repositorie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.addSdaiModel(model1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.removeSdaiModel(model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ed models may be based on the same or on different schemas, but domain_equivalent sche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01E5-5237-4094-83C2-CB0AC401004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hemaInstance - Vali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991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queness Valid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validateUniquenessRule(EUniqueness_rule rule, AEntity err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validateUniquenessRule(String rule, AEntity er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rule Validation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validateGlobalRule(EGlobal_rule rule, AEntity err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validateGlobalRule(String rule, AEntity er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idate Reference Domai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validateInstanceReferenceDomain(AEntity er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Validation, updates validation inf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validateSchemaInstanc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BF5C-23FF-4AED-805A-8EA5DC39906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hemaInstance - In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idation Information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by validateSchemaInstance()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date = si.getValidationDate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level = si.getValidationLevel();//0-7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 result = si.getValidationResult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 actual = si.isValidationCurre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Information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si.testChangeDate())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date = si.getChangeDate()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3C54-3E1C-486B-B4A4-90E23C095F4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ctionary SchemaInstance with all dictionary model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s.testDataDictionary())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hemaInstance si 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.getDataDictionary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ping SchemaInstance with all dictionary and mapping models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s.testDataMapping())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hemaInstance si = s.getDataMapping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049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-Defined SchemaInsta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B697-697E-4223-AF94-709D763890A4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hemaInstance - Excep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_DUP 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ma instance dupl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 must be unique within SdaiReposi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_NEXS 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ma instance does not exis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SI deleted or repository clo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_LOCK 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ma instance lock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 application is going to modify the SI on a remote reposi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D06B-FC3E-454C-BB43-8EA67CE5EAC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9" name=""/>
          <p:cNvGraphicFramePr/>
          <p:nvPr/>
        </p:nvGraphicFramePr>
        <p:xfrm>
          <a:off x="0" y="457200"/>
          <a:ext cx="9144000" cy="621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9144000" cy="621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ED98-31EE-4A7D-885D-140888D2634D}" type="slidenum">
              <a:t>6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PR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modeling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define the data models of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M: Application Integrated mode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common integra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M: Application referenc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8153-7FF9-4296-BB26-0665F394B62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Repository ~&gt; Sdai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daiModels are stored in repositories: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daiModel am = r.getModels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daiModel m = am.getByIndex(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SdaiModel is stored within a repositor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daiRepository r = m.getRepository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ion and deletion of SdaiModels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Schema_definition sd = ...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r.createSdaiModel("name", sd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r. createSdaiMod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"name", SConfig_control_design.class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renameSdaiModel("newName"); // critical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deleteSdaiModel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2087-A096-4C20-AED2-83389F571F8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Model - Excep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_DUP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DAI-model dupl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_NEXS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DAI-model does not ex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_NVLD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DAI-model inval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_NDEQ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DAI-model not domain equival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_LOCK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locked by another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11CA-6523-4930-9DC5-51123456494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Model - Header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der information is always accessible from a model, no matter if RW, RO access is started or not.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name = m.getName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daiRepository r = m.getRepository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Schema_definition schema 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getUnderlyingSchema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Schema_definition schema 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getDefinedSchema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chemaInstance as = m.getAssociatedWith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m.testChangeDate())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date = m.getChangeDate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ng date = m.getChangeDateLong()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m.isModified()) {...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6DBC-EEA7-411A-A27E-D4C57FA77D9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Model - Header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ttribu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added to fully support the part21 Amend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lang = m.getDefaultLanguage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etDefaultLanguage("ger", tru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string as = m.getContextIdentifiers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putContextIdentifiers(A_string valu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 all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329B-4615-4931-914B-B72F8A4207A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Model - Access Mo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533160"/>
            <a:ext cx="8305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of access mod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itch(m.getMode())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 SdaiModel.NO_ACCESS: 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 SdaiModel.READ_ONLY: 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 SdaiModel.READ_WRITE: ...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either RO or RW acces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tartReadOnlyAccess( 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tartReadWriteAccess(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 access mode between RO and RW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promoteSdaiModelToRW( 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reduceSdaiModelToRO( )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/ transaction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 access mode, take care of transaction !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endReadOnlyAccess( 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endReadWriteAccess( )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/ transaction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daiModel am = s. getActiveModels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3D55-A761-4C08-A9D8-04E2D2EDF3A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Model - Access Mode Excep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X_NDEF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DAI-model access not def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X_NRW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DAI-model access not read-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X_RO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DAI-model access read-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X_RW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DAI-model access read-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90FD-3A93-436B-BA06-0D03318C4CF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Model - Contents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ing all instances of all types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count = m.getInstanceCount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Entity ae = m.getInstances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ing all instances of a given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ntity data typ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including subtyp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y binding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count = m.getInstanceCount(EXxx.class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Xxx ax = (AXxx) m.getInstances(EXxx.clas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 binding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Entity_definition ed = ...; // xx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count = m.getInstanceCount(ed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Xxx ax = (AXxx) m.getInstances(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AE55-D26F-4831-B0B5-98EF470004F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Model - Contents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ing all instances of a given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lex entity data ty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no subtyp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y binding: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count 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getExactInstanceCount(CXxx.class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Xxx ax 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AXxx) m.getExactInstances(CXxx.clas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 Binding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Entity_definition ed = ...; // xx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count = m.getExactInstanceCount(ed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Xxx ax = (AXxx) m.getExactInstances(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C24F-5511-45FB-925C-DAD2AA8D278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Model -&gt; EntityExt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75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ityExtent helps to access entity instances of a given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tity Data 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Only auxiliary purpo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ither get all or only the non-empty EntityExt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EntityExtent  aee = m.getFolders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EntityExtent  aee = m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PopulatedFolders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tityExtent ee = aee.getByIndex(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ributes: definition, owner and instance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Entity_definition ed = ee.getDefinition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name = ee.getDefinitionString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daiModel m = ee.getOwnedBy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Entity ae = ee.getInstances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Xxx ae = (AXxx) ee.getInstances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0C14-BF4D-4607-8292-16DD0CB4C51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Model ~&gt; Entity Instances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ntity Instance exist only within an owning Sdai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 binding creation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Entity_definition ed 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getEntityDefinition("product"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Entity p1 = m.createEntityInstance(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y binding creation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Product p1  = (EProduc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createEntityInstance(CProduct.clas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wning model is always availabl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el m1 = p1.findEntityInstanceSdaiModel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 also removes all references from active model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1.deleteApplicationInstanc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E01E-5CF0-40E0-9E94-64C0B44657F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PRESS Data Typ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itive data type: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ER, REAL (NUMBER), STRING, BINARY, BOOLEAN, LOGI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ity data type and complex entity data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ed data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umeration data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data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d data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gregate data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s constraints (expressions, functions, procedures, ru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7F52-B6ED-419D-99CF-341C130BF47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Model ~&gt; Entity Instances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 copy of an entity instance within the same or another model. All references remain on the original instance only.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Entity p1 = m.copyApplicationInstance(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ing an instance to another model and/or chang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ype (late and early)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in the same repo the persistent name is preserved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s from active models are maintained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Entity pNew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m.substituteInstance(pOld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m.substituteInstance(pOld, ed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m.substituteInstance(pOld, CXxx.clas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6EEA-C6CD-447D-A02B-727C2ECA3F4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main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valid valid population of entity instances is defined by a SchemaInstance and its associated Sdai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operations need to know the domain where to search/access related instances. Depending on the application the domain may be defined for several SchemaInstances or only part of it. Within J-SDAI the domain is defined as an aggregate of SdaiModel (ASdaiModel).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 inverse attribu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sedin (late and early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ndEntityInstanceUsed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ndEntityInstanceUs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ndInstanceRol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l mapping operation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8602-3896-45CC-BBCC-76E0ADECA84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/>
          </p:nvPr>
        </p:nvSpPr>
        <p:spPr>
          <a:xfrm>
            <a:off x="68544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 non-persistent Aggregate and add the desired SdaiModel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daiModel domain = new ASdaiModel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main.addByIndex(model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the domain from a single SchemaInstanc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hemaInstance si = ...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main = si.getAssociatedModels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the common domain of several SchemaInstances (set)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chemaInstance asi = ...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main = asi.getAssociatedModels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main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12BA-5EC1-435B-B2EA-5F613F53057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ttribute Ac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s to access the attributes of entity instance, available in late binding and in early 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 attribu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e attribute have a value or is it unset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t is set what is the type - important for select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 attribu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rieves the actual value, either simple, entity instance or aggreg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 attribu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for simple and entity instance values. Not for aggre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re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for attributes of aggregation type. The aggregates are create in place and cannot be assig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set attribu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 test attribute to return unset. This is also if aggregate. You can't use set attribute for unset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FCA4-DD0C-41CF-B818-3A6FEB8AF1D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ading Attribute Value (lat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ing and accessing attribute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Defined_type[] select = ...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Attribute attr = ...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iType = p.testAttribute(attr, select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itch (iType)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 0:   ... // unse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 1: Object o = p.get_object(attr); ...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 2:    int i = p.get_int(attr);..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 3: double r = p.get_double(attr);...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inverse attributes the domain where to search must be given.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omain is local SdaiModel only.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Inverse_attribute ia = ... 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daiModel domain = ... 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Entity inverses = get_inverse(ia, domai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4FB1-5FAF-413F-8F3E-186B998A55F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riting Explicit Attribute Values (lat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ed methods for double, int, Object,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.set(attr1, 5.7, select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.set(attr2, 123, select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.set(attr3, "xxx", select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.set(attr4, entity, selec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gregates ca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set, they are only created in place. Only one usage of aggregates!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ggregate a 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.createAggregate(attr5, selec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explicit (mandatory) attribute can be unset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.unsetAttributeValue(attr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ed and inverse attributes are read-only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explicit attributes redeclared as deri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606A-497C-4EE1-8FF4-E1F19F9B876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ttribtute name is part of the access method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rst parameter specifies the type of the Java Interface; this allows to solve name conflicts, alway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ull + cas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e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t/cre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s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sed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erface EAlpha extends EEntity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 testA1(EAlpha type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Kappa getA1(EAlpha type)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oid setA1(EAlpha type, EKappa value)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oid unsetA1(EAlpha type); ...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CAlpha implements EAlpha { 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int usedinA1(EAlpha type, EKappa p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daiModel domain, AEntity result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EAttribute attributeA1(EAlpha type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erface ESigma extends EEntity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Iota createS0(ESigma type); ...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arly Binding Attribute Access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6B93-4CE2-43D0-862A-D319817033A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380520" y="1066680"/>
            <a:ext cx="8610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ase that the attribute is of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lect 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dditional parameters are added to distinguish overloaded methods for different value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pproach is similar to the part21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lect cases are numbered.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e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returns the actual type (0-unset, 1-entity, 2, 3..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parameter for simple entity types (== 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fined Data 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is type is added  (select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parameter for nested selecting of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fined Data Typ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select2, select3 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ed method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t/cre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arly Binding Attribute Access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63D4-FC06-44F8-ADA5-1770ECDA52E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/>
          </p:nvPr>
        </p:nvSpPr>
        <p:spPr>
          <a:xfrm>
            <a:off x="380520" y="8377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interface EEpsilon extends EEntity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constants and methods for SELECT attribute: e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sE1Phi = 2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sE1Psi = 3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sE1Chi = 4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sE1Tau = 5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sE1Xi = 6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sE1Pie = 7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testE1(EEpsilon type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Entity getE1(EEpsilon type) ; // case 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Entity getE1(EEpsilon type, EPhi node1); // case 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Entity getE1(EEpsilon type, EPsi node1); // case 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_double getE1(EEpsilon type, EChi node1); // case 4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getE1(EEpsilon type, ETau node1); // case 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getE1(EEpsilon type, EXi node1); // case 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getE1(EEpsilon type, EPie node1); // case 7  ...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arly Binding Attribute Access 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B461-86E3-4A0C-8818-9B0C884383A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verse Entity Instance Oper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ing the EAttribute definition (dictionary)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Attribute ea 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.getAttributeDefinition("attr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 dependent Bound of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, INTEGER, or BINARY valu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bound = p.getAttributeValueBound(ea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nce comparison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p1 == p2) {..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comparison as defined in EXPRESS (logical)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i = p1.compareValues(p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at value comparison (non-recursive, shallow)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p1.compareValuesBoolean(p2)) {..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AAEF-5C12-4322-874D-C4E3F5B7859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PRESS-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B804-3F95-4A23-B2F6-8E99105003BD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stance Identifiers / Persistent Lab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entity instance has an unchangeable persistent label which is assigned during its creation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label = p.getPersistentLabel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-SDAI use part21 type instance identifiers for thi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#" + positive 63 bit number, e.g. "#1234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-SDAI ensures that a persistent label is used only once within a reposi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ing an entity instance within a repository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Entity p = r.getSessionIdentifier("#123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string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descr = p.getDescription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part21Line = p.toString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FA7D-3629-431F-811E-12B4F45D6BE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tity Type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an entity instance contain a Entity Data Type?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Entity_definition ed = ...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p.isKindOf(ed)) {...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p instanceof ECartesian_point.class){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n entity instance exactly of a particular type?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p.isInstanceOf(ed)) {...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p.getClass()== CCartesian_point.class){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ing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lex Entity Data Typ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Entity_definition ed = p.getInstanceType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 c = p.getClass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named_tpes, like EXPRESS TypeOf oper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amed_type result = ...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.findInstanceDataTypes(resul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E7E7-B3E4-4CB3-AE34-39FCD622932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tity Type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7631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ntity instances of the dictionary typ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Entity_definition p1, p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ing if one is a subtype of the other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p1.isSubtypeOf(p2)) {..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entities from different schema equivalent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p1.isDomainEquivalentWith(p2) {...}</a:t>
            </a: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upported by SDAI because short-form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on of new Complex Entity Data Typ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Schema_definition sd = ...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Entity_definition aed = ...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Entity_definition ed 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s.getComplexEntityDefinition(aed,sd);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 ac[] = { EBbb.class, ECcc.class }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 c = s.getComplexEntityDefinition(a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DF1D-F84E-493A-9978-20C059AACC3E}" type="slidenum">
              <a:t>9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lating Entity Instances with App.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le a model is active, it's entity instances can be associated with application specific data of any k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pplication is responsible for the data, not J-SDAI. The association is lost when access ends.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 o = ... ; // from Appli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.setTemp(o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 o = p.getTemp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mon place to exchange entity instanc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Entity ai = s. getClipboard()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 can clear, add, remove inst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BE12-279C-4976-AD1B-FDDBB90D6514}" type="slidenum">
              <a:t>9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lated insta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76320" y="1371240"/>
            <a:ext cx="9067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ll referencing instances within a domain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daiModel domain = ...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Entity users = new AEntity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.findEntityInstanceUsers(domain, user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ll referencing instances of a particular role within a domain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Attribute role = ...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.findEntityInstanceUsedin(role,domain,user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ll roles by which this instance is referenced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Attribute result = ...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.findInstanceRoles(domain, resul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71E2-B903-4A2E-86A7-53CCED9B37CD}" type="slidenum">
              <a:t>9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tity Instance Vali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idation of the attributes and rules of a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eWhereRule(EWhere_rule r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eRequiredExplicitAttributesAssigned(AAttribute nonCon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eExplicitAttributesReferences(AAttribute nonCon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eInverseAttributes(AAttribute nonCon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eAggregatesSize(AAttribute nonCon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eAggregatesUniqueness(AAttribute nonCon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eArrayNotOptional(AAttribute nonCon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eStringWidth(AAttribute nonCon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eRealPrecision(AAttribute nonCon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eBinaryWidth(AAttribute nonCon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F4EE-F25A-4F94-8645-145061E28B1E}" type="slidenum">
              <a:t>9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ggregate Interface and Clas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fits all: SET, BAG, LIST or 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implemented by all aggregate classes except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daiReposito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chemaInstan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daiMod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EntityEx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 (A) and nested Aggregates (Aa...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alized aggregates for primitive type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binary, Aa_binary, Aaa_binary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boolean, Aa_boolean, Aaa_boolea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double, Aa_double, Aaa_dou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enumeration, Aa_enumeration, Aaa_enumer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integer, Aa_integer, Aaa_integer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string, Aa_string, Aaa_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3052-AC09-4393-AC10-ACE2C2B6604A}" type="slidenum">
              <a:t>9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arly Binding Aggregate clas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tity Data Typ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XX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xx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as needed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xx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xx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lect Data Typ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s needed) S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extreme cases also nested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ing members of different type by overloaded methods, similar to part21 encod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ee select for early binding attribute acc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3036-8051-4510-8A63-6CB310DD4DA4}" type="slidenum">
              <a:t>9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erating and indexing Aggreg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mbers of an aggregate can be accessed either by an iterator or by inde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 and RW access with SdaiIterator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daiIterator iter = agg.createIterator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lue = agg.getCurrentMember(it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 access by index for all types, RW only for LIST and ARRAY.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lue = agg.getByIndex(5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71E8-1D0F-4338-AF19-E77008D00CA0}" type="slidenum">
              <a:t>9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ggregate cre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ity instance attribute (late and early)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ggregate a =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.createAggregate(attr5, select)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Xxx = p.createAttrib1(nul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Aggregates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ggregateAsCurrentMemb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ggregateAft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ggregateBefo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ggregateByIndex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AggregateByIndex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ggregateUnor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aggregate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n Persistent Lis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Xxx ax = new AXxx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daiModel am = new ASdaiMod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E636-235B-4958-ABC2-06F0E04BE645}" type="slidenum">
              <a:t>9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3T18:39:59Z</dcterms:created>
  <dc:creator>Lothar</dc:creator>
  <dc:description/>
  <dc:language>en-US</dc:language>
  <cp:lastModifiedBy>Lothar</cp:lastModifiedBy>
  <cp:lastPrinted>2000-01-21T19:33:35Z</cp:lastPrinted>
  <dcterms:modified xsi:type="dcterms:W3CDTF">2000-01-29T12:11:43Z</dcterms:modified>
  <cp:revision>80</cp:revision>
  <dc:subject/>
  <dc:title>J-SDAI the Synergy of STEP and JavaTM technology</dc:title>
</cp:coreProperties>
</file>